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002-EA56-437C-A1B9-4C084887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308-4B9F-4293-8C28-3E6AEF0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E9E08-A52B-4B3E-8C62-84CC2A53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14574-4969-4C72-9B7B-46C26F9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3BC15-3242-46DA-8EB0-34AD3204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9A30F-2F15-46DA-8300-6DC3DCB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4A263-C291-40C1-AE0F-AFDF7EE9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CB642-6691-4567-A7D4-1961D190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0C0CF-2A7C-4E5A-B5DE-4D65E61A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969AE-91B1-4384-8550-D16CFBDE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99B0F-6A7A-4653-BE70-980CF93F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2B2AF-72D5-4C96-8016-4926A58A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D4D-2D8F-4AAB-91A4-0908324B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8B315-70A7-44B8-971E-821B29CD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FDF68-6BFC-4F24-8854-6EBF9E1A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AEB51-E5D0-4114-AB3B-A83B6815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B69EF-4A9E-4F24-BD12-2916CC79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32F7C-2C97-482B-B8BF-085D3746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F1BE9-6B83-4701-B309-C83499F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FCD48-5C80-427C-9DDC-BA19F5A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84CC0-0243-4AAF-8036-C53A203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80207-B790-49E5-B0F7-A56F2B0E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8841F-6B80-469D-AE39-B8C60F8A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812-FCC0-4875-A0D5-778075E5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B6A73-C70A-41A3-8F3B-2CAF31A6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D8978-D4B8-47A3-88AC-4EC0E74F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80E75-1A6D-46E3-B178-A9BAD37D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66700-D12A-4F58-AC28-F82B97C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CCF6C-4847-4BCD-B101-3803F471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E26D3-67A2-4102-A282-577E326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BD7C9-1B8B-4E04-A906-7D5A4C6F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E866D-E727-415F-98D8-C546E34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9FC34-F9AE-413D-8083-AE0272D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F2EFD-FD4D-498F-A86F-7AE1C3D2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F8FC-86A3-4336-AC4E-CC06BD3A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A9961-075C-45DC-A578-C795B5BB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0A95A-6D0D-4828-BA4A-8D73CB9A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51FB2-C520-463C-9199-221CD632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8E2B7-4B1D-40E2-B518-D545C4DF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47360-36EE-488E-AE6A-89C3C3AE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6D882-F7F7-4BB1-BB03-8468AE43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FF8DD-7087-4265-89ED-3A721522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68869-E429-45F4-9698-DFBC2BD0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AB305-DD54-4E8A-BA99-D6FFE0C6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373AF-4DD8-46B9-98A6-569B9A16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70BE-68EF-45CD-8957-AFBF84CF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03C8C-1DB2-434F-89F9-77CF151C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75CD6-A9E7-40CE-8DB6-E3EC8BCA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8EBCC-3F36-4216-9E27-A6CBB25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FE90C-6ED7-488A-8678-FA1BA82B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15859-65B5-4586-A794-5BBB98F0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43D9-5D63-421F-8D0F-4338D7CC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8F32-7376-4171-8DAF-29ABD808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5A74-5E08-4B9E-B0DE-F2D6E632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44A8-D77C-456A-A09F-857D8DD1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ACBD-55D8-4F15-BF41-80FD054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3D4-1735-46D3-8FF5-1C0517CD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A4AD-7B08-46D9-90AD-FBD5980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C57F-06A4-4B86-8175-55C4D2F4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32B3-C213-406E-8BBF-33C6433C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F1CE-3675-45C7-BEBC-67F18E33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2CDD-5B80-41E6-B615-42D90612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9ED6-6411-4CBC-BBFD-B4F1D65E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A1CA-01C0-4F63-B18A-F793B707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896A-241F-48A6-B7C1-FE189124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7398-5C5B-4921-8B7E-067F3745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589F-3B2F-4EC3-9CD0-8F3C5A96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D45-A729-474B-BDE7-F4C0E7B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8B8F7-AA87-44FB-8C01-CF3FB9ED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37B8-8D5F-4ADE-AC6F-4F72B55A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B6CA-ECA7-49B3-9F11-55D15F03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3B4E-7E34-4B65-8AF1-25C6A55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FFFA2-982C-46E7-8FAA-E1F6F7EC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F3D2-A4AC-42F7-812C-A23FD9E5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84AE-6F34-4409-8A51-576FDF08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162A-056C-4BAF-91C3-7D6F2B3F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65288-4242-4BF7-90D0-AC293A8E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08F7-2A91-448F-9C48-9474B017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83F-92C0-4478-BB41-6E470A3E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10F5-411B-4DCB-9032-38E9AFC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4033-C623-41DA-BD40-EEAA4AAD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ECAF9-527A-41F5-9E63-56B2B13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51BC-9A1D-4627-8A65-CDF35C2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0EA6-D8B5-4E2E-BDDA-151B3DC8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4AE0-34DE-476A-A740-D2B788EB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1D1F-DF38-4654-BA93-EB8D1BDD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0CD49-8BCE-425B-8BFF-145315B0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1A79-0847-40AC-9298-24F2331B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3E4F0-4700-4E1B-B747-397F170A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DF0-DB9D-4690-B971-0BB3EFDF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ABC2-89E0-4E07-BCA3-AE46AC62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6ACE-8866-483B-8CC1-48A9A588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D6543-EBC7-4096-8358-A0895E08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4B742-6D56-4909-A163-B47D11E2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A015-622C-43A7-B0A2-3F308CB1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28010-BAD0-4C22-A4B8-80BE47C2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C5AD0-4290-44D1-A146-439DD0EC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23737-1C0E-4425-8DF5-40F3A2E3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4A74D-F1FE-4AB4-AA6D-25EC8430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ABE5-A87C-4F2C-9DED-99210019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9C6-5CFE-4C6D-BE09-836EE79B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FEF28-ACA7-4981-B1B5-4A839273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82B92-18EE-41A8-B210-405A170E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2EF25-31BF-455A-9E6E-BDB9189D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06BB1-A4B3-4593-97C2-963B27A1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1A9C2-1CC6-4D76-AD77-8113FFD9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C8701-A968-4473-8B08-DF85BB94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CCDCA-6660-45E1-AC69-C16A63D3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E1550-5755-4FFD-A57B-CF1B9F5C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AB755-8FE0-428A-81E4-14ADD6D6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8D93C-285D-4B65-A6BE-404A4E2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3BE-A687-45C2-9F1D-0C24F0A3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FD854-5CBE-4C7E-9678-723E358E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15E4-1A50-4195-934F-E23A5931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DDF62-5557-49CF-BE17-41974A69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AA4D1-D552-4C2E-900C-1A721ACB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7C57-DEBC-4B37-8225-C550DA38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EE103-C4B4-4F65-8D3E-59FD7A7D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F669C-AFF0-4997-95BF-51BB0F92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19760-4CA7-4CB5-9BC5-21E4DE7F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4BEA-E3F8-47F9-AE4E-4D451214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EF484-04A3-4D02-914F-9EB8F3E5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2EE-DA3E-4F51-B9CD-FAA4AB1E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8B637-A222-4F31-9D16-50817A91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347A5-3563-427D-99B6-8BA5AB35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92BF-7B85-4D70-868E-CC6BA393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C719E-DDE3-49EB-B62C-989ECBC0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52462-AE19-4442-A474-656CA09B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EF774-3784-4433-87DA-593DDFF1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E9CD2-DE5F-4B71-9068-7F07F67B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55751-C766-4D5C-A027-C2221695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1724E-E0B9-4E53-AD5E-D66DA142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BF40F-33DE-4D1D-AAA4-1361C322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BCC-A286-4B36-B108-8B85D585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E76A5-24BA-4159-BDAF-3A2C9E65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9F2F-4499-4BC0-B932-A3FC9306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60151-B5A9-4ADF-A81D-0649FD26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1C3AA-F397-4980-AD72-928E3AF5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E1DE8-BEE6-4054-A8A5-DEA2720C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8DB0D-84D9-402C-8206-3726C6C7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D96A1-1CFA-400D-BA19-534AEA7A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2D09B-2885-4F21-8AFC-13C5FF20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1A8CD-36D5-4C14-864E-501205B8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D95A4-C110-41FE-A9D8-8A16DB6C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C7E5-9B60-4160-B6EB-8551164C3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48AB-7B34-4C5C-9706-460934459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E2C5-862E-4995-A7BD-4155E8473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67C4-6FCE-45D6-980D-69F41DE8A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A361-45F1-4FDE-941E-85A1B5763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85E9-0F16-4374-8F60-6C821981C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BC7B-7EDB-47DC-B52A-0DC47CC14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E9B8-3B1A-4B55-8455-9BA122D99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C9D9-6C4E-4F3D-9986-B9B04299A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364C-F26A-47C3-BEB8-CA10C6D709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6D8E-1C20-471E-8FF4-1CD497770E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75AF-9DB5-49A3-918A-570F3FBF1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  <a:ea typeface="Arial"/>
              </a:rPr>
              <a:t>THE SUM OF LISA AND GINGER’S AGES IS 15.  THE PRODUCT OF THE AGES IS 56.  IF LISA IS THE OLDER GIRL, HOW MUCH OLDER THAN GINGER IS SH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riday, September 4t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Ink 4"/>
          <p:cNvSpPr/>
          <p:nvPr/>
        </p:nvSpPr>
        <p:spPr>
          <a:xfrm>
            <a:off x="1098720" y="4125960"/>
            <a:ext cx="1643040" cy="473040"/>
          </a:xfrm>
          <a:custGeom>
            <a:avLst/>
            <a:gdLst/>
            <a:ahLst/>
            <a:rect l="l" t="t" r="r" b="b"/>
            <a:pathLst>
              <a:path w="4565" h="1315">
                <a:moveTo>
                  <a:pt x="3051" y="11460"/>
                </a:moveTo>
                <a:cubicBezTo>
                  <a:pt x="3082" y="11522"/>
                  <a:pt x="3076" y="11584"/>
                  <a:pt x="3076" y="11658"/>
                </a:cubicBezTo>
                <a:cubicBezTo>
                  <a:pt x="3076" y="11892"/>
                  <a:pt x="3079" y="12128"/>
                  <a:pt x="3051" y="12353"/>
                </a:cubicBezTo>
                <a:cubicBezTo>
                  <a:pt x="3038" y="12456"/>
                  <a:pt x="3051" y="12571"/>
                  <a:pt x="3051" y="12675"/>
                </a:cubicBezTo>
                <a:cubicBezTo>
                  <a:pt x="3141" y="12675"/>
                  <a:pt x="3210" y="12689"/>
                  <a:pt x="3299" y="12700"/>
                </a:cubicBezTo>
                <a:cubicBezTo>
                  <a:pt x="3417" y="12715"/>
                  <a:pt x="3594" y="12704"/>
                  <a:pt x="3671" y="12675"/>
                </a:cubicBezTo>
              </a:path>
              <a:path w="4565" h="1315">
                <a:moveTo>
                  <a:pt x="4142" y="11881"/>
                </a:moveTo>
                <a:cubicBezTo>
                  <a:pt x="4142" y="11960"/>
                  <a:pt x="4121" y="12552"/>
                  <a:pt x="4167" y="12551"/>
                </a:cubicBezTo>
                <a:cubicBezTo>
                  <a:pt x="4167" y="12543"/>
                  <a:pt x="4167" y="12534"/>
                  <a:pt x="4167" y="12526"/>
                </a:cubicBezTo>
              </a:path>
              <a:path w="4565" h="1315">
                <a:moveTo>
                  <a:pt x="3969" y="12080"/>
                </a:moveTo>
                <a:cubicBezTo>
                  <a:pt x="4042" y="12087"/>
                  <a:pt x="4102" y="12117"/>
                  <a:pt x="4167" y="12129"/>
                </a:cubicBezTo>
                <a:cubicBezTo>
                  <a:pt x="4222" y="12139"/>
                  <a:pt x="4285" y="12129"/>
                  <a:pt x="4341" y="12129"/>
                </a:cubicBezTo>
              </a:path>
              <a:path w="4565" h="1315">
                <a:moveTo>
                  <a:pt x="5011" y="11757"/>
                </a:moveTo>
                <a:cubicBezTo>
                  <a:pt x="5063" y="11776"/>
                  <a:pt x="5035" y="11700"/>
                  <a:pt x="5035" y="11633"/>
                </a:cubicBezTo>
                <a:cubicBezTo>
                  <a:pt x="5035" y="11575"/>
                  <a:pt x="5015" y="11560"/>
                  <a:pt x="4986" y="11509"/>
                </a:cubicBezTo>
                <a:cubicBezTo>
                  <a:pt x="4920" y="11575"/>
                  <a:pt x="4864" y="11668"/>
                  <a:pt x="4837" y="11757"/>
                </a:cubicBezTo>
                <a:cubicBezTo>
                  <a:pt x="4814" y="11832"/>
                  <a:pt x="4777" y="11925"/>
                  <a:pt x="4762" y="12005"/>
                </a:cubicBezTo>
                <a:cubicBezTo>
                  <a:pt x="4745" y="12096"/>
                  <a:pt x="4738" y="12185"/>
                  <a:pt x="4738" y="12278"/>
                </a:cubicBezTo>
                <a:cubicBezTo>
                  <a:pt x="4738" y="12341"/>
                  <a:pt x="4751" y="12450"/>
                  <a:pt x="4787" y="12502"/>
                </a:cubicBezTo>
                <a:cubicBezTo>
                  <a:pt x="4817" y="12545"/>
                  <a:pt x="4896" y="12641"/>
                  <a:pt x="4936" y="12675"/>
                </a:cubicBezTo>
                <a:cubicBezTo>
                  <a:pt x="4976" y="12709"/>
                  <a:pt x="5085" y="12714"/>
                  <a:pt x="5135" y="12700"/>
                </a:cubicBezTo>
                <a:cubicBezTo>
                  <a:pt x="5197" y="12683"/>
                  <a:pt x="5232" y="12628"/>
                  <a:pt x="5259" y="12576"/>
                </a:cubicBezTo>
                <a:cubicBezTo>
                  <a:pt x="5292" y="12512"/>
                  <a:pt x="5264" y="12458"/>
                  <a:pt x="5234" y="12402"/>
                </a:cubicBezTo>
                <a:cubicBezTo>
                  <a:pt x="5206" y="12351"/>
                  <a:pt x="5165" y="12325"/>
                  <a:pt x="5135" y="12278"/>
                </a:cubicBezTo>
                <a:cubicBezTo>
                  <a:pt x="5113" y="12235"/>
                  <a:pt x="5109" y="12223"/>
                  <a:pt x="5085" y="12204"/>
                </a:cubicBezTo>
                <a:cubicBezTo>
                  <a:pt x="5149" y="12213"/>
                  <a:pt x="5187" y="12229"/>
                  <a:pt x="5259" y="12229"/>
                </a:cubicBezTo>
                <a:cubicBezTo>
                  <a:pt x="5317" y="12229"/>
                  <a:pt x="5374" y="12229"/>
                  <a:pt x="5432" y="12229"/>
                </a:cubicBezTo>
              </a:path>
              <a:path w="4565" h="1315">
                <a:moveTo>
                  <a:pt x="5829" y="12204"/>
                </a:moveTo>
                <a:cubicBezTo>
                  <a:pt x="5944" y="12204"/>
                  <a:pt x="6044" y="12197"/>
                  <a:pt x="6152" y="12179"/>
                </a:cubicBezTo>
                <a:cubicBezTo>
                  <a:pt x="6222" y="12167"/>
                  <a:pt x="6304" y="12179"/>
                  <a:pt x="6375" y="12179"/>
                </a:cubicBezTo>
              </a:path>
              <a:path w="4565" h="1315">
                <a:moveTo>
                  <a:pt x="5928" y="12353"/>
                </a:moveTo>
                <a:cubicBezTo>
                  <a:pt x="6000" y="12353"/>
                  <a:pt x="6038" y="12376"/>
                  <a:pt x="6102" y="12378"/>
                </a:cubicBezTo>
                <a:cubicBezTo>
                  <a:pt x="6194" y="12381"/>
                  <a:pt x="6324" y="12399"/>
                  <a:pt x="6400" y="12353"/>
                </a:cubicBezTo>
              </a:path>
              <a:path w="4565" h="1315">
                <a:moveTo>
                  <a:pt x="6796" y="11658"/>
                </a:moveTo>
                <a:cubicBezTo>
                  <a:pt x="6834" y="11734"/>
                  <a:pt x="6799" y="11756"/>
                  <a:pt x="6796" y="11832"/>
                </a:cubicBezTo>
                <a:cubicBezTo>
                  <a:pt x="6792" y="11930"/>
                  <a:pt x="6772" y="12006"/>
                  <a:pt x="6772" y="12105"/>
                </a:cubicBezTo>
                <a:cubicBezTo>
                  <a:pt x="6772" y="12265"/>
                  <a:pt x="6775" y="12431"/>
                  <a:pt x="6796" y="12576"/>
                </a:cubicBezTo>
                <a:cubicBezTo>
                  <a:pt x="6800" y="12600"/>
                  <a:pt x="6790" y="12711"/>
                  <a:pt x="6821" y="12650"/>
                </a:cubicBezTo>
              </a:path>
              <a:path w="4565" h="1315">
                <a:moveTo>
                  <a:pt x="7169" y="11832"/>
                </a:moveTo>
                <a:cubicBezTo>
                  <a:pt x="7282" y="11809"/>
                  <a:pt x="7320" y="11826"/>
                  <a:pt x="7417" y="11832"/>
                </a:cubicBezTo>
                <a:cubicBezTo>
                  <a:pt x="7480" y="11836"/>
                  <a:pt x="7513" y="11820"/>
                  <a:pt x="7565" y="11807"/>
                </a:cubicBezTo>
              </a:path>
              <a:path w="4565" h="1315">
                <a:moveTo>
                  <a:pt x="7193" y="11733"/>
                </a:moveTo>
                <a:cubicBezTo>
                  <a:pt x="7146" y="11827"/>
                  <a:pt x="7055" y="11927"/>
                  <a:pt x="7119" y="12030"/>
                </a:cubicBezTo>
                <a:cubicBezTo>
                  <a:pt x="7143" y="12069"/>
                  <a:pt x="7252" y="12066"/>
                  <a:pt x="7293" y="12055"/>
                </a:cubicBezTo>
                <a:cubicBezTo>
                  <a:pt x="7360" y="12036"/>
                  <a:pt x="7406" y="12007"/>
                  <a:pt x="7466" y="12055"/>
                </a:cubicBezTo>
                <a:cubicBezTo>
                  <a:pt x="7498" y="12081"/>
                  <a:pt x="7555" y="12142"/>
                  <a:pt x="7565" y="12179"/>
                </a:cubicBezTo>
                <a:cubicBezTo>
                  <a:pt x="7581" y="12242"/>
                  <a:pt x="7573" y="12316"/>
                  <a:pt x="7590" y="12378"/>
                </a:cubicBezTo>
                <a:cubicBezTo>
                  <a:pt x="7616" y="12470"/>
                  <a:pt x="7605" y="12508"/>
                  <a:pt x="7590" y="12601"/>
                </a:cubicBezTo>
                <a:cubicBezTo>
                  <a:pt x="7584" y="12640"/>
                  <a:pt x="7572" y="12763"/>
                  <a:pt x="7516" y="12774"/>
                </a:cubicBezTo>
                <a:cubicBezTo>
                  <a:pt x="7423" y="12793"/>
                  <a:pt x="7354" y="12755"/>
                  <a:pt x="7268" y="12750"/>
                </a:cubicBezTo>
                <a:cubicBezTo>
                  <a:pt x="7202" y="12746"/>
                  <a:pt x="7160" y="12711"/>
                  <a:pt x="7094" y="12700"/>
                </a:cubicBezTo>
                <a:cubicBezTo>
                  <a:pt x="7053" y="12700"/>
                  <a:pt x="7045" y="12700"/>
                  <a:pt x="7020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Ink 5"/>
          <p:cNvSpPr/>
          <p:nvPr/>
        </p:nvSpPr>
        <p:spPr>
          <a:xfrm>
            <a:off x="1276200" y="4724280"/>
            <a:ext cx="322560" cy="357480"/>
          </a:xfrm>
          <a:custGeom>
            <a:avLst/>
            <a:gdLst/>
            <a:ahLst/>
            <a:rect l="l" t="t" r="r" b="b"/>
            <a:pathLst>
              <a:path w="894" h="993">
                <a:moveTo>
                  <a:pt x="3621" y="13122"/>
                </a:moveTo>
                <a:cubicBezTo>
                  <a:pt x="3621" y="13251"/>
                  <a:pt x="3616" y="13372"/>
                  <a:pt x="3597" y="13494"/>
                </a:cubicBezTo>
                <a:cubicBezTo>
                  <a:pt x="3583" y="13585"/>
                  <a:pt x="3594" y="13678"/>
                  <a:pt x="3572" y="13767"/>
                </a:cubicBezTo>
                <a:cubicBezTo>
                  <a:pt x="3552" y="13846"/>
                  <a:pt x="3562" y="13911"/>
                  <a:pt x="3597" y="13990"/>
                </a:cubicBezTo>
                <a:cubicBezTo>
                  <a:pt x="3630" y="14065"/>
                  <a:pt x="3645" y="14064"/>
                  <a:pt x="3721" y="14064"/>
                </a:cubicBezTo>
                <a:cubicBezTo>
                  <a:pt x="3777" y="14064"/>
                  <a:pt x="3863" y="14073"/>
                  <a:pt x="3919" y="14089"/>
                </a:cubicBezTo>
                <a:cubicBezTo>
                  <a:pt x="4021" y="14117"/>
                  <a:pt x="4019" y="14095"/>
                  <a:pt x="4118" y="14064"/>
                </a:cubicBezTo>
                <a:cubicBezTo>
                  <a:pt x="4126" y="14064"/>
                  <a:pt x="4134" y="14064"/>
                  <a:pt x="4142" y="14064"/>
                </a:cubicBezTo>
              </a:path>
              <a:path w="894" h="993">
                <a:moveTo>
                  <a:pt x="4366" y="13469"/>
                </a:moveTo>
                <a:cubicBezTo>
                  <a:pt x="4338" y="13544"/>
                  <a:pt x="4338" y="13543"/>
                  <a:pt x="4366" y="13618"/>
                </a:cubicBezTo>
                <a:cubicBezTo>
                  <a:pt x="4448" y="13570"/>
                  <a:pt x="4460" y="13546"/>
                  <a:pt x="4366" y="135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Ink 6"/>
          <p:cNvSpPr/>
          <p:nvPr/>
        </p:nvSpPr>
        <p:spPr>
          <a:xfrm>
            <a:off x="1776240" y="4732200"/>
            <a:ext cx="438480" cy="376200"/>
          </a:xfrm>
          <a:custGeom>
            <a:avLst/>
            <a:gdLst/>
            <a:ahLst/>
            <a:rect l="l" t="t" r="r" b="b"/>
            <a:pathLst>
              <a:path w="1217" h="1043">
                <a:moveTo>
                  <a:pt x="5159" y="13271"/>
                </a:moveTo>
                <a:cubicBezTo>
                  <a:pt x="5193" y="13304"/>
                  <a:pt x="5248" y="13342"/>
                  <a:pt x="5283" y="13271"/>
                </a:cubicBezTo>
                <a:cubicBezTo>
                  <a:pt x="5315" y="13206"/>
                  <a:pt x="5270" y="13177"/>
                  <a:pt x="5234" y="13146"/>
                </a:cubicBezTo>
                <a:cubicBezTo>
                  <a:pt x="5186" y="13184"/>
                  <a:pt x="5137" y="13213"/>
                  <a:pt x="5110" y="13271"/>
                </a:cubicBezTo>
                <a:cubicBezTo>
                  <a:pt x="5071" y="13354"/>
                  <a:pt x="5020" y="13434"/>
                  <a:pt x="4986" y="13519"/>
                </a:cubicBezTo>
                <a:cubicBezTo>
                  <a:pt x="4956" y="13594"/>
                  <a:pt x="4940" y="13666"/>
                  <a:pt x="4936" y="13742"/>
                </a:cubicBezTo>
                <a:cubicBezTo>
                  <a:pt x="4931" y="13834"/>
                  <a:pt x="4924" y="13932"/>
                  <a:pt x="4961" y="14015"/>
                </a:cubicBezTo>
                <a:cubicBezTo>
                  <a:pt x="4990" y="14080"/>
                  <a:pt x="5052" y="14124"/>
                  <a:pt x="5110" y="14163"/>
                </a:cubicBezTo>
                <a:cubicBezTo>
                  <a:pt x="5177" y="14208"/>
                  <a:pt x="5248" y="14194"/>
                  <a:pt x="5308" y="14163"/>
                </a:cubicBezTo>
                <a:cubicBezTo>
                  <a:pt x="5388" y="14121"/>
                  <a:pt x="5366" y="14083"/>
                  <a:pt x="5358" y="14015"/>
                </a:cubicBezTo>
                <a:cubicBezTo>
                  <a:pt x="5349" y="13938"/>
                  <a:pt x="5320" y="13883"/>
                  <a:pt x="5283" y="13816"/>
                </a:cubicBezTo>
                <a:cubicBezTo>
                  <a:pt x="5262" y="13773"/>
                  <a:pt x="5258" y="13761"/>
                  <a:pt x="5234" y="13742"/>
                </a:cubicBezTo>
                <a:cubicBezTo>
                  <a:pt x="5279" y="13820"/>
                  <a:pt x="5300" y="13812"/>
                  <a:pt x="5383" y="13841"/>
                </a:cubicBezTo>
                <a:cubicBezTo>
                  <a:pt x="5408" y="13849"/>
                  <a:pt x="5432" y="13858"/>
                  <a:pt x="5457" y="13866"/>
                </a:cubicBezTo>
              </a:path>
              <a:path w="1217" h="1043">
                <a:moveTo>
                  <a:pt x="5804" y="13494"/>
                </a:moveTo>
                <a:cubicBezTo>
                  <a:pt x="5881" y="13465"/>
                  <a:pt x="5944" y="13469"/>
                  <a:pt x="6028" y="13469"/>
                </a:cubicBezTo>
                <a:cubicBezTo>
                  <a:pt x="6036" y="13469"/>
                  <a:pt x="6044" y="13469"/>
                  <a:pt x="6052" y="13469"/>
                </a:cubicBezTo>
              </a:path>
              <a:path w="1217" h="1043">
                <a:moveTo>
                  <a:pt x="5879" y="13692"/>
                </a:moveTo>
                <a:cubicBezTo>
                  <a:pt x="6046" y="13729"/>
                  <a:pt x="6069" y="13772"/>
                  <a:pt x="6152" y="137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Ink 7"/>
          <p:cNvSpPr/>
          <p:nvPr/>
        </p:nvSpPr>
        <p:spPr>
          <a:xfrm>
            <a:off x="2384280" y="4732200"/>
            <a:ext cx="536760" cy="428760"/>
          </a:xfrm>
          <a:custGeom>
            <a:avLst/>
            <a:gdLst/>
            <a:ahLst/>
            <a:rect l="l" t="t" r="r" b="b"/>
            <a:pathLst>
              <a:path w="1489" h="1192">
                <a:moveTo>
                  <a:pt x="6747" y="13246"/>
                </a:moveTo>
                <a:cubicBezTo>
                  <a:pt x="6838" y="13246"/>
                  <a:pt x="6969" y="13267"/>
                  <a:pt x="7045" y="13221"/>
                </a:cubicBezTo>
              </a:path>
              <a:path w="1489" h="1192">
                <a:moveTo>
                  <a:pt x="6722" y="13146"/>
                </a:moveTo>
                <a:cubicBezTo>
                  <a:pt x="6677" y="13206"/>
                  <a:pt x="6589" y="13282"/>
                  <a:pt x="6623" y="13370"/>
                </a:cubicBezTo>
                <a:cubicBezTo>
                  <a:pt x="6641" y="13418"/>
                  <a:pt x="6732" y="13437"/>
                  <a:pt x="6772" y="13444"/>
                </a:cubicBezTo>
                <a:cubicBezTo>
                  <a:pt x="6834" y="13454"/>
                  <a:pt x="6909" y="13463"/>
                  <a:pt x="6970" y="13494"/>
                </a:cubicBezTo>
                <a:cubicBezTo>
                  <a:pt x="7029" y="13524"/>
                  <a:pt x="7057" y="13595"/>
                  <a:pt x="7094" y="13643"/>
                </a:cubicBezTo>
                <a:cubicBezTo>
                  <a:pt x="7140" y="13704"/>
                  <a:pt x="7161" y="13726"/>
                  <a:pt x="7144" y="13816"/>
                </a:cubicBezTo>
                <a:cubicBezTo>
                  <a:pt x="7128" y="13899"/>
                  <a:pt x="7117" y="13984"/>
                  <a:pt x="7045" y="14039"/>
                </a:cubicBezTo>
                <a:cubicBezTo>
                  <a:pt x="7010" y="14066"/>
                  <a:pt x="6865" y="14103"/>
                  <a:pt x="6821" y="14089"/>
                </a:cubicBezTo>
                <a:cubicBezTo>
                  <a:pt x="6804" y="14084"/>
                  <a:pt x="6684" y="14061"/>
                  <a:pt x="6672" y="14039"/>
                </a:cubicBezTo>
                <a:cubicBezTo>
                  <a:pt x="6672" y="13988"/>
                  <a:pt x="6673" y="13969"/>
                  <a:pt x="6697" y="13940"/>
                </a:cubicBezTo>
              </a:path>
              <a:path w="1489" h="1192">
                <a:moveTo>
                  <a:pt x="7590" y="13295"/>
                </a:moveTo>
                <a:cubicBezTo>
                  <a:pt x="7612" y="13339"/>
                  <a:pt x="7591" y="13383"/>
                  <a:pt x="7565" y="13444"/>
                </a:cubicBezTo>
                <a:cubicBezTo>
                  <a:pt x="7536" y="13510"/>
                  <a:pt x="7503" y="13574"/>
                  <a:pt x="7491" y="13643"/>
                </a:cubicBezTo>
                <a:cubicBezTo>
                  <a:pt x="7474" y="13745"/>
                  <a:pt x="7506" y="13803"/>
                  <a:pt x="7541" y="13891"/>
                </a:cubicBezTo>
                <a:cubicBezTo>
                  <a:pt x="7587" y="14004"/>
                  <a:pt x="7566" y="14012"/>
                  <a:pt x="7665" y="14089"/>
                </a:cubicBezTo>
                <a:cubicBezTo>
                  <a:pt x="7726" y="14136"/>
                  <a:pt x="7735" y="14184"/>
                  <a:pt x="7813" y="14188"/>
                </a:cubicBezTo>
                <a:cubicBezTo>
                  <a:pt x="7891" y="14192"/>
                  <a:pt x="7962" y="14207"/>
                  <a:pt x="8012" y="14139"/>
                </a:cubicBezTo>
                <a:cubicBezTo>
                  <a:pt x="8063" y="14071"/>
                  <a:pt x="8106" y="14024"/>
                  <a:pt x="8111" y="13940"/>
                </a:cubicBezTo>
                <a:cubicBezTo>
                  <a:pt x="8115" y="13874"/>
                  <a:pt x="8081" y="13814"/>
                  <a:pt x="8037" y="13767"/>
                </a:cubicBezTo>
                <a:cubicBezTo>
                  <a:pt x="7983" y="13710"/>
                  <a:pt x="7909" y="13691"/>
                  <a:pt x="7838" y="13742"/>
                </a:cubicBezTo>
                <a:cubicBezTo>
                  <a:pt x="7732" y="13818"/>
                  <a:pt x="7760" y="13930"/>
                  <a:pt x="7739" y="14039"/>
                </a:cubicBezTo>
                <a:cubicBezTo>
                  <a:pt x="7699" y="14160"/>
                  <a:pt x="7690" y="14232"/>
                  <a:pt x="7714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Ink 8"/>
          <p:cNvSpPr/>
          <p:nvPr/>
        </p:nvSpPr>
        <p:spPr>
          <a:xfrm>
            <a:off x="625320" y="3411360"/>
            <a:ext cx="1116000" cy="679680"/>
          </a:xfrm>
          <a:custGeom>
            <a:avLst/>
            <a:gdLst/>
            <a:ahLst/>
            <a:rect l="l" t="t" r="r" b="b"/>
            <a:pathLst>
              <a:path w="3102" h="1887">
                <a:moveTo>
                  <a:pt x="2977" y="11361"/>
                </a:moveTo>
                <a:cubicBezTo>
                  <a:pt x="2967" y="11282"/>
                  <a:pt x="2938" y="11211"/>
                  <a:pt x="2902" y="11137"/>
                </a:cubicBezTo>
                <a:cubicBezTo>
                  <a:pt x="2868" y="11065"/>
                  <a:pt x="2808" y="11020"/>
                  <a:pt x="2753" y="10964"/>
                </a:cubicBezTo>
                <a:cubicBezTo>
                  <a:pt x="2680" y="10891"/>
                  <a:pt x="2587" y="10872"/>
                  <a:pt x="2505" y="10815"/>
                </a:cubicBezTo>
                <a:cubicBezTo>
                  <a:pt x="2497" y="10807"/>
                  <a:pt x="2488" y="10798"/>
                  <a:pt x="2480" y="10790"/>
                </a:cubicBezTo>
              </a:path>
              <a:path w="3102" h="1887">
                <a:moveTo>
                  <a:pt x="2729" y="10666"/>
                </a:moveTo>
                <a:cubicBezTo>
                  <a:pt x="2697" y="10554"/>
                  <a:pt x="2657" y="10616"/>
                  <a:pt x="2555" y="10592"/>
                </a:cubicBezTo>
                <a:cubicBezTo>
                  <a:pt x="2485" y="10575"/>
                  <a:pt x="2402" y="10548"/>
                  <a:pt x="2332" y="10542"/>
                </a:cubicBezTo>
                <a:cubicBezTo>
                  <a:pt x="2233" y="10542"/>
                  <a:pt x="2216" y="10542"/>
                  <a:pt x="2158" y="10542"/>
                </a:cubicBezTo>
                <a:cubicBezTo>
                  <a:pt x="2158" y="10631"/>
                  <a:pt x="2151" y="10648"/>
                  <a:pt x="2232" y="10691"/>
                </a:cubicBezTo>
                <a:cubicBezTo>
                  <a:pt x="2294" y="10724"/>
                  <a:pt x="2331" y="10765"/>
                  <a:pt x="2381" y="10815"/>
                </a:cubicBezTo>
                <a:cubicBezTo>
                  <a:pt x="2423" y="10856"/>
                  <a:pt x="2498" y="10894"/>
                  <a:pt x="2530" y="10939"/>
                </a:cubicBezTo>
                <a:cubicBezTo>
                  <a:pt x="2550" y="10979"/>
                  <a:pt x="2569" y="10995"/>
                  <a:pt x="2530" y="10988"/>
                </a:cubicBezTo>
              </a:path>
              <a:path w="3102" h="1887">
                <a:moveTo>
                  <a:pt x="2133" y="9773"/>
                </a:moveTo>
                <a:cubicBezTo>
                  <a:pt x="2078" y="9740"/>
                  <a:pt x="2028" y="9748"/>
                  <a:pt x="1960" y="9748"/>
                </a:cubicBezTo>
                <a:cubicBezTo>
                  <a:pt x="1894" y="9748"/>
                  <a:pt x="1811" y="9758"/>
                  <a:pt x="1761" y="9798"/>
                </a:cubicBezTo>
                <a:cubicBezTo>
                  <a:pt x="1703" y="9844"/>
                  <a:pt x="1747" y="9905"/>
                  <a:pt x="1786" y="9947"/>
                </a:cubicBezTo>
                <a:cubicBezTo>
                  <a:pt x="1834" y="9999"/>
                  <a:pt x="1907" y="10021"/>
                  <a:pt x="1960" y="10071"/>
                </a:cubicBezTo>
                <a:cubicBezTo>
                  <a:pt x="2025" y="10132"/>
                  <a:pt x="2157" y="10207"/>
                  <a:pt x="2108" y="10294"/>
                </a:cubicBezTo>
                <a:cubicBezTo>
                  <a:pt x="2082" y="10340"/>
                  <a:pt x="1988" y="10331"/>
                  <a:pt x="1960" y="10294"/>
                </a:cubicBezTo>
                <a:cubicBezTo>
                  <a:pt x="1930" y="10255"/>
                  <a:pt x="1876" y="10196"/>
                  <a:pt x="1885" y="10145"/>
                </a:cubicBezTo>
                <a:cubicBezTo>
                  <a:pt x="1900" y="10064"/>
                  <a:pt x="1943" y="10019"/>
                  <a:pt x="1960" y="9947"/>
                </a:cubicBezTo>
                <a:cubicBezTo>
                  <a:pt x="1977" y="9876"/>
                  <a:pt x="1981" y="9851"/>
                  <a:pt x="2034" y="9798"/>
                </a:cubicBezTo>
                <a:cubicBezTo>
                  <a:pt x="2075" y="9757"/>
                  <a:pt x="2106" y="9700"/>
                  <a:pt x="2133" y="9649"/>
                </a:cubicBezTo>
                <a:cubicBezTo>
                  <a:pt x="2141" y="9632"/>
                  <a:pt x="2150" y="9616"/>
                  <a:pt x="2158" y="9599"/>
                </a:cubicBezTo>
              </a:path>
              <a:path w="3102" h="1887">
                <a:moveTo>
                  <a:pt x="4837" y="11311"/>
                </a:moveTo>
                <a:cubicBezTo>
                  <a:pt x="4771" y="11245"/>
                  <a:pt x="4804" y="11190"/>
                  <a:pt x="4738" y="11112"/>
                </a:cubicBezTo>
                <a:cubicBezTo>
                  <a:pt x="4703" y="11071"/>
                  <a:pt x="4603" y="10942"/>
                  <a:pt x="4564" y="10914"/>
                </a:cubicBezTo>
                <a:cubicBezTo>
                  <a:pt x="4499" y="10868"/>
                  <a:pt x="4411" y="10779"/>
                  <a:pt x="4341" y="10740"/>
                </a:cubicBezTo>
                <a:cubicBezTo>
                  <a:pt x="4280" y="10706"/>
                  <a:pt x="4196" y="10694"/>
                  <a:pt x="4142" y="10666"/>
                </a:cubicBezTo>
                <a:cubicBezTo>
                  <a:pt x="4094" y="10641"/>
                  <a:pt x="4030" y="10633"/>
                  <a:pt x="4093" y="10592"/>
                </a:cubicBezTo>
              </a:path>
              <a:path w="3102" h="1887">
                <a:moveTo>
                  <a:pt x="4415" y="10542"/>
                </a:moveTo>
                <a:cubicBezTo>
                  <a:pt x="4333" y="10511"/>
                  <a:pt x="4232" y="10480"/>
                  <a:pt x="4142" y="10468"/>
                </a:cubicBezTo>
                <a:cubicBezTo>
                  <a:pt x="4066" y="10458"/>
                  <a:pt x="3956" y="10456"/>
                  <a:pt x="3894" y="10492"/>
                </a:cubicBezTo>
                <a:cubicBezTo>
                  <a:pt x="3886" y="10535"/>
                  <a:pt x="3927" y="10589"/>
                  <a:pt x="3969" y="10641"/>
                </a:cubicBezTo>
                <a:cubicBezTo>
                  <a:pt x="4048" y="10737"/>
                  <a:pt x="4156" y="10805"/>
                  <a:pt x="4217" y="10914"/>
                </a:cubicBezTo>
                <a:cubicBezTo>
                  <a:pt x="4243" y="10960"/>
                  <a:pt x="4294" y="11062"/>
                  <a:pt x="4341" y="11088"/>
                </a:cubicBezTo>
                <a:cubicBezTo>
                  <a:pt x="4349" y="11088"/>
                  <a:pt x="4358" y="11088"/>
                  <a:pt x="4366" y="11088"/>
                </a:cubicBezTo>
              </a:path>
              <a:path w="3102" h="1887">
                <a:moveTo>
                  <a:pt x="3324" y="9475"/>
                </a:moveTo>
                <a:cubicBezTo>
                  <a:pt x="3415" y="9516"/>
                  <a:pt x="3502" y="9546"/>
                  <a:pt x="3597" y="9575"/>
                </a:cubicBezTo>
                <a:cubicBezTo>
                  <a:pt x="3664" y="9596"/>
                  <a:pt x="3702" y="9599"/>
                  <a:pt x="3770" y="9599"/>
                </a:cubicBezTo>
                <a:cubicBezTo>
                  <a:pt x="3742" y="9686"/>
                  <a:pt x="3726" y="9803"/>
                  <a:pt x="3746" y="9897"/>
                </a:cubicBezTo>
                <a:cubicBezTo>
                  <a:pt x="3763" y="9976"/>
                  <a:pt x="3791" y="10014"/>
                  <a:pt x="3795" y="10096"/>
                </a:cubicBezTo>
                <a:cubicBezTo>
                  <a:pt x="3799" y="10171"/>
                  <a:pt x="3816" y="10175"/>
                  <a:pt x="3795" y="10244"/>
                </a:cubicBezTo>
                <a:cubicBezTo>
                  <a:pt x="3795" y="10252"/>
                  <a:pt x="3795" y="10261"/>
                  <a:pt x="3795" y="10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ouble Sided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6d + 8 = 4d + 16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9e – 15 = 12e + 3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Ink 4"/>
          <p:cNvSpPr/>
          <p:nvPr/>
        </p:nvSpPr>
        <p:spPr>
          <a:xfrm>
            <a:off x="2589120" y="2394000"/>
            <a:ext cx="1679760" cy="446040"/>
          </a:xfrm>
          <a:custGeom>
            <a:avLst/>
            <a:gdLst/>
            <a:ahLst/>
            <a:rect l="l" t="t" r="r" b="b"/>
            <a:pathLst>
              <a:path w="4665" h="1241">
                <a:moveTo>
                  <a:pt x="7689" y="6821"/>
                </a:moveTo>
                <a:cubicBezTo>
                  <a:pt x="7628" y="6805"/>
                  <a:pt x="7605" y="6789"/>
                  <a:pt x="7541" y="6821"/>
                </a:cubicBezTo>
                <a:cubicBezTo>
                  <a:pt x="7476" y="6854"/>
                  <a:pt x="7382" y="6928"/>
                  <a:pt x="7317" y="6945"/>
                </a:cubicBezTo>
                <a:cubicBezTo>
                  <a:pt x="7231" y="6968"/>
                  <a:pt x="7133" y="7040"/>
                  <a:pt x="7218" y="7144"/>
                </a:cubicBezTo>
                <a:cubicBezTo>
                  <a:pt x="7269" y="7207"/>
                  <a:pt x="7378" y="7262"/>
                  <a:pt x="7441" y="7317"/>
                </a:cubicBezTo>
                <a:cubicBezTo>
                  <a:pt x="7528" y="7394"/>
                  <a:pt x="7633" y="7489"/>
                  <a:pt x="7689" y="7590"/>
                </a:cubicBezTo>
                <a:cubicBezTo>
                  <a:pt x="7737" y="7676"/>
                  <a:pt x="7663" y="7758"/>
                  <a:pt x="7565" y="7739"/>
                </a:cubicBezTo>
                <a:cubicBezTo>
                  <a:pt x="7548" y="7736"/>
                  <a:pt x="7394" y="7618"/>
                  <a:pt x="7392" y="7615"/>
                </a:cubicBezTo>
                <a:cubicBezTo>
                  <a:pt x="7355" y="7558"/>
                  <a:pt x="7395" y="7371"/>
                  <a:pt x="7417" y="7317"/>
                </a:cubicBezTo>
                <a:cubicBezTo>
                  <a:pt x="7455" y="7226"/>
                  <a:pt x="7515" y="7148"/>
                  <a:pt x="7565" y="7069"/>
                </a:cubicBezTo>
                <a:cubicBezTo>
                  <a:pt x="7599" y="7015"/>
                  <a:pt x="7669" y="6905"/>
                  <a:pt x="7689" y="6846"/>
                </a:cubicBezTo>
                <a:cubicBezTo>
                  <a:pt x="7689" y="6801"/>
                  <a:pt x="7693" y="6788"/>
                  <a:pt x="7665" y="6772"/>
                </a:cubicBezTo>
              </a:path>
              <a:path w="4665" h="1241">
                <a:moveTo>
                  <a:pt x="9872" y="7441"/>
                </a:moveTo>
                <a:cubicBezTo>
                  <a:pt x="9864" y="7458"/>
                  <a:pt x="9855" y="7474"/>
                  <a:pt x="9847" y="7491"/>
                </a:cubicBezTo>
                <a:cubicBezTo>
                  <a:pt x="9847" y="7429"/>
                  <a:pt x="9862" y="7365"/>
                  <a:pt x="9823" y="7317"/>
                </a:cubicBezTo>
                <a:cubicBezTo>
                  <a:pt x="9785" y="7269"/>
                  <a:pt x="9758" y="7246"/>
                  <a:pt x="9699" y="7243"/>
                </a:cubicBezTo>
                <a:cubicBezTo>
                  <a:pt x="9629" y="7239"/>
                  <a:pt x="9540" y="7249"/>
                  <a:pt x="9475" y="7268"/>
                </a:cubicBezTo>
                <a:cubicBezTo>
                  <a:pt x="9417" y="7285"/>
                  <a:pt x="9356" y="7368"/>
                  <a:pt x="9327" y="7417"/>
                </a:cubicBezTo>
                <a:cubicBezTo>
                  <a:pt x="9289" y="7482"/>
                  <a:pt x="9234" y="7576"/>
                  <a:pt x="9302" y="7640"/>
                </a:cubicBezTo>
                <a:cubicBezTo>
                  <a:pt x="9371" y="7704"/>
                  <a:pt x="9399" y="7735"/>
                  <a:pt x="9500" y="7739"/>
                </a:cubicBezTo>
                <a:cubicBezTo>
                  <a:pt x="9577" y="7742"/>
                  <a:pt x="9640" y="7714"/>
                  <a:pt x="9699" y="7665"/>
                </a:cubicBezTo>
                <a:cubicBezTo>
                  <a:pt x="9806" y="7576"/>
                  <a:pt x="9772" y="7502"/>
                  <a:pt x="9798" y="7392"/>
                </a:cubicBezTo>
                <a:cubicBezTo>
                  <a:pt x="9817" y="7313"/>
                  <a:pt x="9836" y="7227"/>
                  <a:pt x="9847" y="7144"/>
                </a:cubicBezTo>
                <a:cubicBezTo>
                  <a:pt x="9847" y="7094"/>
                  <a:pt x="9847" y="7078"/>
                  <a:pt x="9847" y="7045"/>
                </a:cubicBezTo>
                <a:cubicBezTo>
                  <a:pt x="9847" y="6911"/>
                  <a:pt x="9824" y="7188"/>
                  <a:pt x="9823" y="7218"/>
                </a:cubicBezTo>
                <a:cubicBezTo>
                  <a:pt x="9820" y="7316"/>
                  <a:pt x="9807" y="7427"/>
                  <a:pt x="9847" y="7516"/>
                </a:cubicBezTo>
                <a:cubicBezTo>
                  <a:pt x="9881" y="7592"/>
                  <a:pt x="9913" y="7613"/>
                  <a:pt x="9971" y="7665"/>
                </a:cubicBezTo>
                <a:cubicBezTo>
                  <a:pt x="10017" y="7706"/>
                  <a:pt x="10007" y="7705"/>
                  <a:pt x="10071" y="7714"/>
                </a:cubicBezTo>
              </a:path>
              <a:path w="4665" h="1241">
                <a:moveTo>
                  <a:pt x="10269" y="7293"/>
                </a:moveTo>
                <a:cubicBezTo>
                  <a:pt x="10393" y="7275"/>
                  <a:pt x="10401" y="7267"/>
                  <a:pt x="10468" y="7268"/>
                </a:cubicBezTo>
              </a:path>
              <a:path w="4665" h="1241">
                <a:moveTo>
                  <a:pt x="10220" y="7441"/>
                </a:moveTo>
                <a:cubicBezTo>
                  <a:pt x="10378" y="7422"/>
                  <a:pt x="10406" y="7427"/>
                  <a:pt x="10492" y="7392"/>
                </a:cubicBezTo>
              </a:path>
              <a:path w="4665" h="1241">
                <a:moveTo>
                  <a:pt x="10765" y="7119"/>
                </a:moveTo>
                <a:cubicBezTo>
                  <a:pt x="10736" y="7178"/>
                  <a:pt x="10713" y="7222"/>
                  <a:pt x="10666" y="7268"/>
                </a:cubicBezTo>
                <a:cubicBezTo>
                  <a:pt x="10619" y="7314"/>
                  <a:pt x="10605" y="7326"/>
                  <a:pt x="10592" y="7367"/>
                </a:cubicBezTo>
                <a:cubicBezTo>
                  <a:pt x="10675" y="7395"/>
                  <a:pt x="10754" y="7391"/>
                  <a:pt x="10840" y="7417"/>
                </a:cubicBezTo>
                <a:cubicBezTo>
                  <a:pt x="10912" y="7439"/>
                  <a:pt x="10964" y="7441"/>
                  <a:pt x="11038" y="7441"/>
                </a:cubicBezTo>
              </a:path>
              <a:path w="4665" h="1241">
                <a:moveTo>
                  <a:pt x="11137" y="6921"/>
                </a:moveTo>
                <a:cubicBezTo>
                  <a:pt x="11104" y="7096"/>
                  <a:pt x="11069" y="7261"/>
                  <a:pt x="11063" y="7441"/>
                </a:cubicBezTo>
                <a:cubicBezTo>
                  <a:pt x="11061" y="7509"/>
                  <a:pt x="11071" y="7623"/>
                  <a:pt x="11088" y="7689"/>
                </a:cubicBezTo>
                <a:cubicBezTo>
                  <a:pt x="11103" y="7746"/>
                  <a:pt x="11095" y="7843"/>
                  <a:pt x="11137" y="7813"/>
                </a:cubicBezTo>
                <a:cubicBezTo>
                  <a:pt x="11145" y="7805"/>
                  <a:pt x="11154" y="7797"/>
                  <a:pt x="11162" y="7789"/>
                </a:cubicBezTo>
              </a:path>
              <a:path w="4665" h="1241">
                <a:moveTo>
                  <a:pt x="11708" y="7169"/>
                </a:moveTo>
                <a:cubicBezTo>
                  <a:pt x="11659" y="7053"/>
                  <a:pt x="11604" y="6957"/>
                  <a:pt x="11485" y="6896"/>
                </a:cubicBezTo>
                <a:cubicBezTo>
                  <a:pt x="11304" y="6803"/>
                  <a:pt x="11168" y="6756"/>
                  <a:pt x="10964" y="6722"/>
                </a:cubicBezTo>
                <a:cubicBezTo>
                  <a:pt x="10749" y="6686"/>
                  <a:pt x="10538" y="6656"/>
                  <a:pt x="10319" y="6672"/>
                </a:cubicBezTo>
                <a:cubicBezTo>
                  <a:pt x="10116" y="6687"/>
                  <a:pt x="9810" y="6732"/>
                  <a:pt x="9624" y="6821"/>
                </a:cubicBezTo>
                <a:cubicBezTo>
                  <a:pt x="9469" y="6895"/>
                  <a:pt x="9187" y="7061"/>
                  <a:pt x="9079" y="7218"/>
                </a:cubicBezTo>
                <a:cubicBezTo>
                  <a:pt x="9042" y="7272"/>
                  <a:pt x="9032" y="7455"/>
                  <a:pt x="9054" y="7516"/>
                </a:cubicBezTo>
                <a:cubicBezTo>
                  <a:pt x="9091" y="7617"/>
                  <a:pt x="9310" y="7719"/>
                  <a:pt x="9401" y="7764"/>
                </a:cubicBezTo>
                <a:cubicBezTo>
                  <a:pt x="9621" y="7871"/>
                  <a:pt x="9909" y="7876"/>
                  <a:pt x="10145" y="7888"/>
                </a:cubicBezTo>
                <a:cubicBezTo>
                  <a:pt x="10387" y="7900"/>
                  <a:pt x="10625" y="7873"/>
                  <a:pt x="10864" y="7863"/>
                </a:cubicBezTo>
                <a:cubicBezTo>
                  <a:pt x="11099" y="7853"/>
                  <a:pt x="11310" y="7842"/>
                  <a:pt x="11534" y="7764"/>
                </a:cubicBezTo>
                <a:cubicBezTo>
                  <a:pt x="11673" y="7716"/>
                  <a:pt x="11799" y="7664"/>
                  <a:pt x="11832" y="7516"/>
                </a:cubicBezTo>
                <a:cubicBezTo>
                  <a:pt x="11868" y="7355"/>
                  <a:pt x="11811" y="7182"/>
                  <a:pt x="11708" y="7045"/>
                </a:cubicBezTo>
                <a:cubicBezTo>
                  <a:pt x="11585" y="6881"/>
                  <a:pt x="11393" y="6796"/>
                  <a:pt x="11212" y="6722"/>
                </a:cubicBezTo>
                <a:cubicBezTo>
                  <a:pt x="11023" y="6644"/>
                  <a:pt x="10865" y="6638"/>
                  <a:pt x="10666" y="6672"/>
                </a:cubicBezTo>
                <a:cubicBezTo>
                  <a:pt x="10625" y="6680"/>
                  <a:pt x="10583" y="6689"/>
                  <a:pt x="10542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5"/>
          <p:cNvSpPr/>
          <p:nvPr/>
        </p:nvSpPr>
        <p:spPr>
          <a:xfrm>
            <a:off x="4875120" y="3330720"/>
            <a:ext cx="804960" cy="428400"/>
          </a:xfrm>
          <a:custGeom>
            <a:avLst/>
            <a:gdLst/>
            <a:ahLst/>
            <a:rect l="l" t="t" r="r" b="b"/>
            <a:pathLst>
              <a:path w="2234" h="1192">
                <a:moveTo>
                  <a:pt x="13543" y="9798"/>
                </a:moveTo>
                <a:cubicBezTo>
                  <a:pt x="13693" y="9819"/>
                  <a:pt x="13844" y="9844"/>
                  <a:pt x="13990" y="9872"/>
                </a:cubicBezTo>
                <a:cubicBezTo>
                  <a:pt x="14105" y="9894"/>
                  <a:pt x="14221" y="9959"/>
                  <a:pt x="14337" y="9971"/>
                </a:cubicBezTo>
                <a:cubicBezTo>
                  <a:pt x="14470" y="9985"/>
                  <a:pt x="14605" y="10015"/>
                  <a:pt x="14734" y="9971"/>
                </a:cubicBezTo>
                <a:cubicBezTo>
                  <a:pt x="14784" y="9947"/>
                  <a:pt x="14800" y="9939"/>
                  <a:pt x="14833" y="9922"/>
                </a:cubicBezTo>
              </a:path>
              <a:path w="2234" h="1192">
                <a:moveTo>
                  <a:pt x="14808" y="9376"/>
                </a:moveTo>
                <a:cubicBezTo>
                  <a:pt x="14870" y="9270"/>
                  <a:pt x="14861" y="9303"/>
                  <a:pt x="14982" y="9277"/>
                </a:cubicBezTo>
                <a:cubicBezTo>
                  <a:pt x="15101" y="9251"/>
                  <a:pt x="15184" y="9248"/>
                  <a:pt x="15304" y="9277"/>
                </a:cubicBezTo>
                <a:cubicBezTo>
                  <a:pt x="15465" y="9316"/>
                  <a:pt x="15551" y="9361"/>
                  <a:pt x="15677" y="9451"/>
                </a:cubicBezTo>
                <a:cubicBezTo>
                  <a:pt x="15747" y="9502"/>
                  <a:pt x="15794" y="9532"/>
                  <a:pt x="15751" y="9624"/>
                </a:cubicBezTo>
                <a:cubicBezTo>
                  <a:pt x="15720" y="9689"/>
                  <a:pt x="15605" y="9687"/>
                  <a:pt x="15553" y="9699"/>
                </a:cubicBezTo>
                <a:cubicBezTo>
                  <a:pt x="15444" y="9724"/>
                  <a:pt x="15286" y="9733"/>
                  <a:pt x="15205" y="9798"/>
                </a:cubicBezTo>
                <a:cubicBezTo>
                  <a:pt x="15197" y="9806"/>
                  <a:pt x="15188" y="9815"/>
                  <a:pt x="15180" y="9823"/>
                </a:cubicBezTo>
                <a:cubicBezTo>
                  <a:pt x="15246" y="9875"/>
                  <a:pt x="15329" y="9907"/>
                  <a:pt x="15404" y="9947"/>
                </a:cubicBezTo>
                <a:cubicBezTo>
                  <a:pt x="15546" y="10024"/>
                  <a:pt x="15599" y="10091"/>
                  <a:pt x="15726" y="10195"/>
                </a:cubicBezTo>
                <a:cubicBezTo>
                  <a:pt x="15774" y="10219"/>
                  <a:pt x="15791" y="10225"/>
                  <a:pt x="15776" y="10269"/>
                </a:cubicBezTo>
                <a:cubicBezTo>
                  <a:pt x="15728" y="10349"/>
                  <a:pt x="15663" y="10404"/>
                  <a:pt x="15553" y="10418"/>
                </a:cubicBezTo>
                <a:cubicBezTo>
                  <a:pt x="15409" y="10437"/>
                  <a:pt x="15253" y="10458"/>
                  <a:pt x="15106" y="10443"/>
                </a:cubicBezTo>
                <a:cubicBezTo>
                  <a:pt x="14908" y="10410"/>
                  <a:pt x="14809" y="10393"/>
                  <a:pt x="14660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6"/>
          <p:cNvSpPr/>
          <p:nvPr/>
        </p:nvSpPr>
        <p:spPr>
          <a:xfrm>
            <a:off x="615960" y="3375000"/>
            <a:ext cx="1143000" cy="430200"/>
          </a:xfrm>
          <a:custGeom>
            <a:avLst/>
            <a:gdLst/>
            <a:ahLst/>
            <a:rect l="l" t="t" r="r" b="b"/>
            <a:pathLst>
              <a:path w="3176" h="1192">
                <a:moveTo>
                  <a:pt x="1712" y="9773"/>
                </a:moveTo>
                <a:cubicBezTo>
                  <a:pt x="1788" y="9799"/>
                  <a:pt x="1853" y="9798"/>
                  <a:pt x="1935" y="9798"/>
                </a:cubicBezTo>
                <a:cubicBezTo>
                  <a:pt x="2053" y="9798"/>
                  <a:pt x="2165" y="9819"/>
                  <a:pt x="2282" y="9823"/>
                </a:cubicBezTo>
                <a:cubicBezTo>
                  <a:pt x="2372" y="9826"/>
                  <a:pt x="2447" y="9834"/>
                  <a:pt x="2530" y="9847"/>
                </a:cubicBezTo>
                <a:cubicBezTo>
                  <a:pt x="2569" y="9853"/>
                  <a:pt x="2614" y="9847"/>
                  <a:pt x="2654" y="9847"/>
                </a:cubicBezTo>
              </a:path>
              <a:path w="3176" h="1192">
                <a:moveTo>
                  <a:pt x="2877" y="9451"/>
                </a:moveTo>
                <a:cubicBezTo>
                  <a:pt x="2812" y="9358"/>
                  <a:pt x="2787" y="9373"/>
                  <a:pt x="2679" y="9401"/>
                </a:cubicBezTo>
                <a:cubicBezTo>
                  <a:pt x="2554" y="9434"/>
                  <a:pt x="2494" y="9493"/>
                  <a:pt x="2456" y="9624"/>
                </a:cubicBezTo>
                <a:cubicBezTo>
                  <a:pt x="2440" y="9679"/>
                  <a:pt x="2451" y="9776"/>
                  <a:pt x="2480" y="9823"/>
                </a:cubicBezTo>
                <a:cubicBezTo>
                  <a:pt x="2519" y="9886"/>
                  <a:pt x="2617" y="9872"/>
                  <a:pt x="2679" y="9872"/>
                </a:cubicBezTo>
                <a:cubicBezTo>
                  <a:pt x="2755" y="9872"/>
                  <a:pt x="2822" y="9850"/>
                  <a:pt x="2877" y="9798"/>
                </a:cubicBezTo>
                <a:cubicBezTo>
                  <a:pt x="2949" y="9730"/>
                  <a:pt x="2974" y="9672"/>
                  <a:pt x="2977" y="9575"/>
                </a:cubicBezTo>
                <a:cubicBezTo>
                  <a:pt x="2980" y="9468"/>
                  <a:pt x="2986" y="9484"/>
                  <a:pt x="2927" y="9426"/>
                </a:cubicBezTo>
                <a:cubicBezTo>
                  <a:pt x="2892" y="9356"/>
                  <a:pt x="2902" y="9530"/>
                  <a:pt x="2902" y="9550"/>
                </a:cubicBezTo>
                <a:cubicBezTo>
                  <a:pt x="2902" y="9649"/>
                  <a:pt x="2950" y="9727"/>
                  <a:pt x="2977" y="9823"/>
                </a:cubicBezTo>
                <a:cubicBezTo>
                  <a:pt x="3015" y="9960"/>
                  <a:pt x="3047" y="10077"/>
                  <a:pt x="3051" y="10220"/>
                </a:cubicBezTo>
                <a:cubicBezTo>
                  <a:pt x="3051" y="10232"/>
                  <a:pt x="3051" y="10483"/>
                  <a:pt x="3051" y="10344"/>
                </a:cubicBezTo>
                <a:cubicBezTo>
                  <a:pt x="3051" y="10336"/>
                  <a:pt x="3051" y="10327"/>
                  <a:pt x="3051" y="10319"/>
                </a:cubicBezTo>
              </a:path>
              <a:path w="3176" h="1192">
                <a:moveTo>
                  <a:pt x="3175" y="10071"/>
                </a:moveTo>
                <a:cubicBezTo>
                  <a:pt x="3258" y="10071"/>
                  <a:pt x="3291" y="10099"/>
                  <a:pt x="3373" y="10071"/>
                </a:cubicBezTo>
                <a:cubicBezTo>
                  <a:pt x="3423" y="10054"/>
                  <a:pt x="3538" y="10027"/>
                  <a:pt x="3572" y="9996"/>
                </a:cubicBezTo>
                <a:cubicBezTo>
                  <a:pt x="3610" y="9961"/>
                  <a:pt x="3639" y="9889"/>
                  <a:pt x="3671" y="9847"/>
                </a:cubicBezTo>
                <a:cubicBezTo>
                  <a:pt x="3679" y="9839"/>
                  <a:pt x="3688" y="9831"/>
                  <a:pt x="3696" y="9823"/>
                </a:cubicBezTo>
                <a:cubicBezTo>
                  <a:pt x="3640" y="9745"/>
                  <a:pt x="3604" y="9710"/>
                  <a:pt x="3497" y="9723"/>
                </a:cubicBezTo>
                <a:cubicBezTo>
                  <a:pt x="3468" y="9727"/>
                  <a:pt x="3342" y="9803"/>
                  <a:pt x="3324" y="9823"/>
                </a:cubicBezTo>
                <a:cubicBezTo>
                  <a:pt x="3278" y="9872"/>
                  <a:pt x="3260" y="9981"/>
                  <a:pt x="3274" y="10046"/>
                </a:cubicBezTo>
                <a:cubicBezTo>
                  <a:pt x="3290" y="10117"/>
                  <a:pt x="3390" y="10250"/>
                  <a:pt x="3448" y="10294"/>
                </a:cubicBezTo>
                <a:cubicBezTo>
                  <a:pt x="3556" y="10375"/>
                  <a:pt x="3698" y="10417"/>
                  <a:pt x="3820" y="10468"/>
                </a:cubicBezTo>
                <a:cubicBezTo>
                  <a:pt x="3997" y="10541"/>
                  <a:pt x="4199" y="10562"/>
                  <a:pt x="4390" y="10567"/>
                </a:cubicBezTo>
                <a:cubicBezTo>
                  <a:pt x="4558" y="10571"/>
                  <a:pt x="4723" y="10573"/>
                  <a:pt x="4887" y="105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7"/>
          <p:cNvSpPr/>
          <p:nvPr/>
        </p:nvSpPr>
        <p:spPr>
          <a:xfrm>
            <a:off x="2367000" y="3463920"/>
            <a:ext cx="571320" cy="341280"/>
          </a:xfrm>
          <a:custGeom>
            <a:avLst/>
            <a:gdLst/>
            <a:ahLst/>
            <a:rect l="l" t="t" r="r" b="b"/>
            <a:pathLst>
              <a:path w="1589" h="944">
                <a:moveTo>
                  <a:pt x="6573" y="9699"/>
                </a:moveTo>
                <a:cubicBezTo>
                  <a:pt x="6627" y="9751"/>
                  <a:pt x="6656" y="9751"/>
                  <a:pt x="6722" y="9773"/>
                </a:cubicBezTo>
                <a:cubicBezTo>
                  <a:pt x="6824" y="9807"/>
                  <a:pt x="6935" y="9818"/>
                  <a:pt x="7045" y="9823"/>
                </a:cubicBezTo>
                <a:cubicBezTo>
                  <a:pt x="7105" y="9826"/>
                  <a:pt x="7157" y="9804"/>
                  <a:pt x="7218" y="9798"/>
                </a:cubicBezTo>
              </a:path>
              <a:path w="1589" h="944">
                <a:moveTo>
                  <a:pt x="7342" y="9624"/>
                </a:moveTo>
                <a:cubicBezTo>
                  <a:pt x="7425" y="9624"/>
                  <a:pt x="7485" y="9624"/>
                  <a:pt x="7565" y="9649"/>
                </a:cubicBezTo>
                <a:cubicBezTo>
                  <a:pt x="7632" y="9671"/>
                  <a:pt x="7650" y="9676"/>
                  <a:pt x="7689" y="9699"/>
                </a:cubicBezTo>
                <a:cubicBezTo>
                  <a:pt x="7677" y="9783"/>
                  <a:pt x="7657" y="9774"/>
                  <a:pt x="7590" y="9823"/>
                </a:cubicBezTo>
                <a:cubicBezTo>
                  <a:pt x="7563" y="9843"/>
                  <a:pt x="7540" y="9873"/>
                  <a:pt x="7516" y="9897"/>
                </a:cubicBezTo>
                <a:cubicBezTo>
                  <a:pt x="7568" y="9970"/>
                  <a:pt x="7624" y="9982"/>
                  <a:pt x="7714" y="9996"/>
                </a:cubicBezTo>
                <a:cubicBezTo>
                  <a:pt x="7800" y="10010"/>
                  <a:pt x="7884" y="10026"/>
                  <a:pt x="7962" y="10071"/>
                </a:cubicBezTo>
                <a:cubicBezTo>
                  <a:pt x="8021" y="10105"/>
                  <a:pt x="8097" y="10161"/>
                  <a:pt x="8136" y="10220"/>
                </a:cubicBezTo>
                <a:cubicBezTo>
                  <a:pt x="8187" y="10297"/>
                  <a:pt x="8147" y="10325"/>
                  <a:pt x="8111" y="10393"/>
                </a:cubicBezTo>
                <a:cubicBezTo>
                  <a:pt x="8063" y="10482"/>
                  <a:pt x="8006" y="10507"/>
                  <a:pt x="7913" y="10542"/>
                </a:cubicBezTo>
                <a:cubicBezTo>
                  <a:pt x="7816" y="10579"/>
                  <a:pt x="7717" y="10567"/>
                  <a:pt x="7615" y="10567"/>
                </a:cubicBezTo>
                <a:cubicBezTo>
                  <a:pt x="7530" y="10567"/>
                  <a:pt x="7436" y="10584"/>
                  <a:pt x="7367" y="105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8"/>
          <p:cNvSpPr/>
          <p:nvPr/>
        </p:nvSpPr>
        <p:spPr>
          <a:xfrm>
            <a:off x="4894200" y="2705040"/>
            <a:ext cx="749520" cy="1189080"/>
          </a:xfrm>
          <a:custGeom>
            <a:avLst/>
            <a:gdLst/>
            <a:ahLst/>
            <a:rect l="l" t="t" r="r" b="b"/>
            <a:pathLst>
              <a:path w="2085" h="3300">
                <a:moveTo>
                  <a:pt x="13593" y="7516"/>
                </a:moveTo>
                <a:cubicBezTo>
                  <a:pt x="13635" y="7568"/>
                  <a:pt x="13706" y="7637"/>
                  <a:pt x="13742" y="7739"/>
                </a:cubicBezTo>
                <a:cubicBezTo>
                  <a:pt x="13784" y="7859"/>
                  <a:pt x="13859" y="7945"/>
                  <a:pt x="13915" y="8062"/>
                </a:cubicBezTo>
                <a:cubicBezTo>
                  <a:pt x="14010" y="8262"/>
                  <a:pt x="14141" y="8430"/>
                  <a:pt x="14263" y="8607"/>
                </a:cubicBezTo>
                <a:cubicBezTo>
                  <a:pt x="14385" y="8783"/>
                  <a:pt x="14512" y="8954"/>
                  <a:pt x="14635" y="9128"/>
                </a:cubicBezTo>
                <a:cubicBezTo>
                  <a:pt x="14773" y="9323"/>
                  <a:pt x="14900" y="9525"/>
                  <a:pt x="15032" y="9723"/>
                </a:cubicBezTo>
                <a:cubicBezTo>
                  <a:pt x="15162" y="9918"/>
                  <a:pt x="15285" y="10126"/>
                  <a:pt x="15404" y="10319"/>
                </a:cubicBezTo>
                <a:cubicBezTo>
                  <a:pt x="15464" y="10416"/>
                  <a:pt x="15548" y="10519"/>
                  <a:pt x="15602" y="10616"/>
                </a:cubicBezTo>
                <a:cubicBezTo>
                  <a:pt x="15633" y="10672"/>
                  <a:pt x="15651" y="10806"/>
                  <a:pt x="15652" y="108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9"/>
          <p:cNvSpPr/>
          <p:nvPr/>
        </p:nvSpPr>
        <p:spPr>
          <a:xfrm>
            <a:off x="2000160" y="4054320"/>
            <a:ext cx="2830680" cy="812880"/>
          </a:xfrm>
          <a:custGeom>
            <a:avLst/>
            <a:gdLst/>
            <a:ahLst/>
            <a:rect l="l" t="t" r="r" b="b"/>
            <a:pathLst>
              <a:path w="7864" h="2259">
                <a:moveTo>
                  <a:pt x="7020" y="11435"/>
                </a:moveTo>
                <a:cubicBezTo>
                  <a:pt x="7020" y="11567"/>
                  <a:pt x="7028" y="11680"/>
                  <a:pt x="7045" y="11807"/>
                </a:cubicBezTo>
                <a:cubicBezTo>
                  <a:pt x="7059" y="11912"/>
                  <a:pt x="7066" y="12024"/>
                  <a:pt x="7069" y="12129"/>
                </a:cubicBezTo>
                <a:cubicBezTo>
                  <a:pt x="7072" y="12231"/>
                  <a:pt x="7094" y="12324"/>
                  <a:pt x="7094" y="12427"/>
                </a:cubicBezTo>
                <a:cubicBezTo>
                  <a:pt x="7094" y="12454"/>
                  <a:pt x="7112" y="12661"/>
                  <a:pt x="7119" y="12526"/>
                </a:cubicBezTo>
                <a:cubicBezTo>
                  <a:pt x="7119" y="12501"/>
                  <a:pt x="7119" y="12477"/>
                  <a:pt x="7119" y="12452"/>
                </a:cubicBezTo>
              </a:path>
              <a:path w="7864" h="2259">
                <a:moveTo>
                  <a:pt x="7342" y="11509"/>
                </a:moveTo>
                <a:lnTo>
                  <a:pt x="7342" y="11509"/>
                </a:lnTo>
              </a:path>
              <a:path w="7864" h="2259">
                <a:moveTo>
                  <a:pt x="5904" y="11931"/>
                </a:moveTo>
                <a:cubicBezTo>
                  <a:pt x="5952" y="11911"/>
                  <a:pt x="6031" y="11931"/>
                  <a:pt x="6102" y="11931"/>
                </a:cubicBezTo>
                <a:cubicBezTo>
                  <a:pt x="6185" y="11931"/>
                  <a:pt x="6235" y="11956"/>
                  <a:pt x="6325" y="11956"/>
                </a:cubicBezTo>
                <a:cubicBezTo>
                  <a:pt x="6403" y="11956"/>
                  <a:pt x="6503" y="11963"/>
                  <a:pt x="6573" y="11931"/>
                </a:cubicBezTo>
                <a:cubicBezTo>
                  <a:pt x="6596" y="11908"/>
                  <a:pt x="6600" y="11900"/>
                  <a:pt x="6623" y="11906"/>
                </a:cubicBezTo>
              </a:path>
              <a:path w="7864" h="2259">
                <a:moveTo>
                  <a:pt x="7789" y="11460"/>
                </a:moveTo>
                <a:cubicBezTo>
                  <a:pt x="7748" y="11419"/>
                  <a:pt x="7717" y="11389"/>
                  <a:pt x="7665" y="11361"/>
                </a:cubicBezTo>
                <a:cubicBezTo>
                  <a:pt x="7607" y="11331"/>
                  <a:pt x="7505" y="11304"/>
                  <a:pt x="7441" y="11311"/>
                </a:cubicBezTo>
                <a:cubicBezTo>
                  <a:pt x="7327" y="11324"/>
                  <a:pt x="7252" y="11359"/>
                  <a:pt x="7169" y="11435"/>
                </a:cubicBezTo>
                <a:cubicBezTo>
                  <a:pt x="7105" y="11494"/>
                  <a:pt x="7151" y="11545"/>
                  <a:pt x="7193" y="11584"/>
                </a:cubicBezTo>
                <a:cubicBezTo>
                  <a:pt x="7258" y="11645"/>
                  <a:pt x="7337" y="11668"/>
                  <a:pt x="7417" y="11708"/>
                </a:cubicBezTo>
                <a:cubicBezTo>
                  <a:pt x="7510" y="11754"/>
                  <a:pt x="7628" y="11802"/>
                  <a:pt x="7714" y="11857"/>
                </a:cubicBezTo>
                <a:cubicBezTo>
                  <a:pt x="7786" y="11902"/>
                  <a:pt x="7890" y="11984"/>
                  <a:pt x="7938" y="12055"/>
                </a:cubicBezTo>
                <a:cubicBezTo>
                  <a:pt x="7986" y="12125"/>
                  <a:pt x="7997" y="12149"/>
                  <a:pt x="7962" y="12229"/>
                </a:cubicBezTo>
                <a:cubicBezTo>
                  <a:pt x="7932" y="12298"/>
                  <a:pt x="7911" y="12349"/>
                  <a:pt x="7838" y="12378"/>
                </a:cubicBezTo>
                <a:cubicBezTo>
                  <a:pt x="7766" y="12407"/>
                  <a:pt x="7691" y="12448"/>
                  <a:pt x="7615" y="12452"/>
                </a:cubicBezTo>
                <a:cubicBezTo>
                  <a:pt x="7527" y="12457"/>
                  <a:pt x="7531" y="12433"/>
                  <a:pt x="7466" y="12402"/>
                </a:cubicBezTo>
                <a:cubicBezTo>
                  <a:pt x="7371" y="12357"/>
                  <a:pt x="7323" y="12331"/>
                  <a:pt x="7342" y="12204"/>
                </a:cubicBezTo>
                <a:cubicBezTo>
                  <a:pt x="7356" y="12111"/>
                  <a:pt x="7377" y="12049"/>
                  <a:pt x="7441" y="11981"/>
                </a:cubicBezTo>
                <a:cubicBezTo>
                  <a:pt x="7529" y="11888"/>
                  <a:pt x="7583" y="11746"/>
                  <a:pt x="7665" y="11658"/>
                </a:cubicBezTo>
                <a:cubicBezTo>
                  <a:pt x="7708" y="11612"/>
                  <a:pt x="7743" y="11528"/>
                  <a:pt x="7789" y="11485"/>
                </a:cubicBezTo>
                <a:cubicBezTo>
                  <a:pt x="7839" y="11438"/>
                  <a:pt x="7859" y="11412"/>
                  <a:pt x="7863" y="11336"/>
                </a:cubicBezTo>
                <a:cubicBezTo>
                  <a:pt x="7868" y="11249"/>
                  <a:pt x="7823" y="11250"/>
                  <a:pt x="7764" y="11286"/>
                </a:cubicBezTo>
              </a:path>
              <a:path w="7864" h="2259">
                <a:moveTo>
                  <a:pt x="5556" y="12824"/>
                </a:moveTo>
                <a:cubicBezTo>
                  <a:pt x="5665" y="12841"/>
                  <a:pt x="5768" y="12866"/>
                  <a:pt x="5879" y="12874"/>
                </a:cubicBezTo>
                <a:cubicBezTo>
                  <a:pt x="5987" y="12882"/>
                  <a:pt x="6093" y="12893"/>
                  <a:pt x="6201" y="12898"/>
                </a:cubicBezTo>
                <a:cubicBezTo>
                  <a:pt x="6433" y="12908"/>
                  <a:pt x="6665" y="12915"/>
                  <a:pt x="6896" y="12923"/>
                </a:cubicBezTo>
                <a:cubicBezTo>
                  <a:pt x="7424" y="12940"/>
                  <a:pt x="7956" y="12905"/>
                  <a:pt x="8483" y="12948"/>
                </a:cubicBezTo>
                <a:cubicBezTo>
                  <a:pt x="8722" y="12967"/>
                  <a:pt x="8964" y="12976"/>
                  <a:pt x="9203" y="12998"/>
                </a:cubicBezTo>
                <a:cubicBezTo>
                  <a:pt x="9691" y="13043"/>
                  <a:pt x="10188" y="13105"/>
                  <a:pt x="10666" y="13196"/>
                </a:cubicBezTo>
                <a:cubicBezTo>
                  <a:pt x="10891" y="13239"/>
                  <a:pt x="11108" y="13287"/>
                  <a:pt x="11336" y="13320"/>
                </a:cubicBezTo>
                <a:cubicBezTo>
                  <a:pt x="11552" y="13351"/>
                  <a:pt x="11765" y="13360"/>
                  <a:pt x="11981" y="13395"/>
                </a:cubicBezTo>
                <a:cubicBezTo>
                  <a:pt x="12301" y="13447"/>
                  <a:pt x="12627" y="13479"/>
                  <a:pt x="12948" y="13494"/>
                </a:cubicBezTo>
                <a:cubicBezTo>
                  <a:pt x="13032" y="13498"/>
                  <a:pt x="13194" y="13544"/>
                  <a:pt x="13271" y="13519"/>
                </a:cubicBezTo>
                <a:cubicBezTo>
                  <a:pt x="13409" y="13474"/>
                  <a:pt x="13290" y="13481"/>
                  <a:pt x="13419" y="13419"/>
                </a:cubicBezTo>
              </a:path>
              <a:path w="7864" h="2259">
                <a:moveTo>
                  <a:pt x="8830" y="11807"/>
                </a:moveTo>
                <a:cubicBezTo>
                  <a:pt x="8905" y="11839"/>
                  <a:pt x="8991" y="11832"/>
                  <a:pt x="9079" y="11832"/>
                </a:cubicBezTo>
                <a:cubicBezTo>
                  <a:pt x="9151" y="11832"/>
                  <a:pt x="9218" y="11846"/>
                  <a:pt x="9277" y="11857"/>
                </a:cubicBezTo>
                <a:cubicBezTo>
                  <a:pt x="9315" y="11864"/>
                  <a:pt x="9362" y="11857"/>
                  <a:pt x="9401" y="11857"/>
                </a:cubicBezTo>
              </a:path>
              <a:path w="7864" h="2259">
                <a:moveTo>
                  <a:pt x="8979" y="12030"/>
                </a:moveTo>
                <a:cubicBezTo>
                  <a:pt x="9103" y="12030"/>
                  <a:pt x="9227" y="12030"/>
                  <a:pt x="9351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10"/>
          <p:cNvSpPr/>
          <p:nvPr/>
        </p:nvSpPr>
        <p:spPr>
          <a:xfrm>
            <a:off x="4589640" y="2295360"/>
            <a:ext cx="428400" cy="196920"/>
          </a:xfrm>
          <a:custGeom>
            <a:avLst/>
            <a:gdLst/>
            <a:ahLst/>
            <a:rect l="l" t="t" r="r" b="b"/>
            <a:pathLst>
              <a:path w="1191" h="547">
                <a:moveTo>
                  <a:pt x="12750" y="6648"/>
                </a:moveTo>
                <a:cubicBezTo>
                  <a:pt x="12826" y="6626"/>
                  <a:pt x="12820" y="6640"/>
                  <a:pt x="12923" y="6648"/>
                </a:cubicBezTo>
              </a:path>
              <a:path w="1191" h="547">
                <a:moveTo>
                  <a:pt x="13866" y="6375"/>
                </a:moveTo>
                <a:cubicBezTo>
                  <a:pt x="13782" y="6375"/>
                  <a:pt x="13686" y="6359"/>
                  <a:pt x="13618" y="6400"/>
                </a:cubicBezTo>
                <a:cubicBezTo>
                  <a:pt x="13657" y="6469"/>
                  <a:pt x="13706" y="6529"/>
                  <a:pt x="13742" y="6598"/>
                </a:cubicBezTo>
                <a:cubicBezTo>
                  <a:pt x="13773" y="6656"/>
                  <a:pt x="13849" y="6753"/>
                  <a:pt x="13841" y="6821"/>
                </a:cubicBezTo>
                <a:cubicBezTo>
                  <a:pt x="13831" y="6914"/>
                  <a:pt x="13773" y="6903"/>
                  <a:pt x="13717" y="6896"/>
                </a:cubicBezTo>
                <a:cubicBezTo>
                  <a:pt x="13678" y="6831"/>
                  <a:pt x="13665" y="6799"/>
                  <a:pt x="13692" y="6722"/>
                </a:cubicBezTo>
                <a:cubicBezTo>
                  <a:pt x="13710" y="6672"/>
                  <a:pt x="13744" y="6603"/>
                  <a:pt x="13791" y="6573"/>
                </a:cubicBezTo>
                <a:cubicBezTo>
                  <a:pt x="13848" y="6536"/>
                  <a:pt x="13913" y="6529"/>
                  <a:pt x="13940" y="64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11"/>
          <p:cNvSpPr/>
          <p:nvPr/>
        </p:nvSpPr>
        <p:spPr>
          <a:xfrm>
            <a:off x="3527280" y="3330720"/>
            <a:ext cx="982800" cy="536400"/>
          </a:xfrm>
          <a:custGeom>
            <a:avLst/>
            <a:gdLst/>
            <a:ahLst/>
            <a:rect l="l" t="t" r="r" b="b"/>
            <a:pathLst>
              <a:path w="2729" h="1489">
                <a:moveTo>
                  <a:pt x="9798" y="9699"/>
                </a:moveTo>
                <a:cubicBezTo>
                  <a:pt x="9904" y="9699"/>
                  <a:pt x="9992" y="9719"/>
                  <a:pt x="10096" y="9723"/>
                </a:cubicBezTo>
                <a:cubicBezTo>
                  <a:pt x="10196" y="9727"/>
                  <a:pt x="10289" y="9748"/>
                  <a:pt x="10393" y="9748"/>
                </a:cubicBezTo>
                <a:cubicBezTo>
                  <a:pt x="10542" y="9748"/>
                  <a:pt x="10697" y="9766"/>
                  <a:pt x="10840" y="9723"/>
                </a:cubicBezTo>
                <a:cubicBezTo>
                  <a:pt x="10865" y="9715"/>
                  <a:pt x="10889" y="9707"/>
                  <a:pt x="10914" y="9699"/>
                </a:cubicBezTo>
              </a:path>
              <a:path w="2729" h="1489">
                <a:moveTo>
                  <a:pt x="11435" y="9401"/>
                </a:moveTo>
                <a:cubicBezTo>
                  <a:pt x="11378" y="9349"/>
                  <a:pt x="11296" y="9267"/>
                  <a:pt x="11212" y="9252"/>
                </a:cubicBezTo>
                <a:cubicBezTo>
                  <a:pt x="11105" y="9233"/>
                  <a:pt x="10962" y="9244"/>
                  <a:pt x="10864" y="9277"/>
                </a:cubicBezTo>
                <a:cubicBezTo>
                  <a:pt x="10766" y="9310"/>
                  <a:pt x="10686" y="9387"/>
                  <a:pt x="10716" y="9500"/>
                </a:cubicBezTo>
                <a:cubicBezTo>
                  <a:pt x="10744" y="9604"/>
                  <a:pt x="10800" y="9611"/>
                  <a:pt x="10889" y="9649"/>
                </a:cubicBezTo>
                <a:cubicBezTo>
                  <a:pt x="10944" y="9673"/>
                  <a:pt x="11052" y="9716"/>
                  <a:pt x="11112" y="9699"/>
                </a:cubicBezTo>
                <a:cubicBezTo>
                  <a:pt x="11193" y="9676"/>
                  <a:pt x="11275" y="9664"/>
                  <a:pt x="11311" y="9575"/>
                </a:cubicBezTo>
                <a:cubicBezTo>
                  <a:pt x="11339" y="9506"/>
                  <a:pt x="11383" y="9405"/>
                  <a:pt x="11361" y="9327"/>
                </a:cubicBezTo>
                <a:cubicBezTo>
                  <a:pt x="11353" y="9310"/>
                  <a:pt x="11344" y="9294"/>
                  <a:pt x="11336" y="9277"/>
                </a:cubicBezTo>
                <a:cubicBezTo>
                  <a:pt x="11287" y="9338"/>
                  <a:pt x="11272" y="9394"/>
                  <a:pt x="11286" y="9475"/>
                </a:cubicBezTo>
                <a:cubicBezTo>
                  <a:pt x="11310" y="9614"/>
                  <a:pt x="11344" y="9759"/>
                  <a:pt x="11361" y="9897"/>
                </a:cubicBezTo>
                <a:cubicBezTo>
                  <a:pt x="11375" y="10011"/>
                  <a:pt x="11413" y="10109"/>
                  <a:pt x="11435" y="10220"/>
                </a:cubicBezTo>
                <a:cubicBezTo>
                  <a:pt x="11440" y="10246"/>
                  <a:pt x="11452" y="10412"/>
                  <a:pt x="11485" y="10344"/>
                </a:cubicBezTo>
                <a:cubicBezTo>
                  <a:pt x="11493" y="10319"/>
                  <a:pt x="11501" y="10294"/>
                  <a:pt x="11509" y="10269"/>
                </a:cubicBezTo>
              </a:path>
              <a:path w="2729" h="1489">
                <a:moveTo>
                  <a:pt x="11782" y="10046"/>
                </a:moveTo>
                <a:cubicBezTo>
                  <a:pt x="11852" y="10020"/>
                  <a:pt x="11933" y="10007"/>
                  <a:pt x="12005" y="9996"/>
                </a:cubicBezTo>
                <a:cubicBezTo>
                  <a:pt x="12075" y="9985"/>
                  <a:pt x="12143" y="9964"/>
                  <a:pt x="12204" y="9922"/>
                </a:cubicBezTo>
                <a:cubicBezTo>
                  <a:pt x="12249" y="9891"/>
                  <a:pt x="12317" y="9833"/>
                  <a:pt x="12303" y="9773"/>
                </a:cubicBezTo>
                <a:cubicBezTo>
                  <a:pt x="12282" y="9686"/>
                  <a:pt x="12225" y="9699"/>
                  <a:pt x="12154" y="9699"/>
                </a:cubicBezTo>
                <a:cubicBezTo>
                  <a:pt x="12055" y="9699"/>
                  <a:pt x="11961" y="9799"/>
                  <a:pt x="11881" y="9872"/>
                </a:cubicBezTo>
                <a:cubicBezTo>
                  <a:pt x="11823" y="9925"/>
                  <a:pt x="11794" y="10085"/>
                  <a:pt x="11782" y="10170"/>
                </a:cubicBezTo>
                <a:cubicBezTo>
                  <a:pt x="11771" y="10250"/>
                  <a:pt x="11813" y="10400"/>
                  <a:pt x="11857" y="10468"/>
                </a:cubicBezTo>
                <a:cubicBezTo>
                  <a:pt x="11947" y="10607"/>
                  <a:pt x="12071" y="10698"/>
                  <a:pt x="12229" y="10740"/>
                </a:cubicBezTo>
                <a:cubicBezTo>
                  <a:pt x="12287" y="10755"/>
                  <a:pt x="12383" y="10751"/>
                  <a:pt x="12427" y="10716"/>
                </a:cubicBezTo>
                <a:cubicBezTo>
                  <a:pt x="12500" y="10658"/>
                  <a:pt x="12546" y="10660"/>
                  <a:pt x="12477" y="105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12"/>
          <p:cNvSpPr/>
          <p:nvPr/>
        </p:nvSpPr>
        <p:spPr>
          <a:xfrm>
            <a:off x="3973680" y="4197240"/>
            <a:ext cx="642600" cy="1036800"/>
          </a:xfrm>
          <a:custGeom>
            <a:avLst/>
            <a:gdLst/>
            <a:ahLst/>
            <a:rect l="l" t="t" r="r" b="b"/>
            <a:pathLst>
              <a:path w="1787" h="2879">
                <a:moveTo>
                  <a:pt x="11088" y="11708"/>
                </a:moveTo>
                <a:cubicBezTo>
                  <a:pt x="11172" y="11644"/>
                  <a:pt x="11272" y="11640"/>
                  <a:pt x="11385" y="11658"/>
                </a:cubicBezTo>
                <a:cubicBezTo>
                  <a:pt x="11485" y="11674"/>
                  <a:pt x="11542" y="11739"/>
                  <a:pt x="11609" y="11807"/>
                </a:cubicBezTo>
                <a:cubicBezTo>
                  <a:pt x="11674" y="11873"/>
                  <a:pt x="11694" y="11915"/>
                  <a:pt x="11708" y="12005"/>
                </a:cubicBezTo>
                <a:cubicBezTo>
                  <a:pt x="11716" y="12056"/>
                  <a:pt x="11671" y="12168"/>
                  <a:pt x="11633" y="12204"/>
                </a:cubicBezTo>
                <a:cubicBezTo>
                  <a:pt x="11570" y="12263"/>
                  <a:pt x="11459" y="12332"/>
                  <a:pt x="11385" y="12378"/>
                </a:cubicBezTo>
                <a:cubicBezTo>
                  <a:pt x="11369" y="12386"/>
                  <a:pt x="11352" y="12394"/>
                  <a:pt x="11336" y="12402"/>
                </a:cubicBezTo>
                <a:cubicBezTo>
                  <a:pt x="11382" y="12467"/>
                  <a:pt x="11423" y="12479"/>
                  <a:pt x="11485" y="12526"/>
                </a:cubicBezTo>
                <a:cubicBezTo>
                  <a:pt x="11564" y="12585"/>
                  <a:pt x="11607" y="12628"/>
                  <a:pt x="11658" y="12700"/>
                </a:cubicBezTo>
                <a:cubicBezTo>
                  <a:pt x="11676" y="12726"/>
                  <a:pt x="11817" y="12906"/>
                  <a:pt x="11807" y="12948"/>
                </a:cubicBezTo>
                <a:cubicBezTo>
                  <a:pt x="11792" y="13013"/>
                  <a:pt x="11734" y="13129"/>
                  <a:pt x="11658" y="13146"/>
                </a:cubicBezTo>
                <a:cubicBezTo>
                  <a:pt x="11590" y="13162"/>
                  <a:pt x="11503" y="13187"/>
                  <a:pt x="11435" y="13196"/>
                </a:cubicBezTo>
                <a:cubicBezTo>
                  <a:pt x="11348" y="13207"/>
                  <a:pt x="11229" y="13171"/>
                  <a:pt x="11212" y="13097"/>
                </a:cubicBezTo>
                <a:cubicBezTo>
                  <a:pt x="11212" y="13080"/>
                  <a:pt x="11212" y="13064"/>
                  <a:pt x="11212" y="13047"/>
                </a:cubicBezTo>
              </a:path>
              <a:path w="1787" h="2879">
                <a:moveTo>
                  <a:pt x="11981" y="12502"/>
                </a:moveTo>
                <a:cubicBezTo>
                  <a:pt x="12075" y="12491"/>
                  <a:pt x="12164" y="12442"/>
                  <a:pt x="12254" y="12427"/>
                </a:cubicBezTo>
                <a:cubicBezTo>
                  <a:pt x="12338" y="12413"/>
                  <a:pt x="12421" y="12399"/>
                  <a:pt x="12502" y="12378"/>
                </a:cubicBezTo>
                <a:cubicBezTo>
                  <a:pt x="12614" y="12349"/>
                  <a:pt x="12588" y="12331"/>
                  <a:pt x="12626" y="12254"/>
                </a:cubicBezTo>
                <a:cubicBezTo>
                  <a:pt x="12661" y="12182"/>
                  <a:pt x="12650" y="12126"/>
                  <a:pt x="12601" y="12055"/>
                </a:cubicBezTo>
                <a:cubicBezTo>
                  <a:pt x="12534" y="11959"/>
                  <a:pt x="12393" y="11988"/>
                  <a:pt x="12303" y="12005"/>
                </a:cubicBezTo>
                <a:cubicBezTo>
                  <a:pt x="12198" y="12025"/>
                  <a:pt x="12134" y="12119"/>
                  <a:pt x="12080" y="12204"/>
                </a:cubicBezTo>
                <a:cubicBezTo>
                  <a:pt x="12031" y="12281"/>
                  <a:pt x="12013" y="12413"/>
                  <a:pt x="12005" y="12502"/>
                </a:cubicBezTo>
                <a:cubicBezTo>
                  <a:pt x="11997" y="12589"/>
                  <a:pt x="12022" y="12754"/>
                  <a:pt x="12080" y="12824"/>
                </a:cubicBezTo>
                <a:cubicBezTo>
                  <a:pt x="12331" y="13126"/>
                  <a:pt x="12301" y="13072"/>
                  <a:pt x="12576" y="13171"/>
                </a:cubicBezTo>
                <a:cubicBezTo>
                  <a:pt x="12636" y="13193"/>
                  <a:pt x="12742" y="13228"/>
                  <a:pt x="12799" y="13171"/>
                </a:cubicBezTo>
                <a:cubicBezTo>
                  <a:pt x="12807" y="13155"/>
                  <a:pt x="12816" y="13138"/>
                  <a:pt x="12824" y="13122"/>
                </a:cubicBezTo>
              </a:path>
              <a:path w="1787" h="2879">
                <a:moveTo>
                  <a:pt x="11261" y="13568"/>
                </a:moveTo>
                <a:cubicBezTo>
                  <a:pt x="11261" y="13519"/>
                  <a:pt x="11261" y="13502"/>
                  <a:pt x="11261" y="13469"/>
                </a:cubicBezTo>
                <a:cubicBezTo>
                  <a:pt x="11341" y="13460"/>
                  <a:pt x="11426" y="13427"/>
                  <a:pt x="11509" y="13444"/>
                </a:cubicBezTo>
                <a:cubicBezTo>
                  <a:pt x="11591" y="13461"/>
                  <a:pt x="11687" y="13465"/>
                  <a:pt x="11757" y="13519"/>
                </a:cubicBezTo>
                <a:cubicBezTo>
                  <a:pt x="11834" y="13578"/>
                  <a:pt x="11887" y="13652"/>
                  <a:pt x="11832" y="13742"/>
                </a:cubicBezTo>
                <a:cubicBezTo>
                  <a:pt x="11802" y="13790"/>
                  <a:pt x="11661" y="13810"/>
                  <a:pt x="11609" y="13816"/>
                </a:cubicBezTo>
                <a:cubicBezTo>
                  <a:pt x="11584" y="13816"/>
                  <a:pt x="11559" y="13816"/>
                  <a:pt x="11534" y="13816"/>
                </a:cubicBezTo>
                <a:cubicBezTo>
                  <a:pt x="11586" y="13868"/>
                  <a:pt x="11643" y="13903"/>
                  <a:pt x="11708" y="13940"/>
                </a:cubicBezTo>
                <a:cubicBezTo>
                  <a:pt x="11792" y="13988"/>
                  <a:pt x="11871" y="14034"/>
                  <a:pt x="11931" y="14114"/>
                </a:cubicBezTo>
                <a:cubicBezTo>
                  <a:pt x="11976" y="14173"/>
                  <a:pt x="11999" y="14263"/>
                  <a:pt x="11981" y="14337"/>
                </a:cubicBezTo>
                <a:cubicBezTo>
                  <a:pt x="11964" y="14407"/>
                  <a:pt x="11907" y="14424"/>
                  <a:pt x="11857" y="14461"/>
                </a:cubicBezTo>
                <a:cubicBezTo>
                  <a:pt x="11800" y="14504"/>
                  <a:pt x="11730" y="14534"/>
                  <a:pt x="11658" y="14536"/>
                </a:cubicBezTo>
                <a:cubicBezTo>
                  <a:pt x="11509" y="14540"/>
                  <a:pt x="11423" y="14527"/>
                  <a:pt x="11286" y="14486"/>
                </a:cubicBezTo>
                <a:cubicBezTo>
                  <a:pt x="11196" y="14459"/>
                  <a:pt x="11124" y="14423"/>
                  <a:pt x="11038" y="143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13"/>
          <p:cNvSpPr/>
          <p:nvPr/>
        </p:nvSpPr>
        <p:spPr>
          <a:xfrm>
            <a:off x="2232000" y="5126040"/>
            <a:ext cx="1859040" cy="768240"/>
          </a:xfrm>
          <a:custGeom>
            <a:avLst/>
            <a:gdLst/>
            <a:ahLst/>
            <a:rect l="l" t="t" r="r" b="b"/>
            <a:pathLst>
              <a:path w="5161" h="2134">
                <a:moveTo>
                  <a:pt x="6598" y="15032"/>
                </a:moveTo>
                <a:cubicBezTo>
                  <a:pt x="6670" y="15023"/>
                  <a:pt x="6749" y="15022"/>
                  <a:pt x="6821" y="15007"/>
                </a:cubicBezTo>
                <a:cubicBezTo>
                  <a:pt x="6911" y="14988"/>
                  <a:pt x="6976" y="14982"/>
                  <a:pt x="7069" y="14982"/>
                </a:cubicBezTo>
                <a:cubicBezTo>
                  <a:pt x="7149" y="14982"/>
                  <a:pt x="7335" y="15008"/>
                  <a:pt x="7317" y="14957"/>
                </a:cubicBezTo>
              </a:path>
              <a:path w="5161" h="2134">
                <a:moveTo>
                  <a:pt x="8037" y="14560"/>
                </a:moveTo>
                <a:cubicBezTo>
                  <a:pt x="7998" y="14622"/>
                  <a:pt x="7947" y="14669"/>
                  <a:pt x="7913" y="14734"/>
                </a:cubicBezTo>
                <a:cubicBezTo>
                  <a:pt x="7865" y="14826"/>
                  <a:pt x="7806" y="14913"/>
                  <a:pt x="7764" y="15007"/>
                </a:cubicBezTo>
                <a:cubicBezTo>
                  <a:pt x="7723" y="15099"/>
                  <a:pt x="7719" y="15252"/>
                  <a:pt x="7739" y="15354"/>
                </a:cubicBezTo>
                <a:cubicBezTo>
                  <a:pt x="7751" y="15414"/>
                  <a:pt x="7876" y="15539"/>
                  <a:pt x="7938" y="15553"/>
                </a:cubicBezTo>
                <a:cubicBezTo>
                  <a:pt x="8012" y="15570"/>
                  <a:pt x="8094" y="15551"/>
                  <a:pt x="8161" y="15528"/>
                </a:cubicBezTo>
                <a:cubicBezTo>
                  <a:pt x="8263" y="15492"/>
                  <a:pt x="8296" y="15450"/>
                  <a:pt x="8359" y="15354"/>
                </a:cubicBezTo>
                <a:cubicBezTo>
                  <a:pt x="8405" y="15283"/>
                  <a:pt x="8384" y="15256"/>
                  <a:pt x="8334" y="15205"/>
                </a:cubicBezTo>
                <a:cubicBezTo>
                  <a:pt x="8279" y="15149"/>
                  <a:pt x="8256" y="15145"/>
                  <a:pt x="8186" y="15180"/>
                </a:cubicBezTo>
                <a:cubicBezTo>
                  <a:pt x="8107" y="15219"/>
                  <a:pt x="8077" y="15293"/>
                  <a:pt x="8062" y="15379"/>
                </a:cubicBezTo>
                <a:cubicBezTo>
                  <a:pt x="8053" y="15433"/>
                  <a:pt x="8065" y="15531"/>
                  <a:pt x="8086" y="15577"/>
                </a:cubicBezTo>
                <a:cubicBezTo>
                  <a:pt x="8115" y="15639"/>
                  <a:pt x="8204" y="15642"/>
                  <a:pt x="8260" y="15627"/>
                </a:cubicBezTo>
                <a:cubicBezTo>
                  <a:pt x="8277" y="15619"/>
                  <a:pt x="8293" y="15610"/>
                  <a:pt x="8310" y="15602"/>
                </a:cubicBezTo>
              </a:path>
              <a:path w="5161" h="2134">
                <a:moveTo>
                  <a:pt x="9054" y="14932"/>
                </a:moveTo>
                <a:cubicBezTo>
                  <a:pt x="9216" y="14932"/>
                  <a:pt x="9368" y="14934"/>
                  <a:pt x="9525" y="14957"/>
                </a:cubicBezTo>
                <a:cubicBezTo>
                  <a:pt x="9589" y="14966"/>
                  <a:pt x="9658" y="14957"/>
                  <a:pt x="9723" y="14957"/>
                </a:cubicBezTo>
              </a:path>
              <a:path w="5161" h="2134">
                <a:moveTo>
                  <a:pt x="9252" y="15180"/>
                </a:moveTo>
                <a:cubicBezTo>
                  <a:pt x="9492" y="15180"/>
                  <a:pt x="9731" y="15180"/>
                  <a:pt x="9971" y="15180"/>
                </a:cubicBezTo>
              </a:path>
              <a:path w="5161" h="2134">
                <a:moveTo>
                  <a:pt x="10344" y="15106"/>
                </a:moveTo>
                <a:cubicBezTo>
                  <a:pt x="10454" y="15093"/>
                  <a:pt x="10615" y="15097"/>
                  <a:pt x="10716" y="15032"/>
                </a:cubicBezTo>
                <a:cubicBezTo>
                  <a:pt x="10742" y="15015"/>
                  <a:pt x="10768" y="14979"/>
                  <a:pt x="10790" y="14957"/>
                </a:cubicBezTo>
                <a:cubicBezTo>
                  <a:pt x="10778" y="14917"/>
                  <a:pt x="10724" y="14823"/>
                  <a:pt x="10666" y="14808"/>
                </a:cubicBezTo>
                <a:cubicBezTo>
                  <a:pt x="10566" y="14783"/>
                  <a:pt x="10448" y="14823"/>
                  <a:pt x="10368" y="14883"/>
                </a:cubicBezTo>
                <a:cubicBezTo>
                  <a:pt x="10290" y="14941"/>
                  <a:pt x="10241" y="14993"/>
                  <a:pt x="10195" y="15081"/>
                </a:cubicBezTo>
                <a:cubicBezTo>
                  <a:pt x="10152" y="15163"/>
                  <a:pt x="10145" y="15239"/>
                  <a:pt x="10145" y="15329"/>
                </a:cubicBezTo>
                <a:cubicBezTo>
                  <a:pt x="10145" y="15477"/>
                  <a:pt x="10196" y="15550"/>
                  <a:pt x="10319" y="15627"/>
                </a:cubicBezTo>
                <a:cubicBezTo>
                  <a:pt x="10385" y="15668"/>
                  <a:pt x="10447" y="15714"/>
                  <a:pt x="10517" y="15751"/>
                </a:cubicBezTo>
                <a:cubicBezTo>
                  <a:pt x="10562" y="15775"/>
                  <a:pt x="10665" y="15798"/>
                  <a:pt x="10716" y="15776"/>
                </a:cubicBezTo>
                <a:cubicBezTo>
                  <a:pt x="10779" y="15734"/>
                  <a:pt x="10804" y="15730"/>
                  <a:pt x="10790" y="15677"/>
                </a:cubicBezTo>
              </a:path>
              <a:path w="5161" h="2134">
                <a:moveTo>
                  <a:pt x="11311" y="15255"/>
                </a:moveTo>
                <a:cubicBezTo>
                  <a:pt x="11351" y="15111"/>
                  <a:pt x="11377" y="15045"/>
                  <a:pt x="11286" y="14908"/>
                </a:cubicBezTo>
                <a:cubicBezTo>
                  <a:pt x="11247" y="14849"/>
                  <a:pt x="11194" y="14807"/>
                  <a:pt x="11137" y="14759"/>
                </a:cubicBezTo>
                <a:cubicBezTo>
                  <a:pt x="11063" y="14697"/>
                  <a:pt x="10988" y="14634"/>
                  <a:pt x="10914" y="14585"/>
                </a:cubicBezTo>
                <a:cubicBezTo>
                  <a:pt x="10764" y="14486"/>
                  <a:pt x="10565" y="14406"/>
                  <a:pt x="10393" y="14362"/>
                </a:cubicBezTo>
                <a:cubicBezTo>
                  <a:pt x="10316" y="14342"/>
                  <a:pt x="10223" y="14328"/>
                  <a:pt x="10145" y="14312"/>
                </a:cubicBezTo>
                <a:cubicBezTo>
                  <a:pt x="10063" y="14295"/>
                  <a:pt x="9980" y="14298"/>
                  <a:pt x="9897" y="14288"/>
                </a:cubicBezTo>
                <a:cubicBezTo>
                  <a:pt x="9804" y="14277"/>
                  <a:pt x="9691" y="14244"/>
                  <a:pt x="9599" y="14238"/>
                </a:cubicBezTo>
                <a:cubicBezTo>
                  <a:pt x="9158" y="14209"/>
                  <a:pt x="8692" y="14238"/>
                  <a:pt x="8260" y="14263"/>
                </a:cubicBezTo>
                <a:cubicBezTo>
                  <a:pt x="8171" y="14268"/>
                  <a:pt x="8097" y="14276"/>
                  <a:pt x="8012" y="14288"/>
                </a:cubicBezTo>
                <a:cubicBezTo>
                  <a:pt x="7935" y="14299"/>
                  <a:pt x="7870" y="14300"/>
                  <a:pt x="7789" y="14312"/>
                </a:cubicBezTo>
                <a:cubicBezTo>
                  <a:pt x="7677" y="14328"/>
                  <a:pt x="7560" y="14354"/>
                  <a:pt x="7441" y="14362"/>
                </a:cubicBezTo>
                <a:cubicBezTo>
                  <a:pt x="7335" y="14369"/>
                  <a:pt x="7218" y="14381"/>
                  <a:pt x="7119" y="14387"/>
                </a:cubicBezTo>
                <a:cubicBezTo>
                  <a:pt x="7010" y="14394"/>
                  <a:pt x="6903" y="14393"/>
                  <a:pt x="6796" y="14412"/>
                </a:cubicBezTo>
                <a:cubicBezTo>
                  <a:pt x="6690" y="14431"/>
                  <a:pt x="6548" y="14459"/>
                  <a:pt x="6449" y="14511"/>
                </a:cubicBezTo>
                <a:cubicBezTo>
                  <a:pt x="6377" y="14549"/>
                  <a:pt x="6378" y="14584"/>
                  <a:pt x="6325" y="14635"/>
                </a:cubicBezTo>
                <a:cubicBezTo>
                  <a:pt x="6260" y="14698"/>
                  <a:pt x="6252" y="14709"/>
                  <a:pt x="6226" y="14784"/>
                </a:cubicBezTo>
                <a:cubicBezTo>
                  <a:pt x="6200" y="14860"/>
                  <a:pt x="6180" y="14976"/>
                  <a:pt x="6201" y="15056"/>
                </a:cubicBezTo>
                <a:cubicBezTo>
                  <a:pt x="6230" y="15165"/>
                  <a:pt x="6334" y="15249"/>
                  <a:pt x="6400" y="15329"/>
                </a:cubicBezTo>
                <a:cubicBezTo>
                  <a:pt x="6466" y="15409"/>
                  <a:pt x="6519" y="15462"/>
                  <a:pt x="6598" y="15528"/>
                </a:cubicBezTo>
                <a:cubicBezTo>
                  <a:pt x="6693" y="15607"/>
                  <a:pt x="6794" y="15655"/>
                  <a:pt x="6896" y="15726"/>
                </a:cubicBezTo>
                <a:cubicBezTo>
                  <a:pt x="6969" y="15777"/>
                  <a:pt x="7042" y="15833"/>
                  <a:pt x="7119" y="15875"/>
                </a:cubicBezTo>
                <a:cubicBezTo>
                  <a:pt x="7286" y="15967"/>
                  <a:pt x="7440" y="15996"/>
                  <a:pt x="7615" y="16049"/>
                </a:cubicBezTo>
                <a:cubicBezTo>
                  <a:pt x="7715" y="16079"/>
                  <a:pt x="7813" y="16122"/>
                  <a:pt x="7913" y="16148"/>
                </a:cubicBezTo>
                <a:cubicBezTo>
                  <a:pt x="8062" y="16186"/>
                  <a:pt x="8231" y="16180"/>
                  <a:pt x="8384" y="16197"/>
                </a:cubicBezTo>
                <a:cubicBezTo>
                  <a:pt x="8519" y="16212"/>
                  <a:pt x="8648" y="16243"/>
                  <a:pt x="8781" y="16272"/>
                </a:cubicBezTo>
                <a:cubicBezTo>
                  <a:pt x="8922" y="16303"/>
                  <a:pt x="9060" y="16326"/>
                  <a:pt x="9203" y="16346"/>
                </a:cubicBezTo>
                <a:cubicBezTo>
                  <a:pt x="9343" y="16366"/>
                  <a:pt x="9482" y="16369"/>
                  <a:pt x="9624" y="16371"/>
                </a:cubicBezTo>
                <a:cubicBezTo>
                  <a:pt x="9871" y="16375"/>
                  <a:pt x="10104" y="16381"/>
                  <a:pt x="10344" y="16321"/>
                </a:cubicBezTo>
                <a:cubicBezTo>
                  <a:pt x="10451" y="16294"/>
                  <a:pt x="10562" y="16259"/>
                  <a:pt x="10666" y="16222"/>
                </a:cubicBezTo>
                <a:cubicBezTo>
                  <a:pt x="10792" y="16177"/>
                  <a:pt x="10870" y="16113"/>
                  <a:pt x="10964" y="16049"/>
                </a:cubicBezTo>
                <a:cubicBezTo>
                  <a:pt x="11058" y="15984"/>
                  <a:pt x="11069" y="15966"/>
                  <a:pt x="11137" y="15875"/>
                </a:cubicBezTo>
                <a:cubicBezTo>
                  <a:pt x="11190" y="15803"/>
                  <a:pt x="11236" y="15741"/>
                  <a:pt x="11261" y="15652"/>
                </a:cubicBezTo>
                <a:cubicBezTo>
                  <a:pt x="11283" y="15574"/>
                  <a:pt x="11292" y="15514"/>
                  <a:pt x="11286" y="15429"/>
                </a:cubicBezTo>
                <a:cubicBezTo>
                  <a:pt x="11281" y="15351"/>
                  <a:pt x="11283" y="15281"/>
                  <a:pt x="11286" y="15205"/>
                </a:cubicBezTo>
                <a:cubicBezTo>
                  <a:pt x="11289" y="15119"/>
                  <a:pt x="11296" y="15035"/>
                  <a:pt x="11261" y="14957"/>
                </a:cubicBezTo>
                <a:cubicBezTo>
                  <a:pt x="11240" y="14910"/>
                  <a:pt x="11210" y="14898"/>
                  <a:pt x="11187" y="148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14"/>
          <p:cNvSpPr/>
          <p:nvPr/>
        </p:nvSpPr>
        <p:spPr>
          <a:xfrm>
            <a:off x="1347840" y="1697040"/>
            <a:ext cx="1305000" cy="1089000"/>
          </a:xfrm>
          <a:custGeom>
            <a:avLst/>
            <a:gdLst/>
            <a:ahLst/>
            <a:rect l="l" t="t" r="r" b="b"/>
            <a:pathLst>
              <a:path w="3622" h="3027">
                <a:moveTo>
                  <a:pt x="5358" y="6449"/>
                </a:moveTo>
                <a:cubicBezTo>
                  <a:pt x="5449" y="6449"/>
                  <a:pt x="5540" y="6449"/>
                  <a:pt x="5631" y="6449"/>
                </a:cubicBezTo>
              </a:path>
              <a:path w="3622" h="3027">
                <a:moveTo>
                  <a:pt x="6400" y="6201"/>
                </a:moveTo>
                <a:cubicBezTo>
                  <a:pt x="6311" y="6201"/>
                  <a:pt x="6231" y="6202"/>
                  <a:pt x="6152" y="6226"/>
                </a:cubicBezTo>
                <a:cubicBezTo>
                  <a:pt x="6099" y="6242"/>
                  <a:pt x="6038" y="6289"/>
                  <a:pt x="6052" y="6350"/>
                </a:cubicBezTo>
                <a:cubicBezTo>
                  <a:pt x="6077" y="6455"/>
                  <a:pt x="6163" y="6477"/>
                  <a:pt x="6226" y="6548"/>
                </a:cubicBezTo>
                <a:cubicBezTo>
                  <a:pt x="6283" y="6612"/>
                  <a:pt x="6321" y="6704"/>
                  <a:pt x="6375" y="6772"/>
                </a:cubicBezTo>
                <a:cubicBezTo>
                  <a:pt x="6328" y="6817"/>
                  <a:pt x="6309" y="6841"/>
                  <a:pt x="6251" y="6796"/>
                </a:cubicBezTo>
                <a:cubicBezTo>
                  <a:pt x="6181" y="6741"/>
                  <a:pt x="6210" y="6695"/>
                  <a:pt x="6251" y="6623"/>
                </a:cubicBezTo>
                <a:cubicBezTo>
                  <a:pt x="6303" y="6533"/>
                  <a:pt x="6375" y="6468"/>
                  <a:pt x="6424" y="6375"/>
                </a:cubicBezTo>
                <a:cubicBezTo>
                  <a:pt x="6461" y="6305"/>
                  <a:pt x="6492" y="6258"/>
                  <a:pt x="6548" y="6201"/>
                </a:cubicBezTo>
              </a:path>
              <a:path w="3622" h="3027">
                <a:moveTo>
                  <a:pt x="3746" y="7293"/>
                </a:moveTo>
                <a:cubicBezTo>
                  <a:pt x="3797" y="7262"/>
                  <a:pt x="3837" y="7259"/>
                  <a:pt x="3894" y="7243"/>
                </a:cubicBezTo>
                <a:cubicBezTo>
                  <a:pt x="3972" y="7222"/>
                  <a:pt x="4086" y="7191"/>
                  <a:pt x="4167" y="7218"/>
                </a:cubicBezTo>
                <a:cubicBezTo>
                  <a:pt x="4218" y="7235"/>
                  <a:pt x="4250" y="7321"/>
                  <a:pt x="4242" y="7367"/>
                </a:cubicBezTo>
                <a:cubicBezTo>
                  <a:pt x="4230" y="7437"/>
                  <a:pt x="4183" y="7509"/>
                  <a:pt x="4142" y="7565"/>
                </a:cubicBezTo>
                <a:cubicBezTo>
                  <a:pt x="4112" y="7606"/>
                  <a:pt x="4056" y="7627"/>
                  <a:pt x="4018" y="7665"/>
                </a:cubicBezTo>
                <a:cubicBezTo>
                  <a:pt x="3993" y="7690"/>
                  <a:pt x="3969" y="7714"/>
                  <a:pt x="3944" y="7739"/>
                </a:cubicBezTo>
                <a:cubicBezTo>
                  <a:pt x="4040" y="7739"/>
                  <a:pt x="4123" y="7722"/>
                  <a:pt x="4217" y="7714"/>
                </a:cubicBezTo>
              </a:path>
              <a:path w="3622" h="3027">
                <a:moveTo>
                  <a:pt x="4862" y="7441"/>
                </a:moveTo>
                <a:cubicBezTo>
                  <a:pt x="4755" y="7373"/>
                  <a:pt x="4730" y="7340"/>
                  <a:pt x="4614" y="7392"/>
                </a:cubicBezTo>
                <a:cubicBezTo>
                  <a:pt x="4560" y="7416"/>
                  <a:pt x="4530" y="7450"/>
                  <a:pt x="4490" y="7491"/>
                </a:cubicBezTo>
                <a:cubicBezTo>
                  <a:pt x="4445" y="7536"/>
                  <a:pt x="4417" y="7559"/>
                  <a:pt x="4465" y="7615"/>
                </a:cubicBezTo>
                <a:cubicBezTo>
                  <a:pt x="4531" y="7692"/>
                  <a:pt x="4561" y="7698"/>
                  <a:pt x="4638" y="7689"/>
                </a:cubicBezTo>
                <a:cubicBezTo>
                  <a:pt x="4694" y="7682"/>
                  <a:pt x="4772" y="7662"/>
                  <a:pt x="4812" y="7615"/>
                </a:cubicBezTo>
                <a:cubicBezTo>
                  <a:pt x="4853" y="7567"/>
                  <a:pt x="4925" y="7457"/>
                  <a:pt x="4936" y="7392"/>
                </a:cubicBezTo>
                <a:cubicBezTo>
                  <a:pt x="4952" y="7300"/>
                  <a:pt x="4961" y="7216"/>
                  <a:pt x="4961" y="7119"/>
                </a:cubicBezTo>
                <a:cubicBezTo>
                  <a:pt x="4961" y="7069"/>
                  <a:pt x="4961" y="7053"/>
                  <a:pt x="4961" y="7020"/>
                </a:cubicBezTo>
                <a:cubicBezTo>
                  <a:pt x="4929" y="7105"/>
                  <a:pt x="4936" y="7175"/>
                  <a:pt x="4936" y="7268"/>
                </a:cubicBezTo>
                <a:cubicBezTo>
                  <a:pt x="4936" y="7357"/>
                  <a:pt x="4949" y="7430"/>
                  <a:pt x="4961" y="7516"/>
                </a:cubicBezTo>
                <a:cubicBezTo>
                  <a:pt x="4970" y="7581"/>
                  <a:pt x="4988" y="7592"/>
                  <a:pt x="5035" y="7640"/>
                </a:cubicBezTo>
                <a:cubicBezTo>
                  <a:pt x="5058" y="7663"/>
                  <a:pt x="5062" y="7671"/>
                  <a:pt x="5085" y="7665"/>
                </a:cubicBezTo>
              </a:path>
              <a:path w="3622" h="3027">
                <a:moveTo>
                  <a:pt x="5953" y="6573"/>
                </a:moveTo>
                <a:cubicBezTo>
                  <a:pt x="6070" y="6424"/>
                  <a:pt x="6161" y="6273"/>
                  <a:pt x="6276" y="6127"/>
                </a:cubicBezTo>
                <a:cubicBezTo>
                  <a:pt x="6408" y="5959"/>
                  <a:pt x="6519" y="5782"/>
                  <a:pt x="6648" y="5606"/>
                </a:cubicBezTo>
                <a:cubicBezTo>
                  <a:pt x="6747" y="5471"/>
                  <a:pt x="6910" y="5349"/>
                  <a:pt x="6995" y="5209"/>
                </a:cubicBezTo>
                <a:cubicBezTo>
                  <a:pt x="7066" y="5092"/>
                  <a:pt x="7129" y="4993"/>
                  <a:pt x="7218" y="4887"/>
                </a:cubicBezTo>
                <a:cubicBezTo>
                  <a:pt x="7268" y="4828"/>
                  <a:pt x="7321" y="4652"/>
                  <a:pt x="7367" y="4713"/>
                </a:cubicBezTo>
                <a:cubicBezTo>
                  <a:pt x="7359" y="4738"/>
                  <a:pt x="7350" y="4762"/>
                  <a:pt x="7342" y="4787"/>
                </a:cubicBezTo>
              </a:path>
              <a:path w="3622" h="3027">
                <a:moveTo>
                  <a:pt x="6127" y="7268"/>
                </a:moveTo>
                <a:cubicBezTo>
                  <a:pt x="6215" y="7260"/>
                  <a:pt x="6284" y="7243"/>
                  <a:pt x="6375" y="7243"/>
                </a:cubicBezTo>
                <a:cubicBezTo>
                  <a:pt x="6424" y="7243"/>
                  <a:pt x="6441" y="7243"/>
                  <a:pt x="6474" y="7243"/>
                </a:cubicBezTo>
              </a:path>
              <a:path w="3622" h="3027">
                <a:moveTo>
                  <a:pt x="6176" y="7466"/>
                </a:moveTo>
                <a:cubicBezTo>
                  <a:pt x="6271" y="7466"/>
                  <a:pt x="6356" y="7444"/>
                  <a:pt x="6449" y="7441"/>
                </a:cubicBezTo>
                <a:cubicBezTo>
                  <a:pt x="6482" y="7441"/>
                  <a:pt x="6515" y="7441"/>
                  <a:pt x="6548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15"/>
          <p:cNvSpPr/>
          <p:nvPr/>
        </p:nvSpPr>
        <p:spPr>
          <a:xfrm>
            <a:off x="3456000" y="1776240"/>
            <a:ext cx="785880" cy="573120"/>
          </a:xfrm>
          <a:custGeom>
            <a:avLst/>
            <a:gdLst/>
            <a:ahLst/>
            <a:rect l="l" t="t" r="r" b="b"/>
            <a:pathLst>
              <a:path w="2184" h="1589">
                <a:moveTo>
                  <a:pt x="9599" y="6524"/>
                </a:moveTo>
                <a:cubicBezTo>
                  <a:pt x="9658" y="6474"/>
                  <a:pt x="9710" y="6443"/>
                  <a:pt x="9773" y="6400"/>
                </a:cubicBezTo>
                <a:cubicBezTo>
                  <a:pt x="9860" y="6341"/>
                  <a:pt x="9938" y="6268"/>
                  <a:pt x="10021" y="6201"/>
                </a:cubicBezTo>
                <a:cubicBezTo>
                  <a:pt x="10187" y="6069"/>
                  <a:pt x="10380" y="5963"/>
                  <a:pt x="10542" y="5829"/>
                </a:cubicBezTo>
                <a:cubicBezTo>
                  <a:pt x="10698" y="5701"/>
                  <a:pt x="10847" y="5574"/>
                  <a:pt x="11013" y="5457"/>
                </a:cubicBezTo>
                <a:cubicBezTo>
                  <a:pt x="11169" y="5347"/>
                  <a:pt x="11343" y="5180"/>
                  <a:pt x="11509" y="5085"/>
                </a:cubicBezTo>
                <a:cubicBezTo>
                  <a:pt x="11576" y="5047"/>
                  <a:pt x="11650" y="4963"/>
                  <a:pt x="11708" y="4936"/>
                </a:cubicBezTo>
                <a:cubicBezTo>
                  <a:pt x="11749" y="4936"/>
                  <a:pt x="11757" y="4936"/>
                  <a:pt x="11782" y="49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16"/>
          <p:cNvSpPr/>
          <p:nvPr/>
        </p:nvSpPr>
        <p:spPr>
          <a:xfrm>
            <a:off x="3367080" y="2259000"/>
            <a:ext cx="268200" cy="206280"/>
          </a:xfrm>
          <a:custGeom>
            <a:avLst/>
            <a:gdLst/>
            <a:ahLst/>
            <a:rect l="l" t="t" r="r" b="b"/>
            <a:pathLst>
              <a:path w="746" h="571">
                <a:moveTo>
                  <a:pt x="9351" y="6573"/>
                </a:moveTo>
                <a:cubicBezTo>
                  <a:pt x="9434" y="6573"/>
                  <a:pt x="9516" y="6573"/>
                  <a:pt x="9599" y="6573"/>
                </a:cubicBezTo>
              </a:path>
              <a:path w="746" h="571">
                <a:moveTo>
                  <a:pt x="9823" y="6449"/>
                </a:moveTo>
                <a:cubicBezTo>
                  <a:pt x="9806" y="6493"/>
                  <a:pt x="9762" y="6589"/>
                  <a:pt x="9823" y="6623"/>
                </a:cubicBezTo>
                <a:cubicBezTo>
                  <a:pt x="9905" y="6669"/>
                  <a:pt x="9956" y="6650"/>
                  <a:pt x="10021" y="6598"/>
                </a:cubicBezTo>
              </a:path>
              <a:path w="746" h="571">
                <a:moveTo>
                  <a:pt x="10071" y="6276"/>
                </a:moveTo>
                <a:cubicBezTo>
                  <a:pt x="10036" y="6396"/>
                  <a:pt x="10021" y="6471"/>
                  <a:pt x="10021" y="6598"/>
                </a:cubicBezTo>
                <a:cubicBezTo>
                  <a:pt x="10021" y="6670"/>
                  <a:pt x="10001" y="6765"/>
                  <a:pt x="10046" y="6821"/>
                </a:cubicBezTo>
                <a:cubicBezTo>
                  <a:pt x="10069" y="6844"/>
                  <a:pt x="10073" y="6852"/>
                  <a:pt x="10096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17"/>
          <p:cNvSpPr/>
          <p:nvPr/>
        </p:nvSpPr>
        <p:spPr>
          <a:xfrm>
            <a:off x="3776760" y="2268360"/>
            <a:ext cx="162000" cy="17784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0716" y="6499"/>
                </a:moveTo>
                <a:cubicBezTo>
                  <a:pt x="10624" y="6518"/>
                  <a:pt x="10521" y="6514"/>
                  <a:pt x="10492" y="6623"/>
                </a:cubicBezTo>
                <a:cubicBezTo>
                  <a:pt x="10480" y="6667"/>
                  <a:pt x="10486" y="6756"/>
                  <a:pt x="10542" y="6772"/>
                </a:cubicBezTo>
                <a:cubicBezTo>
                  <a:pt x="10646" y="6802"/>
                  <a:pt x="10691" y="6712"/>
                  <a:pt x="10740" y="6648"/>
                </a:cubicBezTo>
                <a:cubicBezTo>
                  <a:pt x="10784" y="6590"/>
                  <a:pt x="10847" y="6551"/>
                  <a:pt x="10864" y="6474"/>
                </a:cubicBezTo>
                <a:cubicBezTo>
                  <a:pt x="10877" y="6415"/>
                  <a:pt x="10867" y="6346"/>
                  <a:pt x="10840" y="6300"/>
                </a:cubicBezTo>
                <a:cubicBezTo>
                  <a:pt x="10810" y="6350"/>
                  <a:pt x="10781" y="6410"/>
                  <a:pt x="10790" y="6474"/>
                </a:cubicBezTo>
                <a:cubicBezTo>
                  <a:pt x="10805" y="6582"/>
                  <a:pt x="10865" y="6654"/>
                  <a:pt x="10914" y="6747"/>
                </a:cubicBezTo>
                <a:cubicBezTo>
                  <a:pt x="10922" y="6763"/>
                  <a:pt x="10931" y="6780"/>
                  <a:pt x="10939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18"/>
          <p:cNvSpPr/>
          <p:nvPr/>
        </p:nvSpPr>
        <p:spPr>
          <a:xfrm>
            <a:off x="2581200" y="4705200"/>
            <a:ext cx="268200" cy="411480"/>
          </a:xfrm>
          <a:custGeom>
            <a:avLst/>
            <a:gdLst/>
            <a:ahLst/>
            <a:rect l="l" t="t" r="r" b="b"/>
            <a:pathLst>
              <a:path w="745" h="1142">
                <a:moveTo>
                  <a:pt x="7342" y="13072"/>
                </a:moveTo>
                <a:cubicBezTo>
                  <a:pt x="7423" y="13080"/>
                  <a:pt x="7498" y="13096"/>
                  <a:pt x="7565" y="13122"/>
                </a:cubicBezTo>
                <a:cubicBezTo>
                  <a:pt x="7675" y="13165"/>
                  <a:pt x="7693" y="13209"/>
                  <a:pt x="7789" y="13271"/>
                </a:cubicBezTo>
                <a:cubicBezTo>
                  <a:pt x="7832" y="13292"/>
                  <a:pt x="7844" y="13296"/>
                  <a:pt x="7863" y="13320"/>
                </a:cubicBezTo>
                <a:cubicBezTo>
                  <a:pt x="7818" y="13410"/>
                  <a:pt x="7764" y="13418"/>
                  <a:pt x="7665" y="13444"/>
                </a:cubicBezTo>
                <a:cubicBezTo>
                  <a:pt x="7568" y="13469"/>
                  <a:pt x="7467" y="13482"/>
                  <a:pt x="7367" y="13494"/>
                </a:cubicBezTo>
                <a:cubicBezTo>
                  <a:pt x="7350" y="13494"/>
                  <a:pt x="7334" y="13494"/>
                  <a:pt x="7317" y="13494"/>
                </a:cubicBezTo>
                <a:cubicBezTo>
                  <a:pt x="7368" y="13544"/>
                  <a:pt x="7380" y="13546"/>
                  <a:pt x="7441" y="13568"/>
                </a:cubicBezTo>
                <a:cubicBezTo>
                  <a:pt x="7505" y="13591"/>
                  <a:pt x="7557" y="13623"/>
                  <a:pt x="7615" y="13643"/>
                </a:cubicBezTo>
                <a:cubicBezTo>
                  <a:pt x="7698" y="13672"/>
                  <a:pt x="7719" y="13750"/>
                  <a:pt x="7789" y="13791"/>
                </a:cubicBezTo>
                <a:cubicBezTo>
                  <a:pt x="7865" y="13836"/>
                  <a:pt x="7863" y="13869"/>
                  <a:pt x="7888" y="13940"/>
                </a:cubicBezTo>
                <a:cubicBezTo>
                  <a:pt x="7912" y="14007"/>
                  <a:pt x="7927" y="14080"/>
                  <a:pt x="7863" y="14139"/>
                </a:cubicBezTo>
                <a:cubicBezTo>
                  <a:pt x="7803" y="14194"/>
                  <a:pt x="7686" y="14202"/>
                  <a:pt x="7615" y="14213"/>
                </a:cubicBezTo>
                <a:cubicBezTo>
                  <a:pt x="7498" y="14231"/>
                  <a:pt x="7228" y="14213"/>
                  <a:pt x="7193" y="142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19"/>
          <p:cNvSpPr/>
          <p:nvPr/>
        </p:nvSpPr>
        <p:spPr>
          <a:xfrm>
            <a:off x="919080" y="233028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2555" y="6474"/>
                </a:moveTo>
                <a:cubicBezTo>
                  <a:pt x="2629" y="6499"/>
                  <a:pt x="2701" y="6514"/>
                  <a:pt x="2778" y="65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20"/>
          <p:cNvSpPr/>
          <p:nvPr/>
        </p:nvSpPr>
        <p:spPr>
          <a:xfrm>
            <a:off x="1098720" y="2214720"/>
            <a:ext cx="384120" cy="231480"/>
          </a:xfrm>
          <a:custGeom>
            <a:avLst/>
            <a:gdLst/>
            <a:ahLst/>
            <a:rect l="l" t="t" r="r" b="b"/>
            <a:pathLst>
              <a:path w="1068" h="645">
                <a:moveTo>
                  <a:pt x="3076" y="6276"/>
                </a:moveTo>
                <a:cubicBezTo>
                  <a:pt x="3072" y="6345"/>
                  <a:pt x="3034" y="6446"/>
                  <a:pt x="3076" y="6499"/>
                </a:cubicBezTo>
                <a:cubicBezTo>
                  <a:pt x="3134" y="6572"/>
                  <a:pt x="3208" y="6549"/>
                  <a:pt x="3274" y="6499"/>
                </a:cubicBezTo>
                <a:cubicBezTo>
                  <a:pt x="3304" y="6469"/>
                  <a:pt x="3318" y="6458"/>
                  <a:pt x="3349" y="6449"/>
                </a:cubicBezTo>
              </a:path>
              <a:path w="1068" h="645">
                <a:moveTo>
                  <a:pt x="3398" y="6152"/>
                </a:moveTo>
                <a:cubicBezTo>
                  <a:pt x="3398" y="6254"/>
                  <a:pt x="3413" y="6351"/>
                  <a:pt x="3423" y="6449"/>
                </a:cubicBezTo>
                <a:cubicBezTo>
                  <a:pt x="3431" y="6526"/>
                  <a:pt x="3444" y="6598"/>
                  <a:pt x="3448" y="6672"/>
                </a:cubicBezTo>
                <a:cubicBezTo>
                  <a:pt x="3448" y="6722"/>
                  <a:pt x="3448" y="6739"/>
                  <a:pt x="3448" y="6772"/>
                </a:cubicBezTo>
              </a:path>
              <a:path w="1068" h="645">
                <a:moveTo>
                  <a:pt x="3746" y="6375"/>
                </a:moveTo>
                <a:cubicBezTo>
                  <a:pt x="3680" y="6427"/>
                  <a:pt x="3617" y="6482"/>
                  <a:pt x="3597" y="6573"/>
                </a:cubicBezTo>
                <a:cubicBezTo>
                  <a:pt x="3585" y="6626"/>
                  <a:pt x="3590" y="6747"/>
                  <a:pt x="3671" y="6747"/>
                </a:cubicBezTo>
                <a:cubicBezTo>
                  <a:pt x="3745" y="6747"/>
                  <a:pt x="3816" y="6713"/>
                  <a:pt x="3845" y="6648"/>
                </a:cubicBezTo>
                <a:cubicBezTo>
                  <a:pt x="3885" y="6560"/>
                  <a:pt x="3914" y="6445"/>
                  <a:pt x="3919" y="6350"/>
                </a:cubicBezTo>
                <a:cubicBezTo>
                  <a:pt x="3919" y="6300"/>
                  <a:pt x="3919" y="6284"/>
                  <a:pt x="3919" y="6251"/>
                </a:cubicBezTo>
                <a:cubicBezTo>
                  <a:pt x="3940" y="6347"/>
                  <a:pt x="3944" y="6456"/>
                  <a:pt x="3969" y="6548"/>
                </a:cubicBezTo>
                <a:cubicBezTo>
                  <a:pt x="3980" y="6589"/>
                  <a:pt x="4015" y="6719"/>
                  <a:pt x="4043" y="6747"/>
                </a:cubicBezTo>
                <a:cubicBezTo>
                  <a:pt x="4087" y="6769"/>
                  <a:pt x="4098" y="6772"/>
                  <a:pt x="4118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Ink 21"/>
          <p:cNvSpPr/>
          <p:nvPr/>
        </p:nvSpPr>
        <p:spPr>
          <a:xfrm>
            <a:off x="892080" y="3786120"/>
            <a:ext cx="1278000" cy="982800"/>
          </a:xfrm>
          <a:custGeom>
            <a:avLst/>
            <a:gdLst/>
            <a:ahLst/>
            <a:rect l="l" t="t" r="r" b="b"/>
            <a:pathLst>
              <a:path w="3549" h="2730">
                <a:moveTo>
                  <a:pt x="2530" y="12303"/>
                </a:moveTo>
                <a:cubicBezTo>
                  <a:pt x="2475" y="12385"/>
                  <a:pt x="2462" y="12430"/>
                  <a:pt x="2505" y="12526"/>
                </a:cubicBezTo>
                <a:cubicBezTo>
                  <a:pt x="2557" y="12641"/>
                  <a:pt x="2638" y="12750"/>
                  <a:pt x="2654" y="12874"/>
                </a:cubicBezTo>
                <a:cubicBezTo>
                  <a:pt x="2606" y="12814"/>
                  <a:pt x="2557" y="12720"/>
                  <a:pt x="2530" y="12650"/>
                </a:cubicBezTo>
                <a:cubicBezTo>
                  <a:pt x="2487" y="12536"/>
                  <a:pt x="2480" y="12423"/>
                  <a:pt x="2480" y="12303"/>
                </a:cubicBezTo>
                <a:cubicBezTo>
                  <a:pt x="2480" y="12226"/>
                  <a:pt x="2471" y="12073"/>
                  <a:pt x="2505" y="12005"/>
                </a:cubicBezTo>
                <a:cubicBezTo>
                  <a:pt x="2526" y="11964"/>
                  <a:pt x="2606" y="11869"/>
                  <a:pt x="2654" y="11857"/>
                </a:cubicBezTo>
                <a:cubicBezTo>
                  <a:pt x="2671" y="11857"/>
                  <a:pt x="2687" y="11857"/>
                  <a:pt x="2704" y="11857"/>
                </a:cubicBezTo>
                <a:cubicBezTo>
                  <a:pt x="2735" y="11939"/>
                  <a:pt x="2742" y="12039"/>
                  <a:pt x="2729" y="12129"/>
                </a:cubicBezTo>
                <a:cubicBezTo>
                  <a:pt x="2704" y="12300"/>
                  <a:pt x="2631" y="12463"/>
                  <a:pt x="2580" y="12626"/>
                </a:cubicBezTo>
                <a:cubicBezTo>
                  <a:pt x="2552" y="12717"/>
                  <a:pt x="2547" y="12726"/>
                  <a:pt x="2505" y="12799"/>
                </a:cubicBezTo>
                <a:cubicBezTo>
                  <a:pt x="2435" y="12834"/>
                  <a:pt x="2533" y="12727"/>
                  <a:pt x="2555" y="12700"/>
                </a:cubicBezTo>
                <a:cubicBezTo>
                  <a:pt x="2611" y="12631"/>
                  <a:pt x="2663" y="12578"/>
                  <a:pt x="2729" y="12551"/>
                </a:cubicBezTo>
                <a:cubicBezTo>
                  <a:pt x="2861" y="12496"/>
                  <a:pt x="2883" y="12569"/>
                  <a:pt x="2952" y="12675"/>
                </a:cubicBezTo>
                <a:cubicBezTo>
                  <a:pt x="3013" y="12769"/>
                  <a:pt x="3041" y="12867"/>
                  <a:pt x="3076" y="12973"/>
                </a:cubicBezTo>
                <a:cubicBezTo>
                  <a:pt x="3091" y="13017"/>
                  <a:pt x="3153" y="13220"/>
                  <a:pt x="3225" y="13246"/>
                </a:cubicBezTo>
                <a:cubicBezTo>
                  <a:pt x="3303" y="13274"/>
                  <a:pt x="3339" y="13192"/>
                  <a:pt x="3373" y="13146"/>
                </a:cubicBezTo>
              </a:path>
              <a:path w="3549" h="2730">
                <a:moveTo>
                  <a:pt x="3721" y="12378"/>
                </a:moveTo>
                <a:cubicBezTo>
                  <a:pt x="3737" y="12296"/>
                  <a:pt x="3747" y="12241"/>
                  <a:pt x="3646" y="12229"/>
                </a:cubicBezTo>
                <a:cubicBezTo>
                  <a:pt x="3565" y="12219"/>
                  <a:pt x="3525" y="12276"/>
                  <a:pt x="3473" y="12328"/>
                </a:cubicBezTo>
                <a:cubicBezTo>
                  <a:pt x="3403" y="12399"/>
                  <a:pt x="3423" y="12482"/>
                  <a:pt x="3423" y="12576"/>
                </a:cubicBezTo>
                <a:cubicBezTo>
                  <a:pt x="3423" y="12678"/>
                  <a:pt x="3452" y="12705"/>
                  <a:pt x="3522" y="12774"/>
                </a:cubicBezTo>
                <a:cubicBezTo>
                  <a:pt x="3557" y="12809"/>
                  <a:pt x="3619" y="12861"/>
                  <a:pt x="3671" y="12849"/>
                </a:cubicBezTo>
                <a:cubicBezTo>
                  <a:pt x="3733" y="12834"/>
                  <a:pt x="3768" y="12776"/>
                  <a:pt x="3795" y="12725"/>
                </a:cubicBezTo>
                <a:cubicBezTo>
                  <a:pt x="3846" y="12629"/>
                  <a:pt x="3845" y="12559"/>
                  <a:pt x="3845" y="12452"/>
                </a:cubicBezTo>
                <a:cubicBezTo>
                  <a:pt x="3845" y="12399"/>
                  <a:pt x="3840" y="12280"/>
                  <a:pt x="3820" y="12229"/>
                </a:cubicBezTo>
                <a:cubicBezTo>
                  <a:pt x="3812" y="12221"/>
                  <a:pt x="3803" y="12212"/>
                  <a:pt x="3795" y="12204"/>
                </a:cubicBezTo>
                <a:cubicBezTo>
                  <a:pt x="3806" y="12304"/>
                  <a:pt x="3832" y="12347"/>
                  <a:pt x="3870" y="12427"/>
                </a:cubicBezTo>
                <a:cubicBezTo>
                  <a:pt x="3898" y="12487"/>
                  <a:pt x="3941" y="12581"/>
                  <a:pt x="3994" y="12626"/>
                </a:cubicBezTo>
                <a:cubicBezTo>
                  <a:pt x="4024" y="12652"/>
                  <a:pt x="4147" y="12678"/>
                  <a:pt x="4167" y="12626"/>
                </a:cubicBezTo>
                <a:cubicBezTo>
                  <a:pt x="4200" y="12539"/>
                  <a:pt x="4221" y="12421"/>
                  <a:pt x="4242" y="12328"/>
                </a:cubicBezTo>
              </a:path>
              <a:path w="3549" h="2730">
                <a:moveTo>
                  <a:pt x="4390" y="11881"/>
                </a:moveTo>
                <a:cubicBezTo>
                  <a:pt x="4322" y="11924"/>
                  <a:pt x="4279" y="11959"/>
                  <a:pt x="4242" y="12030"/>
                </a:cubicBezTo>
                <a:cubicBezTo>
                  <a:pt x="4190" y="12129"/>
                  <a:pt x="4218" y="12231"/>
                  <a:pt x="4266" y="12328"/>
                </a:cubicBezTo>
                <a:cubicBezTo>
                  <a:pt x="4302" y="12400"/>
                  <a:pt x="4397" y="12399"/>
                  <a:pt x="4465" y="12402"/>
                </a:cubicBezTo>
                <a:cubicBezTo>
                  <a:pt x="4524" y="12405"/>
                  <a:pt x="4607" y="12356"/>
                  <a:pt x="4638" y="12303"/>
                </a:cubicBezTo>
                <a:cubicBezTo>
                  <a:pt x="4687" y="12221"/>
                  <a:pt x="4682" y="12120"/>
                  <a:pt x="4688" y="12030"/>
                </a:cubicBezTo>
              </a:path>
              <a:path w="3549" h="2730">
                <a:moveTo>
                  <a:pt x="4415" y="11286"/>
                </a:moveTo>
                <a:cubicBezTo>
                  <a:pt x="4420" y="11339"/>
                  <a:pt x="4431" y="11410"/>
                  <a:pt x="4465" y="11485"/>
                </a:cubicBezTo>
                <a:cubicBezTo>
                  <a:pt x="4525" y="11618"/>
                  <a:pt x="4561" y="11758"/>
                  <a:pt x="4638" y="11881"/>
                </a:cubicBezTo>
                <a:cubicBezTo>
                  <a:pt x="4672" y="11935"/>
                  <a:pt x="4706" y="11977"/>
                  <a:pt x="4738" y="12030"/>
                </a:cubicBezTo>
                <a:cubicBezTo>
                  <a:pt x="4738" y="11879"/>
                  <a:pt x="4700" y="11673"/>
                  <a:pt x="4762" y="11534"/>
                </a:cubicBezTo>
                <a:cubicBezTo>
                  <a:pt x="4791" y="11478"/>
                  <a:pt x="4807" y="11459"/>
                  <a:pt x="4862" y="11460"/>
                </a:cubicBezTo>
                <a:cubicBezTo>
                  <a:pt x="4915" y="11518"/>
                  <a:pt x="4958" y="11576"/>
                  <a:pt x="5011" y="11633"/>
                </a:cubicBezTo>
                <a:cubicBezTo>
                  <a:pt x="5086" y="11712"/>
                  <a:pt x="5070" y="11830"/>
                  <a:pt x="5135" y="11906"/>
                </a:cubicBezTo>
                <a:cubicBezTo>
                  <a:pt x="5174" y="11951"/>
                  <a:pt x="5205" y="11949"/>
                  <a:pt x="5259" y="11956"/>
                </a:cubicBezTo>
                <a:cubicBezTo>
                  <a:pt x="5287" y="11918"/>
                  <a:pt x="5347" y="11860"/>
                  <a:pt x="5358" y="11832"/>
                </a:cubicBezTo>
                <a:cubicBezTo>
                  <a:pt x="5396" y="11728"/>
                  <a:pt x="5404" y="11612"/>
                  <a:pt x="5432" y="11509"/>
                </a:cubicBezTo>
                <a:cubicBezTo>
                  <a:pt x="5452" y="11435"/>
                  <a:pt x="5478" y="11363"/>
                  <a:pt x="5482" y="11286"/>
                </a:cubicBezTo>
                <a:cubicBezTo>
                  <a:pt x="5486" y="11220"/>
                  <a:pt x="5466" y="11232"/>
                  <a:pt x="5432" y="11187"/>
                </a:cubicBezTo>
                <a:cubicBezTo>
                  <a:pt x="5391" y="11218"/>
                  <a:pt x="5321" y="11253"/>
                  <a:pt x="5308" y="11311"/>
                </a:cubicBezTo>
                <a:cubicBezTo>
                  <a:pt x="5283" y="11427"/>
                  <a:pt x="5337" y="11555"/>
                  <a:pt x="5383" y="11658"/>
                </a:cubicBezTo>
                <a:cubicBezTo>
                  <a:pt x="5403" y="11704"/>
                  <a:pt x="5457" y="11785"/>
                  <a:pt x="5507" y="11807"/>
                </a:cubicBezTo>
                <a:cubicBezTo>
                  <a:pt x="5550" y="11826"/>
                  <a:pt x="5652" y="11763"/>
                  <a:pt x="5680" y="11733"/>
                </a:cubicBezTo>
                <a:cubicBezTo>
                  <a:pt x="5750" y="11658"/>
                  <a:pt x="5791" y="11444"/>
                  <a:pt x="5804" y="11361"/>
                </a:cubicBezTo>
                <a:cubicBezTo>
                  <a:pt x="5825" y="11222"/>
                  <a:pt x="5818" y="11019"/>
                  <a:pt x="5779" y="10889"/>
                </a:cubicBezTo>
                <a:cubicBezTo>
                  <a:pt x="5753" y="10802"/>
                  <a:pt x="5721" y="10722"/>
                  <a:pt x="5680" y="10641"/>
                </a:cubicBezTo>
                <a:cubicBezTo>
                  <a:pt x="5654" y="10591"/>
                  <a:pt x="5617" y="10530"/>
                  <a:pt x="5556" y="10517"/>
                </a:cubicBezTo>
                <a:cubicBezTo>
                  <a:pt x="5531" y="10517"/>
                  <a:pt x="5507" y="10517"/>
                  <a:pt x="5482" y="10517"/>
                </a:cubicBezTo>
                <a:cubicBezTo>
                  <a:pt x="5482" y="10642"/>
                  <a:pt x="5477" y="10772"/>
                  <a:pt x="5531" y="10889"/>
                </a:cubicBezTo>
                <a:cubicBezTo>
                  <a:pt x="5590" y="11015"/>
                  <a:pt x="5632" y="11167"/>
                  <a:pt x="5705" y="11286"/>
                </a:cubicBezTo>
                <a:cubicBezTo>
                  <a:pt x="5754" y="11366"/>
                  <a:pt x="5834" y="11517"/>
                  <a:pt x="5904" y="11584"/>
                </a:cubicBezTo>
                <a:cubicBezTo>
                  <a:pt x="5979" y="11640"/>
                  <a:pt x="5992" y="11686"/>
                  <a:pt x="6028" y="116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bin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6(2g + 4) + 10g = 24g + 2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Ink 4"/>
          <p:cNvSpPr/>
          <p:nvPr/>
        </p:nvSpPr>
        <p:spPr>
          <a:xfrm>
            <a:off x="731880" y="1268280"/>
            <a:ext cx="2009880" cy="581040"/>
          </a:xfrm>
          <a:custGeom>
            <a:avLst/>
            <a:gdLst/>
            <a:ahLst/>
            <a:rect l="l" t="t" r="r" b="b"/>
            <a:pathLst>
              <a:path w="5582" h="1614">
                <a:moveTo>
                  <a:pt x="2034" y="4390"/>
                </a:moveTo>
                <a:cubicBezTo>
                  <a:pt x="2063" y="4344"/>
                  <a:pt x="2088" y="4300"/>
                  <a:pt x="2133" y="4266"/>
                </a:cubicBezTo>
                <a:cubicBezTo>
                  <a:pt x="2206" y="4210"/>
                  <a:pt x="2339" y="4178"/>
                  <a:pt x="2431" y="4167"/>
                </a:cubicBezTo>
                <a:cubicBezTo>
                  <a:pt x="2540" y="4154"/>
                  <a:pt x="2642" y="4121"/>
                  <a:pt x="2753" y="4118"/>
                </a:cubicBezTo>
                <a:cubicBezTo>
                  <a:pt x="2886" y="4115"/>
                  <a:pt x="3020" y="4122"/>
                  <a:pt x="3150" y="4142"/>
                </a:cubicBezTo>
                <a:cubicBezTo>
                  <a:pt x="3285" y="4163"/>
                  <a:pt x="3386" y="4203"/>
                  <a:pt x="3497" y="4266"/>
                </a:cubicBezTo>
                <a:cubicBezTo>
                  <a:pt x="3583" y="4315"/>
                  <a:pt x="3671" y="4352"/>
                  <a:pt x="3746" y="4415"/>
                </a:cubicBezTo>
                <a:cubicBezTo>
                  <a:pt x="3813" y="4471"/>
                  <a:pt x="3842" y="4550"/>
                  <a:pt x="3894" y="4614"/>
                </a:cubicBezTo>
                <a:cubicBezTo>
                  <a:pt x="3914" y="4639"/>
                  <a:pt x="3909" y="4633"/>
                  <a:pt x="3919" y="4663"/>
                </a:cubicBezTo>
              </a:path>
              <a:path w="5582" h="1614">
                <a:moveTo>
                  <a:pt x="3522" y="4589"/>
                </a:moveTo>
                <a:cubicBezTo>
                  <a:pt x="3599" y="4617"/>
                  <a:pt x="3651" y="4650"/>
                  <a:pt x="3721" y="4688"/>
                </a:cubicBezTo>
                <a:cubicBezTo>
                  <a:pt x="3759" y="4708"/>
                  <a:pt x="3833" y="4752"/>
                  <a:pt x="3870" y="4762"/>
                </a:cubicBezTo>
                <a:cubicBezTo>
                  <a:pt x="3948" y="4784"/>
                  <a:pt x="3987" y="4794"/>
                  <a:pt x="4043" y="4738"/>
                </a:cubicBezTo>
                <a:cubicBezTo>
                  <a:pt x="4088" y="4694"/>
                  <a:pt x="4119" y="4623"/>
                  <a:pt x="4142" y="4564"/>
                </a:cubicBezTo>
                <a:cubicBezTo>
                  <a:pt x="4165" y="4505"/>
                  <a:pt x="4206" y="4419"/>
                  <a:pt x="4217" y="4366"/>
                </a:cubicBezTo>
                <a:cubicBezTo>
                  <a:pt x="4228" y="4313"/>
                  <a:pt x="4216" y="4281"/>
                  <a:pt x="4192" y="4242"/>
                </a:cubicBezTo>
              </a:path>
              <a:path w="5582" h="1614">
                <a:moveTo>
                  <a:pt x="2084" y="4291"/>
                </a:moveTo>
                <a:cubicBezTo>
                  <a:pt x="2204" y="4182"/>
                  <a:pt x="2315" y="4092"/>
                  <a:pt x="2456" y="4018"/>
                </a:cubicBezTo>
                <a:cubicBezTo>
                  <a:pt x="2664" y="3909"/>
                  <a:pt x="2858" y="3831"/>
                  <a:pt x="3076" y="3746"/>
                </a:cubicBezTo>
                <a:cubicBezTo>
                  <a:pt x="3329" y="3647"/>
                  <a:pt x="3550" y="3604"/>
                  <a:pt x="3820" y="3572"/>
                </a:cubicBezTo>
                <a:cubicBezTo>
                  <a:pt x="4130" y="3536"/>
                  <a:pt x="4426" y="3499"/>
                  <a:pt x="4738" y="3547"/>
                </a:cubicBezTo>
                <a:cubicBezTo>
                  <a:pt x="5098" y="3602"/>
                  <a:pt x="5438" y="3689"/>
                  <a:pt x="5779" y="3820"/>
                </a:cubicBezTo>
                <a:cubicBezTo>
                  <a:pt x="6016" y="3911"/>
                  <a:pt x="6239" y="4049"/>
                  <a:pt x="6449" y="4192"/>
                </a:cubicBezTo>
                <a:cubicBezTo>
                  <a:pt x="6644" y="4325"/>
                  <a:pt x="6823" y="4478"/>
                  <a:pt x="6995" y="4638"/>
                </a:cubicBezTo>
                <a:cubicBezTo>
                  <a:pt x="7096" y="4732"/>
                  <a:pt x="7258" y="4844"/>
                  <a:pt x="7342" y="4936"/>
                </a:cubicBezTo>
                <a:cubicBezTo>
                  <a:pt x="7394" y="4993"/>
                  <a:pt x="7447" y="5173"/>
                  <a:pt x="7417" y="5011"/>
                </a:cubicBezTo>
                <a:cubicBezTo>
                  <a:pt x="7409" y="4994"/>
                  <a:pt x="7400" y="4978"/>
                  <a:pt x="7392" y="4961"/>
                </a:cubicBezTo>
              </a:path>
              <a:path w="5582" h="1614">
                <a:moveTo>
                  <a:pt x="6796" y="4688"/>
                </a:moveTo>
                <a:cubicBezTo>
                  <a:pt x="6734" y="4666"/>
                  <a:pt x="6789" y="4790"/>
                  <a:pt x="6821" y="4837"/>
                </a:cubicBezTo>
                <a:cubicBezTo>
                  <a:pt x="6864" y="4901"/>
                  <a:pt x="6960" y="4923"/>
                  <a:pt x="6995" y="4986"/>
                </a:cubicBezTo>
                <a:cubicBezTo>
                  <a:pt x="7029" y="5048"/>
                  <a:pt x="7044" y="5108"/>
                  <a:pt x="7119" y="5135"/>
                </a:cubicBezTo>
                <a:cubicBezTo>
                  <a:pt x="7184" y="5158"/>
                  <a:pt x="7251" y="5115"/>
                  <a:pt x="7293" y="5085"/>
                </a:cubicBezTo>
                <a:cubicBezTo>
                  <a:pt x="7343" y="5050"/>
                  <a:pt x="7373" y="4981"/>
                  <a:pt x="7417" y="4936"/>
                </a:cubicBezTo>
                <a:cubicBezTo>
                  <a:pt x="7469" y="4883"/>
                  <a:pt x="7490" y="4887"/>
                  <a:pt x="7565" y="4887"/>
                </a:cubicBezTo>
                <a:cubicBezTo>
                  <a:pt x="7582" y="4887"/>
                  <a:pt x="7598" y="4887"/>
                  <a:pt x="7615" y="48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5"/>
          <p:cNvSpPr/>
          <p:nvPr/>
        </p:nvSpPr>
        <p:spPr>
          <a:xfrm>
            <a:off x="839880" y="2544840"/>
            <a:ext cx="534960" cy="679320"/>
          </a:xfrm>
          <a:custGeom>
            <a:avLst/>
            <a:gdLst/>
            <a:ahLst/>
            <a:rect l="l" t="t" r="r" b="b"/>
            <a:pathLst>
              <a:path w="1489" h="1886">
                <a:moveTo>
                  <a:pt x="2381" y="7069"/>
                </a:moveTo>
                <a:cubicBezTo>
                  <a:pt x="2345" y="7129"/>
                  <a:pt x="2356" y="7193"/>
                  <a:pt x="2356" y="7268"/>
                </a:cubicBezTo>
                <a:cubicBezTo>
                  <a:pt x="2356" y="7452"/>
                  <a:pt x="2359" y="7636"/>
                  <a:pt x="2332" y="7813"/>
                </a:cubicBezTo>
                <a:cubicBezTo>
                  <a:pt x="2325" y="7857"/>
                  <a:pt x="2332" y="8057"/>
                  <a:pt x="2332" y="8012"/>
                </a:cubicBezTo>
              </a:path>
              <a:path w="1489" h="1886">
                <a:moveTo>
                  <a:pt x="2555" y="7268"/>
                </a:moveTo>
                <a:cubicBezTo>
                  <a:pt x="2621" y="7212"/>
                  <a:pt x="2729" y="7089"/>
                  <a:pt x="2828" y="7069"/>
                </a:cubicBezTo>
                <a:cubicBezTo>
                  <a:pt x="2885" y="7057"/>
                  <a:pt x="3055" y="7047"/>
                  <a:pt x="3101" y="7094"/>
                </a:cubicBezTo>
                <a:cubicBezTo>
                  <a:pt x="3157" y="7150"/>
                  <a:pt x="3114" y="7242"/>
                  <a:pt x="3101" y="7293"/>
                </a:cubicBezTo>
                <a:cubicBezTo>
                  <a:pt x="3064" y="7439"/>
                  <a:pt x="3010" y="7444"/>
                  <a:pt x="2927" y="7565"/>
                </a:cubicBezTo>
                <a:cubicBezTo>
                  <a:pt x="2868" y="7650"/>
                  <a:pt x="2815" y="7728"/>
                  <a:pt x="2753" y="7813"/>
                </a:cubicBezTo>
                <a:cubicBezTo>
                  <a:pt x="2696" y="7891"/>
                  <a:pt x="2704" y="7950"/>
                  <a:pt x="2629" y="8012"/>
                </a:cubicBezTo>
                <a:cubicBezTo>
                  <a:pt x="2599" y="8042"/>
                  <a:pt x="2588" y="8056"/>
                  <a:pt x="2580" y="8086"/>
                </a:cubicBezTo>
                <a:cubicBezTo>
                  <a:pt x="2622" y="8062"/>
                  <a:pt x="2687" y="7998"/>
                  <a:pt x="2729" y="7987"/>
                </a:cubicBezTo>
                <a:cubicBezTo>
                  <a:pt x="2794" y="7970"/>
                  <a:pt x="2853" y="8002"/>
                  <a:pt x="2902" y="8012"/>
                </a:cubicBezTo>
                <a:cubicBezTo>
                  <a:pt x="2948" y="8021"/>
                  <a:pt x="3020" y="8022"/>
                  <a:pt x="3051" y="8062"/>
                </a:cubicBezTo>
                <a:cubicBezTo>
                  <a:pt x="3094" y="8118"/>
                  <a:pt x="3109" y="8128"/>
                  <a:pt x="3175" y="8161"/>
                </a:cubicBezTo>
              </a:path>
              <a:path w="1489" h="1886">
                <a:moveTo>
                  <a:pt x="3671" y="7689"/>
                </a:moveTo>
                <a:cubicBezTo>
                  <a:pt x="3652" y="7633"/>
                  <a:pt x="3603" y="7617"/>
                  <a:pt x="3522" y="7640"/>
                </a:cubicBezTo>
                <a:cubicBezTo>
                  <a:pt x="3446" y="7661"/>
                  <a:pt x="3415" y="7734"/>
                  <a:pt x="3373" y="7789"/>
                </a:cubicBezTo>
                <a:cubicBezTo>
                  <a:pt x="3339" y="7834"/>
                  <a:pt x="3297" y="7900"/>
                  <a:pt x="3324" y="7962"/>
                </a:cubicBezTo>
                <a:cubicBezTo>
                  <a:pt x="3355" y="8035"/>
                  <a:pt x="3420" y="8108"/>
                  <a:pt x="3497" y="8111"/>
                </a:cubicBezTo>
                <a:cubicBezTo>
                  <a:pt x="3583" y="8115"/>
                  <a:pt x="3614" y="8094"/>
                  <a:pt x="3671" y="8037"/>
                </a:cubicBezTo>
                <a:cubicBezTo>
                  <a:pt x="3733" y="7976"/>
                  <a:pt x="3743" y="7990"/>
                  <a:pt x="3770" y="7913"/>
                </a:cubicBezTo>
                <a:cubicBezTo>
                  <a:pt x="3798" y="7834"/>
                  <a:pt x="3820" y="7800"/>
                  <a:pt x="3820" y="7714"/>
                </a:cubicBezTo>
                <a:cubicBezTo>
                  <a:pt x="3820" y="7698"/>
                  <a:pt x="3820" y="7681"/>
                  <a:pt x="3820" y="7665"/>
                </a:cubicBezTo>
                <a:cubicBezTo>
                  <a:pt x="3820" y="7762"/>
                  <a:pt x="3807" y="7843"/>
                  <a:pt x="3795" y="7938"/>
                </a:cubicBezTo>
                <a:cubicBezTo>
                  <a:pt x="3786" y="8013"/>
                  <a:pt x="3757" y="8080"/>
                  <a:pt x="3746" y="8161"/>
                </a:cubicBezTo>
                <a:cubicBezTo>
                  <a:pt x="3721" y="8351"/>
                  <a:pt x="3742" y="8574"/>
                  <a:pt x="3770" y="8756"/>
                </a:cubicBezTo>
                <a:cubicBezTo>
                  <a:pt x="3786" y="8860"/>
                  <a:pt x="3734" y="8886"/>
                  <a:pt x="3671" y="8930"/>
                </a:cubicBezTo>
                <a:cubicBezTo>
                  <a:pt x="3624" y="8963"/>
                  <a:pt x="3528" y="8951"/>
                  <a:pt x="3473" y="8930"/>
                </a:cubicBezTo>
                <a:cubicBezTo>
                  <a:pt x="3413" y="8908"/>
                  <a:pt x="3330" y="8887"/>
                  <a:pt x="3274" y="8855"/>
                </a:cubicBezTo>
                <a:cubicBezTo>
                  <a:pt x="3234" y="8832"/>
                  <a:pt x="3184" y="8787"/>
                  <a:pt x="3150" y="8756"/>
                </a:cubicBezTo>
                <a:cubicBezTo>
                  <a:pt x="3127" y="8733"/>
                  <a:pt x="3119" y="8729"/>
                  <a:pt x="3125" y="87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6"/>
          <p:cNvSpPr/>
          <p:nvPr/>
        </p:nvSpPr>
        <p:spPr>
          <a:xfrm>
            <a:off x="1643040" y="2490840"/>
            <a:ext cx="1135080" cy="457200"/>
          </a:xfrm>
          <a:custGeom>
            <a:avLst/>
            <a:gdLst/>
            <a:ahLst/>
            <a:rect l="l" t="t" r="r" b="b"/>
            <a:pathLst>
              <a:path w="3151" h="1266">
                <a:moveTo>
                  <a:pt x="4787" y="7367"/>
                </a:moveTo>
                <a:cubicBezTo>
                  <a:pt x="4787" y="7481"/>
                  <a:pt x="4798" y="7583"/>
                  <a:pt x="4812" y="7689"/>
                </a:cubicBezTo>
                <a:cubicBezTo>
                  <a:pt x="4823" y="7773"/>
                  <a:pt x="4825" y="7855"/>
                  <a:pt x="4837" y="7938"/>
                </a:cubicBezTo>
                <a:cubicBezTo>
                  <a:pt x="4837" y="7954"/>
                  <a:pt x="4837" y="7971"/>
                  <a:pt x="4837" y="7987"/>
                </a:cubicBezTo>
              </a:path>
              <a:path w="3151" h="1266">
                <a:moveTo>
                  <a:pt x="4564" y="7640"/>
                </a:moveTo>
                <a:cubicBezTo>
                  <a:pt x="4705" y="7640"/>
                  <a:pt x="4845" y="7640"/>
                  <a:pt x="4986" y="7640"/>
                </a:cubicBezTo>
              </a:path>
              <a:path w="3151" h="1266">
                <a:moveTo>
                  <a:pt x="5333" y="7218"/>
                </a:moveTo>
                <a:cubicBezTo>
                  <a:pt x="5424" y="7120"/>
                  <a:pt x="5437" y="7074"/>
                  <a:pt x="5556" y="7069"/>
                </a:cubicBezTo>
                <a:cubicBezTo>
                  <a:pt x="5641" y="7065"/>
                  <a:pt x="5711" y="7063"/>
                  <a:pt x="5779" y="7119"/>
                </a:cubicBezTo>
                <a:cubicBezTo>
                  <a:pt x="5836" y="7166"/>
                  <a:pt x="5829" y="7197"/>
                  <a:pt x="5829" y="7268"/>
                </a:cubicBezTo>
                <a:cubicBezTo>
                  <a:pt x="5829" y="7362"/>
                  <a:pt x="5763" y="7431"/>
                  <a:pt x="5730" y="7516"/>
                </a:cubicBezTo>
                <a:cubicBezTo>
                  <a:pt x="5687" y="7625"/>
                  <a:pt x="5628" y="7698"/>
                  <a:pt x="5556" y="7789"/>
                </a:cubicBezTo>
                <a:cubicBezTo>
                  <a:pt x="5501" y="7859"/>
                  <a:pt x="5427" y="7958"/>
                  <a:pt x="5358" y="8012"/>
                </a:cubicBezTo>
                <a:cubicBezTo>
                  <a:pt x="5289" y="8066"/>
                  <a:pt x="5307" y="8075"/>
                  <a:pt x="5259" y="8136"/>
                </a:cubicBezTo>
                <a:cubicBezTo>
                  <a:pt x="5251" y="8144"/>
                  <a:pt x="5242" y="8153"/>
                  <a:pt x="5234" y="8161"/>
                </a:cubicBezTo>
                <a:cubicBezTo>
                  <a:pt x="5304" y="8121"/>
                  <a:pt x="5325" y="8111"/>
                  <a:pt x="5407" y="8111"/>
                </a:cubicBezTo>
                <a:cubicBezTo>
                  <a:pt x="5487" y="8111"/>
                  <a:pt x="5558" y="8140"/>
                  <a:pt x="5631" y="8161"/>
                </a:cubicBezTo>
                <a:cubicBezTo>
                  <a:pt x="5682" y="8176"/>
                  <a:pt x="5847" y="8218"/>
                  <a:pt x="5904" y="8186"/>
                </a:cubicBezTo>
                <a:cubicBezTo>
                  <a:pt x="5920" y="8169"/>
                  <a:pt x="5937" y="8153"/>
                  <a:pt x="5953" y="8136"/>
                </a:cubicBezTo>
              </a:path>
              <a:path w="3151" h="1266">
                <a:moveTo>
                  <a:pt x="6127" y="7268"/>
                </a:moveTo>
                <a:cubicBezTo>
                  <a:pt x="6120" y="7348"/>
                  <a:pt x="6081" y="7393"/>
                  <a:pt x="6077" y="7466"/>
                </a:cubicBezTo>
                <a:cubicBezTo>
                  <a:pt x="6074" y="7512"/>
                  <a:pt x="6065" y="7597"/>
                  <a:pt x="6127" y="7615"/>
                </a:cubicBezTo>
                <a:cubicBezTo>
                  <a:pt x="6192" y="7634"/>
                  <a:pt x="6304" y="7657"/>
                  <a:pt x="6375" y="7640"/>
                </a:cubicBezTo>
                <a:cubicBezTo>
                  <a:pt x="6463" y="7619"/>
                  <a:pt x="6489" y="7595"/>
                  <a:pt x="6573" y="7541"/>
                </a:cubicBezTo>
              </a:path>
              <a:path w="3151" h="1266">
                <a:moveTo>
                  <a:pt x="6499" y="6921"/>
                </a:moveTo>
                <a:cubicBezTo>
                  <a:pt x="6466" y="6975"/>
                  <a:pt x="6451" y="7049"/>
                  <a:pt x="6449" y="7119"/>
                </a:cubicBezTo>
                <a:cubicBezTo>
                  <a:pt x="6445" y="7238"/>
                  <a:pt x="6424" y="7345"/>
                  <a:pt x="6424" y="7466"/>
                </a:cubicBezTo>
                <a:cubicBezTo>
                  <a:pt x="6424" y="7580"/>
                  <a:pt x="6445" y="7678"/>
                  <a:pt x="6449" y="7789"/>
                </a:cubicBezTo>
                <a:cubicBezTo>
                  <a:pt x="6450" y="7823"/>
                  <a:pt x="6390" y="8042"/>
                  <a:pt x="6424" y="8062"/>
                </a:cubicBezTo>
                <a:cubicBezTo>
                  <a:pt x="6432" y="8054"/>
                  <a:pt x="6441" y="8045"/>
                  <a:pt x="6449" y="8037"/>
                </a:cubicBezTo>
              </a:path>
              <a:path w="3151" h="1266">
                <a:moveTo>
                  <a:pt x="7367" y="7417"/>
                </a:moveTo>
                <a:cubicBezTo>
                  <a:pt x="7367" y="7552"/>
                  <a:pt x="7347" y="7679"/>
                  <a:pt x="7342" y="7813"/>
                </a:cubicBezTo>
                <a:cubicBezTo>
                  <a:pt x="7338" y="7916"/>
                  <a:pt x="7361" y="8010"/>
                  <a:pt x="7367" y="8111"/>
                </a:cubicBezTo>
                <a:cubicBezTo>
                  <a:pt x="7367" y="8119"/>
                  <a:pt x="7367" y="8128"/>
                  <a:pt x="7367" y="8136"/>
                </a:cubicBezTo>
              </a:path>
              <a:path w="3151" h="1266">
                <a:moveTo>
                  <a:pt x="6995" y="7640"/>
                </a:moveTo>
                <a:cubicBezTo>
                  <a:pt x="7120" y="7640"/>
                  <a:pt x="7244" y="7647"/>
                  <a:pt x="7367" y="7665"/>
                </a:cubicBezTo>
                <a:cubicBezTo>
                  <a:pt x="7489" y="7682"/>
                  <a:pt x="7590" y="7689"/>
                  <a:pt x="7714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7"/>
          <p:cNvSpPr/>
          <p:nvPr/>
        </p:nvSpPr>
        <p:spPr>
          <a:xfrm>
            <a:off x="3017880" y="2562120"/>
            <a:ext cx="3054240" cy="911160"/>
          </a:xfrm>
          <a:custGeom>
            <a:avLst/>
            <a:gdLst/>
            <a:ahLst/>
            <a:rect l="l" t="t" r="r" b="b"/>
            <a:pathLst>
              <a:path w="8484" h="2531">
                <a:moveTo>
                  <a:pt x="8434" y="7268"/>
                </a:moveTo>
                <a:cubicBezTo>
                  <a:pt x="8434" y="7355"/>
                  <a:pt x="8421" y="7432"/>
                  <a:pt x="8409" y="7516"/>
                </a:cubicBezTo>
                <a:cubicBezTo>
                  <a:pt x="8387" y="7676"/>
                  <a:pt x="8384" y="7826"/>
                  <a:pt x="8384" y="7987"/>
                </a:cubicBezTo>
                <a:cubicBezTo>
                  <a:pt x="8384" y="8081"/>
                  <a:pt x="8409" y="8164"/>
                  <a:pt x="8409" y="8260"/>
                </a:cubicBezTo>
                <a:cubicBezTo>
                  <a:pt x="8409" y="8300"/>
                  <a:pt x="8436" y="8449"/>
                  <a:pt x="8458" y="8334"/>
                </a:cubicBezTo>
              </a:path>
              <a:path w="8484" h="2531">
                <a:moveTo>
                  <a:pt x="8731" y="7541"/>
                </a:moveTo>
                <a:cubicBezTo>
                  <a:pt x="8712" y="7694"/>
                  <a:pt x="8706" y="7834"/>
                  <a:pt x="8706" y="7987"/>
                </a:cubicBezTo>
                <a:cubicBezTo>
                  <a:pt x="8706" y="8131"/>
                  <a:pt x="8789" y="8229"/>
                  <a:pt x="8880" y="8334"/>
                </a:cubicBezTo>
                <a:cubicBezTo>
                  <a:pt x="8952" y="8417"/>
                  <a:pt x="9028" y="8409"/>
                  <a:pt x="9128" y="8409"/>
                </a:cubicBezTo>
                <a:cubicBezTo>
                  <a:pt x="9278" y="8409"/>
                  <a:pt x="9349" y="8351"/>
                  <a:pt x="9426" y="8235"/>
                </a:cubicBezTo>
                <a:cubicBezTo>
                  <a:pt x="9489" y="8139"/>
                  <a:pt x="9541" y="8006"/>
                  <a:pt x="9525" y="7888"/>
                </a:cubicBezTo>
                <a:cubicBezTo>
                  <a:pt x="9508" y="7765"/>
                  <a:pt x="9463" y="7625"/>
                  <a:pt x="9401" y="7516"/>
                </a:cubicBezTo>
                <a:cubicBezTo>
                  <a:pt x="9347" y="7422"/>
                  <a:pt x="9252" y="7317"/>
                  <a:pt x="9153" y="7268"/>
                </a:cubicBezTo>
                <a:cubicBezTo>
                  <a:pt x="9068" y="7225"/>
                  <a:pt x="8971" y="7192"/>
                  <a:pt x="8880" y="7243"/>
                </a:cubicBezTo>
                <a:cubicBezTo>
                  <a:pt x="8789" y="7294"/>
                  <a:pt x="8721" y="7410"/>
                  <a:pt x="8706" y="7516"/>
                </a:cubicBezTo>
                <a:cubicBezTo>
                  <a:pt x="8689" y="7642"/>
                  <a:pt x="8749" y="7759"/>
                  <a:pt x="8806" y="7863"/>
                </a:cubicBezTo>
              </a:path>
              <a:path w="8484" h="2531">
                <a:moveTo>
                  <a:pt x="10021" y="7962"/>
                </a:moveTo>
                <a:cubicBezTo>
                  <a:pt x="9923" y="7977"/>
                  <a:pt x="9740" y="7975"/>
                  <a:pt x="9674" y="8086"/>
                </a:cubicBezTo>
                <a:cubicBezTo>
                  <a:pt x="9618" y="8181"/>
                  <a:pt x="9647" y="8338"/>
                  <a:pt x="9748" y="8384"/>
                </a:cubicBezTo>
                <a:cubicBezTo>
                  <a:pt x="9844" y="8428"/>
                  <a:pt x="9930" y="8420"/>
                  <a:pt x="9996" y="8334"/>
                </a:cubicBezTo>
                <a:cubicBezTo>
                  <a:pt x="10025" y="8297"/>
                  <a:pt x="10082" y="8203"/>
                  <a:pt x="10096" y="8161"/>
                </a:cubicBezTo>
                <a:cubicBezTo>
                  <a:pt x="10116" y="8103"/>
                  <a:pt x="10103" y="8090"/>
                  <a:pt x="10071" y="8037"/>
                </a:cubicBezTo>
                <a:cubicBezTo>
                  <a:pt x="10040" y="8129"/>
                  <a:pt x="10046" y="8211"/>
                  <a:pt x="10046" y="8310"/>
                </a:cubicBezTo>
                <a:cubicBezTo>
                  <a:pt x="10046" y="8455"/>
                  <a:pt x="10061" y="8589"/>
                  <a:pt x="10071" y="8731"/>
                </a:cubicBezTo>
                <a:cubicBezTo>
                  <a:pt x="10083" y="8899"/>
                  <a:pt x="10091" y="9123"/>
                  <a:pt x="10021" y="9277"/>
                </a:cubicBezTo>
                <a:cubicBezTo>
                  <a:pt x="9983" y="9360"/>
                  <a:pt x="9851" y="9448"/>
                  <a:pt x="9773" y="9475"/>
                </a:cubicBezTo>
                <a:cubicBezTo>
                  <a:pt x="9676" y="9508"/>
                  <a:pt x="9521" y="9512"/>
                  <a:pt x="9426" y="9475"/>
                </a:cubicBezTo>
                <a:cubicBezTo>
                  <a:pt x="9325" y="9436"/>
                  <a:pt x="9265" y="9377"/>
                  <a:pt x="9252" y="9277"/>
                </a:cubicBezTo>
              </a:path>
              <a:path w="8484" h="2531">
                <a:moveTo>
                  <a:pt x="10592" y="7962"/>
                </a:moveTo>
                <a:cubicBezTo>
                  <a:pt x="10672" y="7941"/>
                  <a:pt x="10756" y="7925"/>
                  <a:pt x="10840" y="7938"/>
                </a:cubicBezTo>
                <a:cubicBezTo>
                  <a:pt x="10873" y="7946"/>
                  <a:pt x="10906" y="7954"/>
                  <a:pt x="10939" y="7962"/>
                </a:cubicBezTo>
              </a:path>
              <a:path w="8484" h="2531">
                <a:moveTo>
                  <a:pt x="10691" y="8161"/>
                </a:moveTo>
                <a:cubicBezTo>
                  <a:pt x="10792" y="8174"/>
                  <a:pt x="10861" y="8170"/>
                  <a:pt x="10964" y="8161"/>
                </a:cubicBezTo>
                <a:cubicBezTo>
                  <a:pt x="10997" y="8161"/>
                  <a:pt x="11030" y="8161"/>
                  <a:pt x="11063" y="8161"/>
                </a:cubicBezTo>
              </a:path>
              <a:path w="8484" h="2531">
                <a:moveTo>
                  <a:pt x="11658" y="7466"/>
                </a:moveTo>
                <a:cubicBezTo>
                  <a:pt x="11731" y="7348"/>
                  <a:pt x="11776" y="7303"/>
                  <a:pt x="11931" y="7293"/>
                </a:cubicBezTo>
                <a:cubicBezTo>
                  <a:pt x="12030" y="7287"/>
                  <a:pt x="12109" y="7305"/>
                  <a:pt x="12179" y="7367"/>
                </a:cubicBezTo>
                <a:cubicBezTo>
                  <a:pt x="12240" y="7421"/>
                  <a:pt x="12245" y="7508"/>
                  <a:pt x="12229" y="7590"/>
                </a:cubicBezTo>
                <a:cubicBezTo>
                  <a:pt x="12202" y="7731"/>
                  <a:pt x="12099" y="7887"/>
                  <a:pt x="12005" y="7987"/>
                </a:cubicBezTo>
                <a:cubicBezTo>
                  <a:pt x="11918" y="8080"/>
                  <a:pt x="11814" y="8156"/>
                  <a:pt x="11733" y="8260"/>
                </a:cubicBezTo>
                <a:cubicBezTo>
                  <a:pt x="11684" y="8322"/>
                  <a:pt x="11640" y="8379"/>
                  <a:pt x="11584" y="8434"/>
                </a:cubicBezTo>
                <a:cubicBezTo>
                  <a:pt x="11576" y="8442"/>
                  <a:pt x="11567" y="8450"/>
                  <a:pt x="11559" y="8458"/>
                </a:cubicBezTo>
                <a:cubicBezTo>
                  <a:pt x="11620" y="8565"/>
                  <a:pt x="11687" y="8533"/>
                  <a:pt x="11807" y="8533"/>
                </a:cubicBezTo>
                <a:cubicBezTo>
                  <a:pt x="11950" y="8533"/>
                  <a:pt x="12090" y="8487"/>
                  <a:pt x="12229" y="8458"/>
                </a:cubicBezTo>
              </a:path>
              <a:path w="8484" h="2531">
                <a:moveTo>
                  <a:pt x="12626" y="7441"/>
                </a:moveTo>
                <a:cubicBezTo>
                  <a:pt x="12575" y="7553"/>
                  <a:pt x="12520" y="7624"/>
                  <a:pt x="12551" y="7739"/>
                </a:cubicBezTo>
                <a:cubicBezTo>
                  <a:pt x="12577" y="7833"/>
                  <a:pt x="12623" y="7901"/>
                  <a:pt x="12700" y="7962"/>
                </a:cubicBezTo>
                <a:cubicBezTo>
                  <a:pt x="12791" y="8033"/>
                  <a:pt x="12811" y="8037"/>
                  <a:pt x="12923" y="8037"/>
                </a:cubicBezTo>
              </a:path>
              <a:path w="8484" h="2531">
                <a:moveTo>
                  <a:pt x="12998" y="7119"/>
                </a:moveTo>
                <a:cubicBezTo>
                  <a:pt x="12987" y="7227"/>
                  <a:pt x="12957" y="7334"/>
                  <a:pt x="12948" y="7441"/>
                </a:cubicBezTo>
                <a:cubicBezTo>
                  <a:pt x="12931" y="7640"/>
                  <a:pt x="12962" y="7840"/>
                  <a:pt x="12973" y="8037"/>
                </a:cubicBezTo>
                <a:cubicBezTo>
                  <a:pt x="12982" y="8205"/>
                  <a:pt x="12978" y="8367"/>
                  <a:pt x="12998" y="8533"/>
                </a:cubicBezTo>
                <a:cubicBezTo>
                  <a:pt x="13012" y="8651"/>
                  <a:pt x="12962" y="8620"/>
                  <a:pt x="13072" y="8657"/>
                </a:cubicBezTo>
              </a:path>
              <a:path w="8484" h="2531">
                <a:moveTo>
                  <a:pt x="13791" y="7962"/>
                </a:moveTo>
                <a:cubicBezTo>
                  <a:pt x="13718" y="7889"/>
                  <a:pt x="13644" y="7811"/>
                  <a:pt x="13519" y="7863"/>
                </a:cubicBezTo>
                <a:cubicBezTo>
                  <a:pt x="13426" y="7902"/>
                  <a:pt x="13304" y="8014"/>
                  <a:pt x="13271" y="8111"/>
                </a:cubicBezTo>
                <a:cubicBezTo>
                  <a:pt x="13247" y="8182"/>
                  <a:pt x="13322" y="8313"/>
                  <a:pt x="13370" y="8359"/>
                </a:cubicBezTo>
                <a:cubicBezTo>
                  <a:pt x="13426" y="8413"/>
                  <a:pt x="13492" y="8431"/>
                  <a:pt x="13568" y="8434"/>
                </a:cubicBezTo>
                <a:cubicBezTo>
                  <a:pt x="13686" y="8439"/>
                  <a:pt x="13756" y="8371"/>
                  <a:pt x="13791" y="8260"/>
                </a:cubicBezTo>
                <a:cubicBezTo>
                  <a:pt x="13827" y="8148"/>
                  <a:pt x="13829" y="8117"/>
                  <a:pt x="13816" y="8012"/>
                </a:cubicBezTo>
                <a:cubicBezTo>
                  <a:pt x="13748" y="8115"/>
                  <a:pt x="13752" y="8185"/>
                  <a:pt x="13742" y="8334"/>
                </a:cubicBezTo>
                <a:cubicBezTo>
                  <a:pt x="13732" y="8489"/>
                  <a:pt x="13767" y="8649"/>
                  <a:pt x="13767" y="8806"/>
                </a:cubicBezTo>
                <a:cubicBezTo>
                  <a:pt x="13767" y="8969"/>
                  <a:pt x="13770" y="9142"/>
                  <a:pt x="13742" y="9302"/>
                </a:cubicBezTo>
                <a:cubicBezTo>
                  <a:pt x="13724" y="9404"/>
                  <a:pt x="13654" y="9515"/>
                  <a:pt x="13568" y="9575"/>
                </a:cubicBezTo>
                <a:cubicBezTo>
                  <a:pt x="13477" y="9638"/>
                  <a:pt x="13354" y="9690"/>
                  <a:pt x="13246" y="9624"/>
                </a:cubicBezTo>
                <a:cubicBezTo>
                  <a:pt x="13149" y="9565"/>
                  <a:pt x="13152" y="9447"/>
                  <a:pt x="13146" y="9351"/>
                </a:cubicBezTo>
              </a:path>
              <a:path w="8484" h="2531">
                <a:moveTo>
                  <a:pt x="14610" y="7565"/>
                </a:moveTo>
                <a:cubicBezTo>
                  <a:pt x="14602" y="7692"/>
                  <a:pt x="14585" y="7810"/>
                  <a:pt x="14585" y="7938"/>
                </a:cubicBezTo>
                <a:cubicBezTo>
                  <a:pt x="14585" y="8072"/>
                  <a:pt x="14572" y="8206"/>
                  <a:pt x="14610" y="8334"/>
                </a:cubicBezTo>
                <a:cubicBezTo>
                  <a:pt x="14632" y="8408"/>
                  <a:pt x="14635" y="8457"/>
                  <a:pt x="14635" y="8533"/>
                </a:cubicBezTo>
              </a:path>
              <a:path w="8484" h="2531">
                <a:moveTo>
                  <a:pt x="14288" y="8037"/>
                </a:moveTo>
                <a:cubicBezTo>
                  <a:pt x="14456" y="8021"/>
                  <a:pt x="14643" y="8019"/>
                  <a:pt x="14808" y="7987"/>
                </a:cubicBezTo>
                <a:cubicBezTo>
                  <a:pt x="14890" y="7960"/>
                  <a:pt x="14923" y="7949"/>
                  <a:pt x="14982" y="7938"/>
                </a:cubicBezTo>
              </a:path>
              <a:path w="8484" h="2531">
                <a:moveTo>
                  <a:pt x="15379" y="7516"/>
                </a:moveTo>
                <a:cubicBezTo>
                  <a:pt x="15459" y="7464"/>
                  <a:pt x="15556" y="7405"/>
                  <a:pt x="15652" y="7392"/>
                </a:cubicBezTo>
                <a:cubicBezTo>
                  <a:pt x="15784" y="7374"/>
                  <a:pt x="15968" y="7445"/>
                  <a:pt x="16073" y="7516"/>
                </a:cubicBezTo>
                <a:cubicBezTo>
                  <a:pt x="16203" y="7603"/>
                  <a:pt x="16218" y="7722"/>
                  <a:pt x="16222" y="7863"/>
                </a:cubicBezTo>
                <a:cubicBezTo>
                  <a:pt x="16227" y="8044"/>
                  <a:pt x="16139" y="8183"/>
                  <a:pt x="16049" y="8334"/>
                </a:cubicBezTo>
                <a:cubicBezTo>
                  <a:pt x="16003" y="8410"/>
                  <a:pt x="15907" y="8521"/>
                  <a:pt x="15825" y="8558"/>
                </a:cubicBezTo>
                <a:cubicBezTo>
                  <a:pt x="15758" y="8588"/>
                  <a:pt x="15690" y="8613"/>
                  <a:pt x="15652" y="8533"/>
                </a:cubicBezTo>
                <a:cubicBezTo>
                  <a:pt x="15613" y="8452"/>
                  <a:pt x="15615" y="8357"/>
                  <a:pt x="15652" y="8285"/>
                </a:cubicBezTo>
                <a:cubicBezTo>
                  <a:pt x="15698" y="8196"/>
                  <a:pt x="15794" y="8210"/>
                  <a:pt x="15875" y="8210"/>
                </a:cubicBezTo>
                <a:cubicBezTo>
                  <a:pt x="16078" y="8210"/>
                  <a:pt x="16201" y="8288"/>
                  <a:pt x="16371" y="8359"/>
                </a:cubicBezTo>
                <a:cubicBezTo>
                  <a:pt x="16496" y="8411"/>
                  <a:pt x="16617" y="8418"/>
                  <a:pt x="16743" y="8458"/>
                </a:cubicBezTo>
                <a:cubicBezTo>
                  <a:pt x="16794" y="8474"/>
                  <a:pt x="16815" y="8478"/>
                  <a:pt x="16867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nk 8"/>
          <p:cNvSpPr/>
          <p:nvPr/>
        </p:nvSpPr>
        <p:spPr>
          <a:xfrm>
            <a:off x="1125360" y="3357720"/>
            <a:ext cx="2276640" cy="706320"/>
          </a:xfrm>
          <a:custGeom>
            <a:avLst/>
            <a:gdLst/>
            <a:ahLst/>
            <a:rect l="l" t="t" r="r" b="b"/>
            <a:pathLst>
              <a:path w="6327" h="1960">
                <a:moveTo>
                  <a:pt x="3349" y="9748"/>
                </a:moveTo>
                <a:cubicBezTo>
                  <a:pt x="3394" y="9690"/>
                  <a:pt x="3420" y="9628"/>
                  <a:pt x="3473" y="9575"/>
                </a:cubicBezTo>
                <a:cubicBezTo>
                  <a:pt x="3524" y="9523"/>
                  <a:pt x="3597" y="9489"/>
                  <a:pt x="3671" y="9500"/>
                </a:cubicBezTo>
                <a:cubicBezTo>
                  <a:pt x="3770" y="9515"/>
                  <a:pt x="3787" y="9561"/>
                  <a:pt x="3845" y="9624"/>
                </a:cubicBezTo>
                <a:cubicBezTo>
                  <a:pt x="3909" y="9694"/>
                  <a:pt x="3931" y="9849"/>
                  <a:pt x="3919" y="9947"/>
                </a:cubicBezTo>
                <a:cubicBezTo>
                  <a:pt x="3910" y="10017"/>
                  <a:pt x="3841" y="10236"/>
                  <a:pt x="3795" y="10294"/>
                </a:cubicBezTo>
                <a:cubicBezTo>
                  <a:pt x="3768" y="10328"/>
                  <a:pt x="3590" y="10477"/>
                  <a:pt x="3547" y="10492"/>
                </a:cubicBezTo>
                <a:cubicBezTo>
                  <a:pt x="3455" y="10524"/>
                  <a:pt x="3324" y="10514"/>
                  <a:pt x="3249" y="10443"/>
                </a:cubicBezTo>
                <a:cubicBezTo>
                  <a:pt x="3221" y="10417"/>
                  <a:pt x="3133" y="10335"/>
                  <a:pt x="3125" y="10294"/>
                </a:cubicBezTo>
                <a:cubicBezTo>
                  <a:pt x="3107" y="10206"/>
                  <a:pt x="3162" y="10135"/>
                  <a:pt x="3249" y="10120"/>
                </a:cubicBezTo>
                <a:cubicBezTo>
                  <a:pt x="3358" y="10101"/>
                  <a:pt x="3446" y="10177"/>
                  <a:pt x="3522" y="10244"/>
                </a:cubicBezTo>
                <a:cubicBezTo>
                  <a:pt x="3630" y="10340"/>
                  <a:pt x="3707" y="10455"/>
                  <a:pt x="3795" y="10567"/>
                </a:cubicBezTo>
                <a:cubicBezTo>
                  <a:pt x="3846" y="10632"/>
                  <a:pt x="3834" y="10627"/>
                  <a:pt x="3845" y="10542"/>
                </a:cubicBezTo>
              </a:path>
              <a:path w="6327" h="1960">
                <a:moveTo>
                  <a:pt x="4316" y="9624"/>
                </a:moveTo>
                <a:cubicBezTo>
                  <a:pt x="4390" y="9573"/>
                  <a:pt x="4442" y="9524"/>
                  <a:pt x="4539" y="9550"/>
                </a:cubicBezTo>
                <a:cubicBezTo>
                  <a:pt x="4666" y="9584"/>
                  <a:pt x="4755" y="9676"/>
                  <a:pt x="4787" y="9798"/>
                </a:cubicBezTo>
                <a:cubicBezTo>
                  <a:pt x="4819" y="9921"/>
                  <a:pt x="4772" y="10077"/>
                  <a:pt x="4738" y="10195"/>
                </a:cubicBezTo>
                <a:cubicBezTo>
                  <a:pt x="4705" y="10309"/>
                  <a:pt x="4644" y="10344"/>
                  <a:pt x="4564" y="10418"/>
                </a:cubicBezTo>
                <a:cubicBezTo>
                  <a:pt x="4507" y="10470"/>
                  <a:pt x="4460" y="10486"/>
                  <a:pt x="4390" y="10443"/>
                </a:cubicBezTo>
                <a:cubicBezTo>
                  <a:pt x="4329" y="10405"/>
                  <a:pt x="4282" y="10309"/>
                  <a:pt x="4266" y="10244"/>
                </a:cubicBezTo>
                <a:cubicBezTo>
                  <a:pt x="4250" y="10180"/>
                  <a:pt x="4305" y="10089"/>
                  <a:pt x="4366" y="10071"/>
                </a:cubicBezTo>
                <a:cubicBezTo>
                  <a:pt x="4419" y="10055"/>
                  <a:pt x="4512" y="10153"/>
                  <a:pt x="4539" y="10195"/>
                </a:cubicBezTo>
                <a:cubicBezTo>
                  <a:pt x="4596" y="10283"/>
                  <a:pt x="4620" y="10388"/>
                  <a:pt x="4688" y="10468"/>
                </a:cubicBezTo>
                <a:cubicBezTo>
                  <a:pt x="4742" y="10531"/>
                  <a:pt x="4812" y="10517"/>
                  <a:pt x="4887" y="10517"/>
                </a:cubicBezTo>
              </a:path>
              <a:path w="6327" h="1960">
                <a:moveTo>
                  <a:pt x="5432" y="10096"/>
                </a:moveTo>
                <a:cubicBezTo>
                  <a:pt x="5306" y="9992"/>
                  <a:pt x="5301" y="10019"/>
                  <a:pt x="5159" y="10096"/>
                </a:cubicBezTo>
                <a:cubicBezTo>
                  <a:pt x="5095" y="10131"/>
                  <a:pt x="5064" y="10174"/>
                  <a:pt x="5060" y="10244"/>
                </a:cubicBezTo>
                <a:cubicBezTo>
                  <a:pt x="5057" y="10292"/>
                  <a:pt x="5087" y="10345"/>
                  <a:pt x="5135" y="10368"/>
                </a:cubicBezTo>
                <a:cubicBezTo>
                  <a:pt x="5229" y="10413"/>
                  <a:pt x="5256" y="10390"/>
                  <a:pt x="5333" y="10344"/>
                </a:cubicBezTo>
                <a:cubicBezTo>
                  <a:pt x="5378" y="10317"/>
                  <a:pt x="5442" y="10249"/>
                  <a:pt x="5457" y="10195"/>
                </a:cubicBezTo>
                <a:cubicBezTo>
                  <a:pt x="5457" y="10150"/>
                  <a:pt x="5460" y="10130"/>
                  <a:pt x="5432" y="10170"/>
                </a:cubicBezTo>
                <a:cubicBezTo>
                  <a:pt x="5402" y="10271"/>
                  <a:pt x="5391" y="10408"/>
                  <a:pt x="5407" y="10517"/>
                </a:cubicBezTo>
                <a:cubicBezTo>
                  <a:pt x="5438" y="10723"/>
                  <a:pt x="5485" y="10885"/>
                  <a:pt x="5432" y="11088"/>
                </a:cubicBezTo>
                <a:cubicBezTo>
                  <a:pt x="5404" y="11196"/>
                  <a:pt x="5349" y="11268"/>
                  <a:pt x="5234" y="11286"/>
                </a:cubicBezTo>
                <a:cubicBezTo>
                  <a:pt x="5080" y="11310"/>
                  <a:pt x="4982" y="11207"/>
                  <a:pt x="4887" y="11112"/>
                </a:cubicBezTo>
                <a:cubicBezTo>
                  <a:pt x="4799" y="11024"/>
                  <a:pt x="4780" y="10981"/>
                  <a:pt x="4762" y="10864"/>
                </a:cubicBezTo>
              </a:path>
              <a:path w="6327" h="1960">
                <a:moveTo>
                  <a:pt x="6276" y="9748"/>
                </a:moveTo>
                <a:cubicBezTo>
                  <a:pt x="6268" y="9915"/>
                  <a:pt x="6231" y="10077"/>
                  <a:pt x="6226" y="10244"/>
                </a:cubicBezTo>
                <a:cubicBezTo>
                  <a:pt x="6224" y="10307"/>
                  <a:pt x="6268" y="10415"/>
                  <a:pt x="6251" y="10468"/>
                </a:cubicBezTo>
                <a:cubicBezTo>
                  <a:pt x="6243" y="10476"/>
                  <a:pt x="6234" y="10484"/>
                  <a:pt x="6226" y="10492"/>
                </a:cubicBezTo>
              </a:path>
              <a:path w="6327" h="1960">
                <a:moveTo>
                  <a:pt x="6028" y="10071"/>
                </a:moveTo>
                <a:cubicBezTo>
                  <a:pt x="6170" y="10079"/>
                  <a:pt x="6306" y="10096"/>
                  <a:pt x="6449" y="10096"/>
                </a:cubicBezTo>
                <a:cubicBezTo>
                  <a:pt x="6490" y="10096"/>
                  <a:pt x="6532" y="10096"/>
                  <a:pt x="6573" y="10096"/>
                </a:cubicBezTo>
              </a:path>
              <a:path w="6327" h="1960">
                <a:moveTo>
                  <a:pt x="6846" y="9575"/>
                </a:moveTo>
                <a:cubicBezTo>
                  <a:pt x="6946" y="9484"/>
                  <a:pt x="7003" y="9438"/>
                  <a:pt x="7144" y="9500"/>
                </a:cubicBezTo>
                <a:cubicBezTo>
                  <a:pt x="7208" y="9528"/>
                  <a:pt x="7380" y="9624"/>
                  <a:pt x="7392" y="9699"/>
                </a:cubicBezTo>
                <a:cubicBezTo>
                  <a:pt x="7419" y="9870"/>
                  <a:pt x="7353" y="9956"/>
                  <a:pt x="7243" y="10071"/>
                </a:cubicBezTo>
                <a:cubicBezTo>
                  <a:pt x="7169" y="10148"/>
                  <a:pt x="7029" y="10237"/>
                  <a:pt x="7020" y="10344"/>
                </a:cubicBezTo>
                <a:cubicBezTo>
                  <a:pt x="7011" y="10452"/>
                  <a:pt x="7089" y="10519"/>
                  <a:pt x="7193" y="10542"/>
                </a:cubicBezTo>
                <a:cubicBezTo>
                  <a:pt x="7333" y="10573"/>
                  <a:pt x="7467" y="10492"/>
                  <a:pt x="7590" y="10443"/>
                </a:cubicBezTo>
              </a:path>
              <a:path w="6327" h="1960">
                <a:moveTo>
                  <a:pt x="7863" y="9575"/>
                </a:moveTo>
                <a:cubicBezTo>
                  <a:pt x="7788" y="9710"/>
                  <a:pt x="7829" y="9762"/>
                  <a:pt x="7913" y="9897"/>
                </a:cubicBezTo>
                <a:cubicBezTo>
                  <a:pt x="7969" y="9988"/>
                  <a:pt x="8055" y="10041"/>
                  <a:pt x="8161" y="10046"/>
                </a:cubicBezTo>
                <a:cubicBezTo>
                  <a:pt x="8234" y="10046"/>
                  <a:pt x="8258" y="10047"/>
                  <a:pt x="8285" y="9996"/>
                </a:cubicBezTo>
              </a:path>
              <a:path w="6327" h="1960">
                <a:moveTo>
                  <a:pt x="8334" y="9327"/>
                </a:moveTo>
                <a:cubicBezTo>
                  <a:pt x="8327" y="9494"/>
                  <a:pt x="8310" y="9655"/>
                  <a:pt x="8310" y="9823"/>
                </a:cubicBezTo>
                <a:cubicBezTo>
                  <a:pt x="8310" y="10005"/>
                  <a:pt x="8296" y="10164"/>
                  <a:pt x="8310" y="10344"/>
                </a:cubicBezTo>
                <a:cubicBezTo>
                  <a:pt x="8318" y="10445"/>
                  <a:pt x="8303" y="10547"/>
                  <a:pt x="8334" y="10641"/>
                </a:cubicBezTo>
                <a:cubicBezTo>
                  <a:pt x="8362" y="10698"/>
                  <a:pt x="8378" y="10712"/>
                  <a:pt x="8434" y="10666"/>
                </a:cubicBezTo>
              </a:path>
              <a:path w="6327" h="1960">
                <a:moveTo>
                  <a:pt x="8905" y="10071"/>
                </a:moveTo>
                <a:cubicBezTo>
                  <a:pt x="9179" y="10107"/>
                  <a:pt x="9209" y="10092"/>
                  <a:pt x="9351" y="10145"/>
                </a:cubicBezTo>
              </a:path>
              <a:path w="6327" h="1960">
                <a:moveTo>
                  <a:pt x="8954" y="10269"/>
                </a:moveTo>
                <a:cubicBezTo>
                  <a:pt x="9144" y="10310"/>
                  <a:pt x="9263" y="10334"/>
                  <a:pt x="9451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Ink 9"/>
          <p:cNvSpPr/>
          <p:nvPr/>
        </p:nvSpPr>
        <p:spPr>
          <a:xfrm>
            <a:off x="3670200" y="3419640"/>
            <a:ext cx="1758960" cy="866520"/>
          </a:xfrm>
          <a:custGeom>
            <a:avLst/>
            <a:gdLst/>
            <a:ahLst/>
            <a:rect l="l" t="t" r="r" b="b"/>
            <a:pathLst>
              <a:path w="4887" h="2407">
                <a:moveTo>
                  <a:pt x="10195" y="9624"/>
                </a:moveTo>
                <a:cubicBezTo>
                  <a:pt x="10340" y="9614"/>
                  <a:pt x="10487" y="9580"/>
                  <a:pt x="10616" y="9674"/>
                </a:cubicBezTo>
                <a:cubicBezTo>
                  <a:pt x="10741" y="9765"/>
                  <a:pt x="10627" y="9881"/>
                  <a:pt x="10567" y="9971"/>
                </a:cubicBezTo>
                <a:cubicBezTo>
                  <a:pt x="10493" y="10082"/>
                  <a:pt x="10379" y="10147"/>
                  <a:pt x="10294" y="10244"/>
                </a:cubicBezTo>
                <a:cubicBezTo>
                  <a:pt x="10207" y="10343"/>
                  <a:pt x="10195" y="10389"/>
                  <a:pt x="10195" y="10517"/>
                </a:cubicBezTo>
                <a:cubicBezTo>
                  <a:pt x="10195" y="10631"/>
                  <a:pt x="10381" y="10748"/>
                  <a:pt x="10468" y="10790"/>
                </a:cubicBezTo>
                <a:cubicBezTo>
                  <a:pt x="10569" y="10840"/>
                  <a:pt x="10663" y="10809"/>
                  <a:pt x="10765" y="10790"/>
                </a:cubicBezTo>
              </a:path>
              <a:path w="4887" h="2407">
                <a:moveTo>
                  <a:pt x="10964" y="9723"/>
                </a:moveTo>
                <a:cubicBezTo>
                  <a:pt x="10933" y="9806"/>
                  <a:pt x="10939" y="9880"/>
                  <a:pt x="10939" y="9971"/>
                </a:cubicBezTo>
                <a:cubicBezTo>
                  <a:pt x="10939" y="10074"/>
                  <a:pt x="10978" y="10142"/>
                  <a:pt x="11063" y="10195"/>
                </a:cubicBezTo>
                <a:cubicBezTo>
                  <a:pt x="11141" y="10243"/>
                  <a:pt x="11196" y="10211"/>
                  <a:pt x="11286" y="10195"/>
                </a:cubicBezTo>
              </a:path>
              <a:path w="4887" h="2407">
                <a:moveTo>
                  <a:pt x="11385" y="9500"/>
                </a:moveTo>
                <a:cubicBezTo>
                  <a:pt x="11357" y="9682"/>
                  <a:pt x="11336" y="9837"/>
                  <a:pt x="11336" y="10021"/>
                </a:cubicBezTo>
                <a:cubicBezTo>
                  <a:pt x="11336" y="10274"/>
                  <a:pt x="11317" y="10554"/>
                  <a:pt x="11361" y="10790"/>
                </a:cubicBezTo>
                <a:cubicBezTo>
                  <a:pt x="11361" y="10831"/>
                  <a:pt x="11352" y="10848"/>
                  <a:pt x="11385" y="10840"/>
                </a:cubicBezTo>
              </a:path>
              <a:path w="4887" h="2407">
                <a:moveTo>
                  <a:pt x="12030" y="10319"/>
                </a:moveTo>
                <a:cubicBezTo>
                  <a:pt x="11963" y="10218"/>
                  <a:pt x="11941" y="10195"/>
                  <a:pt x="11807" y="10220"/>
                </a:cubicBezTo>
                <a:cubicBezTo>
                  <a:pt x="11708" y="10239"/>
                  <a:pt x="11663" y="10270"/>
                  <a:pt x="11658" y="10368"/>
                </a:cubicBezTo>
                <a:cubicBezTo>
                  <a:pt x="11652" y="10479"/>
                  <a:pt x="11683" y="10542"/>
                  <a:pt x="11757" y="10616"/>
                </a:cubicBezTo>
                <a:cubicBezTo>
                  <a:pt x="11828" y="10687"/>
                  <a:pt x="11863" y="10708"/>
                  <a:pt x="11956" y="10666"/>
                </a:cubicBezTo>
                <a:cubicBezTo>
                  <a:pt x="12042" y="10627"/>
                  <a:pt x="12064" y="10600"/>
                  <a:pt x="12105" y="10517"/>
                </a:cubicBezTo>
                <a:cubicBezTo>
                  <a:pt x="12132" y="10462"/>
                  <a:pt x="12129" y="10429"/>
                  <a:pt x="12129" y="10368"/>
                </a:cubicBezTo>
                <a:cubicBezTo>
                  <a:pt x="12118" y="10390"/>
                  <a:pt x="12058" y="10533"/>
                  <a:pt x="12055" y="10641"/>
                </a:cubicBezTo>
                <a:cubicBezTo>
                  <a:pt x="12047" y="10968"/>
                  <a:pt x="12093" y="11312"/>
                  <a:pt x="12030" y="11633"/>
                </a:cubicBezTo>
                <a:cubicBezTo>
                  <a:pt x="12010" y="11733"/>
                  <a:pt x="11973" y="11849"/>
                  <a:pt x="11881" y="11906"/>
                </a:cubicBezTo>
                <a:cubicBezTo>
                  <a:pt x="11665" y="12040"/>
                  <a:pt x="11464" y="11665"/>
                  <a:pt x="11410" y="11559"/>
                </a:cubicBezTo>
                <a:cubicBezTo>
                  <a:pt x="11381" y="11445"/>
                  <a:pt x="11373" y="11396"/>
                  <a:pt x="11385" y="11311"/>
                </a:cubicBezTo>
              </a:path>
              <a:path w="4887" h="2407">
                <a:moveTo>
                  <a:pt x="12650" y="9971"/>
                </a:moveTo>
                <a:cubicBezTo>
                  <a:pt x="12695" y="10046"/>
                  <a:pt x="12661" y="10131"/>
                  <a:pt x="12675" y="10220"/>
                </a:cubicBezTo>
                <a:cubicBezTo>
                  <a:pt x="12693" y="10339"/>
                  <a:pt x="12704" y="10454"/>
                  <a:pt x="12750" y="10567"/>
                </a:cubicBezTo>
                <a:cubicBezTo>
                  <a:pt x="12776" y="10631"/>
                  <a:pt x="12782" y="10635"/>
                  <a:pt x="12750" y="10691"/>
                </a:cubicBezTo>
              </a:path>
              <a:path w="4887" h="2407">
                <a:moveTo>
                  <a:pt x="12452" y="10244"/>
                </a:moveTo>
                <a:cubicBezTo>
                  <a:pt x="12661" y="10263"/>
                  <a:pt x="12870" y="10313"/>
                  <a:pt x="13072" y="10269"/>
                </a:cubicBezTo>
              </a:path>
              <a:path w="4887" h="2407">
                <a:moveTo>
                  <a:pt x="13543" y="9823"/>
                </a:moveTo>
                <a:cubicBezTo>
                  <a:pt x="13767" y="9767"/>
                  <a:pt x="13786" y="9784"/>
                  <a:pt x="13990" y="9847"/>
                </a:cubicBezTo>
                <a:cubicBezTo>
                  <a:pt x="14187" y="9907"/>
                  <a:pt x="14258" y="10016"/>
                  <a:pt x="14312" y="10220"/>
                </a:cubicBezTo>
                <a:cubicBezTo>
                  <a:pt x="14338" y="10318"/>
                  <a:pt x="14191" y="10474"/>
                  <a:pt x="14114" y="10517"/>
                </a:cubicBezTo>
                <a:cubicBezTo>
                  <a:pt x="13954" y="10607"/>
                  <a:pt x="13848" y="10658"/>
                  <a:pt x="13692" y="10567"/>
                </a:cubicBezTo>
                <a:cubicBezTo>
                  <a:pt x="13579" y="10500"/>
                  <a:pt x="13565" y="10407"/>
                  <a:pt x="13667" y="10319"/>
                </a:cubicBezTo>
                <a:cubicBezTo>
                  <a:pt x="13784" y="10218"/>
                  <a:pt x="13990" y="10279"/>
                  <a:pt x="14114" y="10344"/>
                </a:cubicBezTo>
                <a:cubicBezTo>
                  <a:pt x="14304" y="10444"/>
                  <a:pt x="14437" y="10593"/>
                  <a:pt x="14610" y="10716"/>
                </a:cubicBezTo>
                <a:cubicBezTo>
                  <a:pt x="14761" y="10823"/>
                  <a:pt x="14907" y="10862"/>
                  <a:pt x="15081" y="109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Ink 10"/>
          <p:cNvSpPr/>
          <p:nvPr/>
        </p:nvSpPr>
        <p:spPr>
          <a:xfrm>
            <a:off x="892080" y="3402000"/>
            <a:ext cx="1100160" cy="1152360"/>
          </a:xfrm>
          <a:custGeom>
            <a:avLst/>
            <a:gdLst/>
            <a:ahLst/>
            <a:rect l="l" t="t" r="r" b="b"/>
            <a:pathLst>
              <a:path w="3052" h="3200">
                <a:moveTo>
                  <a:pt x="2480" y="11162"/>
                </a:moveTo>
                <a:cubicBezTo>
                  <a:pt x="2587" y="11108"/>
                  <a:pt x="2683" y="11112"/>
                  <a:pt x="2803" y="11112"/>
                </a:cubicBezTo>
                <a:cubicBezTo>
                  <a:pt x="2887" y="11112"/>
                  <a:pt x="2921" y="11110"/>
                  <a:pt x="2977" y="11088"/>
                </a:cubicBezTo>
              </a:path>
              <a:path w="3052" h="3200">
                <a:moveTo>
                  <a:pt x="3423" y="10790"/>
                </a:moveTo>
                <a:cubicBezTo>
                  <a:pt x="3558" y="10795"/>
                  <a:pt x="3737" y="10771"/>
                  <a:pt x="3795" y="10939"/>
                </a:cubicBezTo>
                <a:cubicBezTo>
                  <a:pt x="3835" y="11055"/>
                  <a:pt x="3755" y="11127"/>
                  <a:pt x="3696" y="11212"/>
                </a:cubicBezTo>
                <a:cubicBezTo>
                  <a:pt x="3630" y="11306"/>
                  <a:pt x="3558" y="11363"/>
                  <a:pt x="3473" y="11435"/>
                </a:cubicBezTo>
                <a:cubicBezTo>
                  <a:pt x="3427" y="11474"/>
                  <a:pt x="3351" y="11539"/>
                  <a:pt x="3373" y="11609"/>
                </a:cubicBezTo>
                <a:cubicBezTo>
                  <a:pt x="3388" y="11658"/>
                  <a:pt x="3540" y="11705"/>
                  <a:pt x="3572" y="11708"/>
                </a:cubicBezTo>
                <a:cubicBezTo>
                  <a:pt x="3728" y="11721"/>
                  <a:pt x="3848" y="11703"/>
                  <a:pt x="3994" y="11658"/>
                </a:cubicBezTo>
              </a:path>
              <a:path w="3052" h="3200">
                <a:moveTo>
                  <a:pt x="4192" y="11013"/>
                </a:moveTo>
                <a:cubicBezTo>
                  <a:pt x="4281" y="11027"/>
                  <a:pt x="4460" y="11009"/>
                  <a:pt x="4490" y="11137"/>
                </a:cubicBezTo>
                <a:cubicBezTo>
                  <a:pt x="4508" y="11215"/>
                  <a:pt x="4437" y="11264"/>
                  <a:pt x="4390" y="11311"/>
                </a:cubicBezTo>
                <a:cubicBezTo>
                  <a:pt x="4320" y="11382"/>
                  <a:pt x="4216" y="11428"/>
                  <a:pt x="4192" y="11534"/>
                </a:cubicBezTo>
                <a:cubicBezTo>
                  <a:pt x="4169" y="11638"/>
                  <a:pt x="4260" y="11696"/>
                  <a:pt x="4341" y="11733"/>
                </a:cubicBezTo>
                <a:cubicBezTo>
                  <a:pt x="4432" y="11775"/>
                  <a:pt x="4541" y="11757"/>
                  <a:pt x="4638" y="11757"/>
                </a:cubicBezTo>
              </a:path>
              <a:path w="3052" h="3200">
                <a:moveTo>
                  <a:pt x="5308" y="11336"/>
                </a:moveTo>
                <a:cubicBezTo>
                  <a:pt x="5230" y="11277"/>
                  <a:pt x="5183" y="11267"/>
                  <a:pt x="5085" y="11311"/>
                </a:cubicBezTo>
                <a:cubicBezTo>
                  <a:pt x="5015" y="11342"/>
                  <a:pt x="4872" y="11412"/>
                  <a:pt x="4887" y="11509"/>
                </a:cubicBezTo>
                <a:cubicBezTo>
                  <a:pt x="4897" y="11570"/>
                  <a:pt x="4979" y="11624"/>
                  <a:pt x="5035" y="11633"/>
                </a:cubicBezTo>
                <a:cubicBezTo>
                  <a:pt x="5102" y="11644"/>
                  <a:pt x="5227" y="11647"/>
                  <a:pt x="5283" y="11609"/>
                </a:cubicBezTo>
                <a:cubicBezTo>
                  <a:pt x="5341" y="11569"/>
                  <a:pt x="5405" y="11507"/>
                  <a:pt x="5457" y="11460"/>
                </a:cubicBezTo>
                <a:cubicBezTo>
                  <a:pt x="5485" y="11432"/>
                  <a:pt x="5494" y="11418"/>
                  <a:pt x="5482" y="11385"/>
                </a:cubicBezTo>
                <a:cubicBezTo>
                  <a:pt x="5450" y="11469"/>
                  <a:pt x="5445" y="11565"/>
                  <a:pt x="5457" y="11658"/>
                </a:cubicBezTo>
                <a:cubicBezTo>
                  <a:pt x="5480" y="11831"/>
                  <a:pt x="5515" y="12005"/>
                  <a:pt x="5531" y="12179"/>
                </a:cubicBezTo>
                <a:cubicBezTo>
                  <a:pt x="5548" y="12367"/>
                  <a:pt x="5483" y="12472"/>
                  <a:pt x="5358" y="12576"/>
                </a:cubicBezTo>
                <a:cubicBezTo>
                  <a:pt x="5266" y="12652"/>
                  <a:pt x="5179" y="12678"/>
                  <a:pt x="5060" y="12626"/>
                </a:cubicBezTo>
                <a:cubicBezTo>
                  <a:pt x="5030" y="12596"/>
                  <a:pt x="5025" y="12582"/>
                  <a:pt x="5060" y="12551"/>
                </a:cubicBezTo>
              </a:path>
              <a:path w="3052" h="3200">
                <a:moveTo>
                  <a:pt x="4936" y="9451"/>
                </a:moveTo>
                <a:cubicBezTo>
                  <a:pt x="4863" y="9631"/>
                  <a:pt x="4768" y="9791"/>
                  <a:pt x="4688" y="9971"/>
                </a:cubicBezTo>
                <a:cubicBezTo>
                  <a:pt x="4571" y="10234"/>
                  <a:pt x="4456" y="10492"/>
                  <a:pt x="4366" y="10765"/>
                </a:cubicBezTo>
                <a:cubicBezTo>
                  <a:pt x="4290" y="10996"/>
                  <a:pt x="4218" y="11231"/>
                  <a:pt x="4142" y="11460"/>
                </a:cubicBezTo>
                <a:cubicBezTo>
                  <a:pt x="4095" y="11602"/>
                  <a:pt x="4048" y="11714"/>
                  <a:pt x="4018" y="11857"/>
                </a:cubicBezTo>
                <a:cubicBezTo>
                  <a:pt x="3994" y="11930"/>
                  <a:pt x="3986" y="11953"/>
                  <a:pt x="3994" y="120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11"/>
          <p:cNvSpPr/>
          <p:nvPr/>
        </p:nvSpPr>
        <p:spPr>
          <a:xfrm>
            <a:off x="2276640" y="4840200"/>
            <a:ext cx="2063520" cy="1054080"/>
          </a:xfrm>
          <a:custGeom>
            <a:avLst/>
            <a:gdLst/>
            <a:ahLst/>
            <a:rect l="l" t="t" r="r" b="b"/>
            <a:pathLst>
              <a:path w="5731" h="2928">
                <a:moveTo>
                  <a:pt x="6325" y="13667"/>
                </a:moveTo>
                <a:cubicBezTo>
                  <a:pt x="6447" y="13652"/>
                  <a:pt x="6569" y="13633"/>
                  <a:pt x="6697" y="13618"/>
                </a:cubicBezTo>
              </a:path>
              <a:path w="5731" h="2928">
                <a:moveTo>
                  <a:pt x="7045" y="13444"/>
                </a:moveTo>
                <a:cubicBezTo>
                  <a:pt x="7162" y="13486"/>
                  <a:pt x="7215" y="13524"/>
                  <a:pt x="7293" y="13618"/>
                </a:cubicBezTo>
                <a:cubicBezTo>
                  <a:pt x="7332" y="13665"/>
                  <a:pt x="7216" y="13754"/>
                  <a:pt x="7169" y="13791"/>
                </a:cubicBezTo>
                <a:cubicBezTo>
                  <a:pt x="7085" y="13857"/>
                  <a:pt x="7032" y="13858"/>
                  <a:pt x="6970" y="13940"/>
                </a:cubicBezTo>
                <a:cubicBezTo>
                  <a:pt x="6936" y="13984"/>
                  <a:pt x="6934" y="14035"/>
                  <a:pt x="6995" y="14064"/>
                </a:cubicBezTo>
                <a:cubicBezTo>
                  <a:pt x="7104" y="14116"/>
                  <a:pt x="7226" y="14108"/>
                  <a:pt x="7342" y="14114"/>
                </a:cubicBezTo>
              </a:path>
              <a:path w="5731" h="2928">
                <a:moveTo>
                  <a:pt x="10790" y="13990"/>
                </a:moveTo>
                <a:cubicBezTo>
                  <a:pt x="10840" y="13982"/>
                  <a:pt x="10889" y="13973"/>
                  <a:pt x="10939" y="13965"/>
                </a:cubicBezTo>
              </a:path>
              <a:path w="5731" h="2928">
                <a:moveTo>
                  <a:pt x="11311" y="13791"/>
                </a:moveTo>
                <a:cubicBezTo>
                  <a:pt x="11488" y="13798"/>
                  <a:pt x="11535" y="13802"/>
                  <a:pt x="11683" y="13866"/>
                </a:cubicBezTo>
                <a:cubicBezTo>
                  <a:pt x="11735" y="13889"/>
                  <a:pt x="11837" y="13931"/>
                  <a:pt x="11857" y="13990"/>
                </a:cubicBezTo>
                <a:cubicBezTo>
                  <a:pt x="11857" y="14006"/>
                  <a:pt x="11857" y="14023"/>
                  <a:pt x="11857" y="14039"/>
                </a:cubicBezTo>
                <a:cubicBezTo>
                  <a:pt x="11783" y="14048"/>
                  <a:pt x="11705" y="14061"/>
                  <a:pt x="11633" y="14089"/>
                </a:cubicBezTo>
                <a:cubicBezTo>
                  <a:pt x="11549" y="14121"/>
                  <a:pt x="11491" y="14195"/>
                  <a:pt x="11509" y="14288"/>
                </a:cubicBezTo>
                <a:cubicBezTo>
                  <a:pt x="11526" y="14375"/>
                  <a:pt x="11604" y="14395"/>
                  <a:pt x="11658" y="14436"/>
                </a:cubicBezTo>
                <a:cubicBezTo>
                  <a:pt x="11765" y="14516"/>
                  <a:pt x="11804" y="14571"/>
                  <a:pt x="11956" y="14585"/>
                </a:cubicBezTo>
                <a:cubicBezTo>
                  <a:pt x="12005" y="14585"/>
                  <a:pt x="12022" y="14585"/>
                  <a:pt x="12055" y="14585"/>
                </a:cubicBezTo>
              </a:path>
              <a:path w="5731" h="2928">
                <a:moveTo>
                  <a:pt x="7020" y="14536"/>
                </a:moveTo>
                <a:cubicBezTo>
                  <a:pt x="7086" y="14470"/>
                  <a:pt x="7085" y="14497"/>
                  <a:pt x="7169" y="14511"/>
                </a:cubicBezTo>
                <a:cubicBezTo>
                  <a:pt x="7313" y="14535"/>
                  <a:pt x="7418" y="14563"/>
                  <a:pt x="7516" y="14684"/>
                </a:cubicBezTo>
                <a:cubicBezTo>
                  <a:pt x="7598" y="14786"/>
                  <a:pt x="7483" y="14870"/>
                  <a:pt x="7417" y="14932"/>
                </a:cubicBezTo>
                <a:cubicBezTo>
                  <a:pt x="7352" y="14994"/>
                  <a:pt x="7249" y="15045"/>
                  <a:pt x="7193" y="15106"/>
                </a:cubicBezTo>
                <a:cubicBezTo>
                  <a:pt x="7131" y="15173"/>
                  <a:pt x="7140" y="15252"/>
                  <a:pt x="7169" y="15329"/>
                </a:cubicBezTo>
                <a:cubicBezTo>
                  <a:pt x="7196" y="15401"/>
                  <a:pt x="7282" y="15495"/>
                  <a:pt x="7367" y="15478"/>
                </a:cubicBezTo>
                <a:cubicBezTo>
                  <a:pt x="7417" y="15462"/>
                  <a:pt x="7466" y="15445"/>
                  <a:pt x="7516" y="15429"/>
                </a:cubicBezTo>
              </a:path>
              <a:path w="5731" h="2928">
                <a:moveTo>
                  <a:pt x="7689" y="14684"/>
                </a:moveTo>
                <a:cubicBezTo>
                  <a:pt x="7823" y="14690"/>
                  <a:pt x="7970" y="14650"/>
                  <a:pt x="7938" y="14833"/>
                </a:cubicBezTo>
                <a:cubicBezTo>
                  <a:pt x="7925" y="14908"/>
                  <a:pt x="7837" y="14964"/>
                  <a:pt x="7789" y="15007"/>
                </a:cubicBezTo>
                <a:cubicBezTo>
                  <a:pt x="7733" y="15057"/>
                  <a:pt x="7717" y="15130"/>
                  <a:pt x="7714" y="15205"/>
                </a:cubicBezTo>
                <a:cubicBezTo>
                  <a:pt x="7709" y="15316"/>
                  <a:pt x="7775" y="15386"/>
                  <a:pt x="7863" y="15453"/>
                </a:cubicBezTo>
                <a:cubicBezTo>
                  <a:pt x="7941" y="15492"/>
                  <a:pt x="7988" y="15500"/>
                  <a:pt x="8062" y="15478"/>
                </a:cubicBezTo>
              </a:path>
              <a:path w="5731" h="2928">
                <a:moveTo>
                  <a:pt x="8359" y="15032"/>
                </a:moveTo>
                <a:cubicBezTo>
                  <a:pt x="8432" y="15048"/>
                  <a:pt x="8509" y="15069"/>
                  <a:pt x="8582" y="15081"/>
                </a:cubicBezTo>
              </a:path>
              <a:path w="5731" h="2928">
                <a:moveTo>
                  <a:pt x="8285" y="15230"/>
                </a:moveTo>
                <a:cubicBezTo>
                  <a:pt x="8443" y="15340"/>
                  <a:pt x="8432" y="15365"/>
                  <a:pt x="8582" y="15379"/>
                </a:cubicBezTo>
              </a:path>
              <a:path w="5731" h="2928">
                <a:moveTo>
                  <a:pt x="8880" y="14734"/>
                </a:moveTo>
                <a:cubicBezTo>
                  <a:pt x="9034" y="14688"/>
                  <a:pt x="9086" y="14652"/>
                  <a:pt x="9227" y="14734"/>
                </a:cubicBezTo>
                <a:cubicBezTo>
                  <a:pt x="9278" y="14764"/>
                  <a:pt x="9276" y="14810"/>
                  <a:pt x="9252" y="14858"/>
                </a:cubicBezTo>
                <a:cubicBezTo>
                  <a:pt x="9220" y="14922"/>
                  <a:pt x="9108" y="14922"/>
                  <a:pt x="9054" y="14957"/>
                </a:cubicBezTo>
                <a:cubicBezTo>
                  <a:pt x="9019" y="14979"/>
                  <a:pt x="8935" y="15065"/>
                  <a:pt x="8930" y="15106"/>
                </a:cubicBezTo>
                <a:cubicBezTo>
                  <a:pt x="8909" y="15270"/>
                  <a:pt x="8965" y="15246"/>
                  <a:pt x="9029" y="15354"/>
                </a:cubicBezTo>
                <a:cubicBezTo>
                  <a:pt x="9082" y="15444"/>
                  <a:pt x="9150" y="15443"/>
                  <a:pt x="9252" y="15453"/>
                </a:cubicBezTo>
              </a:path>
              <a:path w="5731" h="2928">
                <a:moveTo>
                  <a:pt x="9674" y="15007"/>
                </a:moveTo>
                <a:cubicBezTo>
                  <a:pt x="9589" y="14969"/>
                  <a:pt x="9479" y="14873"/>
                  <a:pt x="9401" y="14982"/>
                </a:cubicBezTo>
                <a:cubicBezTo>
                  <a:pt x="9345" y="15060"/>
                  <a:pt x="9342" y="15117"/>
                  <a:pt x="9376" y="15205"/>
                </a:cubicBezTo>
                <a:cubicBezTo>
                  <a:pt x="9400" y="15269"/>
                  <a:pt x="9440" y="15358"/>
                  <a:pt x="9525" y="15354"/>
                </a:cubicBezTo>
                <a:cubicBezTo>
                  <a:pt x="9602" y="15350"/>
                  <a:pt x="9672" y="15281"/>
                  <a:pt x="9723" y="15230"/>
                </a:cubicBezTo>
                <a:cubicBezTo>
                  <a:pt x="9766" y="15187"/>
                  <a:pt x="9795" y="15025"/>
                  <a:pt x="9773" y="15081"/>
                </a:cubicBezTo>
                <a:cubicBezTo>
                  <a:pt x="9773" y="15098"/>
                  <a:pt x="9773" y="15114"/>
                  <a:pt x="9773" y="15131"/>
                </a:cubicBezTo>
                <a:cubicBezTo>
                  <a:pt x="9762" y="15273"/>
                  <a:pt x="9748" y="15408"/>
                  <a:pt x="9748" y="15553"/>
                </a:cubicBezTo>
                <a:cubicBezTo>
                  <a:pt x="9748" y="15784"/>
                  <a:pt x="9733" y="16051"/>
                  <a:pt x="9575" y="16197"/>
                </a:cubicBezTo>
                <a:cubicBezTo>
                  <a:pt x="9464" y="16300"/>
                  <a:pt x="9367" y="16222"/>
                  <a:pt x="9252" y="16173"/>
                </a:cubicBezTo>
                <a:cubicBezTo>
                  <a:pt x="9076" y="16098"/>
                  <a:pt x="9009" y="16017"/>
                  <a:pt x="8880" y="15875"/>
                </a:cubicBezTo>
              </a:path>
              <a:path w="5731" h="2928">
                <a:moveTo>
                  <a:pt x="7466" y="15255"/>
                </a:moveTo>
                <a:cubicBezTo>
                  <a:pt x="7673" y="15255"/>
                  <a:pt x="7879" y="15255"/>
                  <a:pt x="8086" y="15255"/>
                </a:cubicBezTo>
              </a:path>
              <a:path w="5731" h="2928">
                <a:moveTo>
                  <a:pt x="7590" y="15478"/>
                </a:moveTo>
                <a:cubicBezTo>
                  <a:pt x="7680" y="15487"/>
                  <a:pt x="7778" y="15495"/>
                  <a:pt x="7863" y="15528"/>
                </a:cubicBezTo>
                <a:cubicBezTo>
                  <a:pt x="7960" y="15565"/>
                  <a:pt x="7948" y="15597"/>
                  <a:pt x="7888" y="15652"/>
                </a:cubicBezTo>
                <a:cubicBezTo>
                  <a:pt x="7855" y="15682"/>
                  <a:pt x="7754" y="15710"/>
                  <a:pt x="7789" y="15776"/>
                </a:cubicBezTo>
                <a:cubicBezTo>
                  <a:pt x="7818" y="15832"/>
                  <a:pt x="7951" y="15935"/>
                  <a:pt x="8012" y="15949"/>
                </a:cubicBezTo>
                <a:cubicBezTo>
                  <a:pt x="8045" y="15949"/>
                  <a:pt x="8078" y="15949"/>
                  <a:pt x="8111" y="15949"/>
                </a:cubicBezTo>
              </a:path>
              <a:path w="5731" h="2928">
                <a:moveTo>
                  <a:pt x="9227" y="15478"/>
                </a:moveTo>
                <a:cubicBezTo>
                  <a:pt x="9331" y="15504"/>
                  <a:pt x="9537" y="15581"/>
                  <a:pt x="9649" y="15577"/>
                </a:cubicBezTo>
                <a:cubicBezTo>
                  <a:pt x="9722" y="15553"/>
                  <a:pt x="9746" y="15545"/>
                  <a:pt x="9798" y="15553"/>
                </a:cubicBezTo>
              </a:path>
              <a:path w="5731" h="2928">
                <a:moveTo>
                  <a:pt x="9178" y="15701"/>
                </a:moveTo>
                <a:cubicBezTo>
                  <a:pt x="9271" y="15795"/>
                  <a:pt x="9282" y="15747"/>
                  <a:pt x="9426" y="15776"/>
                </a:cubicBezTo>
                <a:cubicBezTo>
                  <a:pt x="9497" y="15790"/>
                  <a:pt x="9582" y="15825"/>
                  <a:pt x="9649" y="15850"/>
                </a:cubicBezTo>
                <a:cubicBezTo>
                  <a:pt x="9595" y="15957"/>
                  <a:pt x="9581" y="15940"/>
                  <a:pt x="9475" y="15974"/>
                </a:cubicBezTo>
                <a:cubicBezTo>
                  <a:pt x="9384" y="16003"/>
                  <a:pt x="9375" y="16096"/>
                  <a:pt x="9426" y="16173"/>
                </a:cubicBezTo>
                <a:cubicBezTo>
                  <a:pt x="9455" y="16216"/>
                  <a:pt x="9592" y="16316"/>
                  <a:pt x="9649" y="16346"/>
                </a:cubicBezTo>
                <a:cubicBezTo>
                  <a:pt x="9737" y="16376"/>
                  <a:pt x="9777" y="16384"/>
                  <a:pt x="9847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Ink 12"/>
          <p:cNvSpPr/>
          <p:nvPr/>
        </p:nvSpPr>
        <p:spPr>
          <a:xfrm>
            <a:off x="3394080" y="3990960"/>
            <a:ext cx="1027080" cy="581040"/>
          </a:xfrm>
          <a:custGeom>
            <a:avLst/>
            <a:gdLst/>
            <a:ahLst/>
            <a:rect l="l" t="t" r="r" b="b"/>
            <a:pathLst>
              <a:path w="2853" h="1613">
                <a:moveTo>
                  <a:pt x="9426" y="11584"/>
                </a:moveTo>
                <a:cubicBezTo>
                  <a:pt x="9614" y="11590"/>
                  <a:pt x="9787" y="11619"/>
                  <a:pt x="9971" y="11584"/>
                </a:cubicBezTo>
              </a:path>
              <a:path w="2853" h="1613">
                <a:moveTo>
                  <a:pt x="10294" y="11162"/>
                </a:moveTo>
                <a:cubicBezTo>
                  <a:pt x="10437" y="11091"/>
                  <a:pt x="10487" y="11067"/>
                  <a:pt x="10641" y="11112"/>
                </a:cubicBezTo>
                <a:cubicBezTo>
                  <a:pt x="10704" y="11131"/>
                  <a:pt x="10820" y="11201"/>
                  <a:pt x="10815" y="11286"/>
                </a:cubicBezTo>
                <a:cubicBezTo>
                  <a:pt x="10811" y="11353"/>
                  <a:pt x="10738" y="11428"/>
                  <a:pt x="10691" y="11460"/>
                </a:cubicBezTo>
                <a:cubicBezTo>
                  <a:pt x="10602" y="11520"/>
                  <a:pt x="10562" y="11582"/>
                  <a:pt x="10492" y="11658"/>
                </a:cubicBezTo>
                <a:cubicBezTo>
                  <a:pt x="10421" y="11736"/>
                  <a:pt x="10503" y="11803"/>
                  <a:pt x="10542" y="11857"/>
                </a:cubicBezTo>
                <a:cubicBezTo>
                  <a:pt x="10593" y="11928"/>
                  <a:pt x="10693" y="11972"/>
                  <a:pt x="10790" y="11956"/>
                </a:cubicBezTo>
                <a:cubicBezTo>
                  <a:pt x="10815" y="11948"/>
                  <a:pt x="10839" y="11939"/>
                  <a:pt x="10864" y="11931"/>
                </a:cubicBezTo>
              </a:path>
              <a:path w="2853" h="1613">
                <a:moveTo>
                  <a:pt x="10988" y="11187"/>
                </a:moveTo>
                <a:cubicBezTo>
                  <a:pt x="11167" y="11110"/>
                  <a:pt x="11184" y="11098"/>
                  <a:pt x="11361" y="11162"/>
                </a:cubicBezTo>
                <a:cubicBezTo>
                  <a:pt x="11469" y="11201"/>
                  <a:pt x="11538" y="11266"/>
                  <a:pt x="11460" y="11385"/>
                </a:cubicBezTo>
                <a:cubicBezTo>
                  <a:pt x="11407" y="11466"/>
                  <a:pt x="11300" y="11490"/>
                  <a:pt x="11237" y="11559"/>
                </a:cubicBezTo>
                <a:cubicBezTo>
                  <a:pt x="11164" y="11639"/>
                  <a:pt x="11091" y="11725"/>
                  <a:pt x="11162" y="11832"/>
                </a:cubicBezTo>
                <a:cubicBezTo>
                  <a:pt x="11231" y="11937"/>
                  <a:pt x="11291" y="11995"/>
                  <a:pt x="11410" y="12030"/>
                </a:cubicBezTo>
                <a:cubicBezTo>
                  <a:pt x="11541" y="12063"/>
                  <a:pt x="11606" y="12067"/>
                  <a:pt x="11708" y="12030"/>
                </a:cubicBezTo>
              </a:path>
              <a:path w="2853" h="1613">
                <a:moveTo>
                  <a:pt x="12179" y="11733"/>
                </a:moveTo>
                <a:cubicBezTo>
                  <a:pt x="12152" y="11585"/>
                  <a:pt x="12093" y="11578"/>
                  <a:pt x="11931" y="11559"/>
                </a:cubicBezTo>
                <a:cubicBezTo>
                  <a:pt x="11864" y="11551"/>
                  <a:pt x="11757" y="11583"/>
                  <a:pt x="11733" y="11658"/>
                </a:cubicBezTo>
                <a:cubicBezTo>
                  <a:pt x="11712" y="11723"/>
                  <a:pt x="11786" y="11822"/>
                  <a:pt x="11832" y="11857"/>
                </a:cubicBezTo>
                <a:cubicBezTo>
                  <a:pt x="11896" y="11906"/>
                  <a:pt x="12003" y="11927"/>
                  <a:pt x="12080" y="11931"/>
                </a:cubicBezTo>
                <a:cubicBezTo>
                  <a:pt x="12158" y="11935"/>
                  <a:pt x="12220" y="11903"/>
                  <a:pt x="12278" y="11857"/>
                </a:cubicBezTo>
                <a:cubicBezTo>
                  <a:pt x="12266" y="11966"/>
                  <a:pt x="12254" y="12066"/>
                  <a:pt x="12254" y="12179"/>
                </a:cubicBezTo>
                <a:cubicBezTo>
                  <a:pt x="12254" y="12308"/>
                  <a:pt x="12308" y="12553"/>
                  <a:pt x="12229" y="12650"/>
                </a:cubicBezTo>
                <a:cubicBezTo>
                  <a:pt x="12181" y="12710"/>
                  <a:pt x="12117" y="12713"/>
                  <a:pt x="12055" y="12675"/>
                </a:cubicBezTo>
                <a:cubicBezTo>
                  <a:pt x="12007" y="12645"/>
                  <a:pt x="11988" y="12621"/>
                  <a:pt x="11956" y="12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Ink 13"/>
          <p:cNvSpPr/>
          <p:nvPr/>
        </p:nvSpPr>
        <p:spPr>
          <a:xfrm>
            <a:off x="2295360" y="4446720"/>
            <a:ext cx="2178360" cy="679320"/>
          </a:xfrm>
          <a:custGeom>
            <a:avLst/>
            <a:gdLst/>
            <a:ahLst/>
            <a:rect l="l" t="t" r="r" b="b"/>
            <a:pathLst>
              <a:path w="6053" h="1886">
                <a:moveTo>
                  <a:pt x="6424" y="12378"/>
                </a:moveTo>
                <a:cubicBezTo>
                  <a:pt x="6551" y="12357"/>
                  <a:pt x="6572" y="12378"/>
                  <a:pt x="6672" y="12452"/>
                </a:cubicBezTo>
                <a:cubicBezTo>
                  <a:pt x="6735" y="12498"/>
                  <a:pt x="6849" y="12603"/>
                  <a:pt x="6796" y="12700"/>
                </a:cubicBezTo>
                <a:cubicBezTo>
                  <a:pt x="6766" y="12756"/>
                  <a:pt x="6606" y="12867"/>
                  <a:pt x="6548" y="12898"/>
                </a:cubicBezTo>
                <a:cubicBezTo>
                  <a:pt x="6466" y="12942"/>
                  <a:pt x="6399" y="12939"/>
                  <a:pt x="6375" y="13047"/>
                </a:cubicBezTo>
                <a:cubicBezTo>
                  <a:pt x="6361" y="13112"/>
                  <a:pt x="6410" y="13241"/>
                  <a:pt x="6474" y="13271"/>
                </a:cubicBezTo>
                <a:cubicBezTo>
                  <a:pt x="6640" y="13350"/>
                  <a:pt x="6777" y="13337"/>
                  <a:pt x="6945" y="13295"/>
                </a:cubicBezTo>
              </a:path>
              <a:path w="6053" h="1886">
                <a:moveTo>
                  <a:pt x="7342" y="12551"/>
                </a:moveTo>
                <a:cubicBezTo>
                  <a:pt x="7305" y="12626"/>
                  <a:pt x="7280" y="12693"/>
                  <a:pt x="7317" y="12774"/>
                </a:cubicBezTo>
                <a:cubicBezTo>
                  <a:pt x="7375" y="12900"/>
                  <a:pt x="7421" y="12933"/>
                  <a:pt x="7541" y="12998"/>
                </a:cubicBezTo>
                <a:cubicBezTo>
                  <a:pt x="7604" y="13029"/>
                  <a:pt x="7636" y="13033"/>
                  <a:pt x="7689" y="12998"/>
                </a:cubicBezTo>
              </a:path>
              <a:path w="6053" h="1886">
                <a:moveTo>
                  <a:pt x="7813" y="12477"/>
                </a:moveTo>
                <a:cubicBezTo>
                  <a:pt x="7770" y="12633"/>
                  <a:pt x="7725" y="12791"/>
                  <a:pt x="7689" y="12948"/>
                </a:cubicBezTo>
                <a:cubicBezTo>
                  <a:pt x="7657" y="13087"/>
                  <a:pt x="7640" y="13202"/>
                  <a:pt x="7640" y="13345"/>
                </a:cubicBezTo>
                <a:cubicBezTo>
                  <a:pt x="7640" y="13392"/>
                  <a:pt x="7574" y="13642"/>
                  <a:pt x="7615" y="13667"/>
                </a:cubicBezTo>
                <a:cubicBezTo>
                  <a:pt x="7640" y="13643"/>
                  <a:pt x="7649" y="13635"/>
                  <a:pt x="7665" y="13618"/>
                </a:cubicBezTo>
              </a:path>
              <a:path w="6053" h="1886">
                <a:moveTo>
                  <a:pt x="8210" y="12948"/>
                </a:moveTo>
                <a:cubicBezTo>
                  <a:pt x="8429" y="13003"/>
                  <a:pt x="8426" y="13001"/>
                  <a:pt x="8582" y="13072"/>
                </a:cubicBezTo>
              </a:path>
              <a:path w="6053" h="1886">
                <a:moveTo>
                  <a:pt x="8285" y="13146"/>
                </a:moveTo>
                <a:cubicBezTo>
                  <a:pt x="8442" y="13249"/>
                  <a:pt x="8480" y="13241"/>
                  <a:pt x="8632" y="13295"/>
                </a:cubicBezTo>
                <a:cubicBezTo>
                  <a:pt x="8696" y="13318"/>
                  <a:pt x="8701" y="13347"/>
                  <a:pt x="8682" y="13271"/>
                </a:cubicBezTo>
              </a:path>
              <a:path w="6053" h="1886">
                <a:moveTo>
                  <a:pt x="9302" y="12675"/>
                </a:moveTo>
                <a:cubicBezTo>
                  <a:pt x="9379" y="12586"/>
                  <a:pt x="9396" y="12594"/>
                  <a:pt x="9500" y="12601"/>
                </a:cubicBezTo>
                <a:cubicBezTo>
                  <a:pt x="9620" y="12609"/>
                  <a:pt x="9739" y="12653"/>
                  <a:pt x="9823" y="12750"/>
                </a:cubicBezTo>
                <a:cubicBezTo>
                  <a:pt x="9908" y="12848"/>
                  <a:pt x="9944" y="12969"/>
                  <a:pt x="9922" y="13097"/>
                </a:cubicBezTo>
                <a:cubicBezTo>
                  <a:pt x="9904" y="13207"/>
                  <a:pt x="9800" y="13422"/>
                  <a:pt x="9723" y="13494"/>
                </a:cubicBezTo>
                <a:cubicBezTo>
                  <a:pt x="9677" y="13537"/>
                  <a:pt x="9541" y="13604"/>
                  <a:pt x="9475" y="13618"/>
                </a:cubicBezTo>
                <a:cubicBezTo>
                  <a:pt x="9459" y="13618"/>
                  <a:pt x="9442" y="13618"/>
                  <a:pt x="9426" y="13618"/>
                </a:cubicBezTo>
                <a:cubicBezTo>
                  <a:pt x="9396" y="13539"/>
                  <a:pt x="9389" y="13490"/>
                  <a:pt x="9451" y="13419"/>
                </a:cubicBezTo>
                <a:cubicBezTo>
                  <a:pt x="9503" y="13360"/>
                  <a:pt x="9572" y="13346"/>
                  <a:pt x="9624" y="13419"/>
                </a:cubicBezTo>
                <a:cubicBezTo>
                  <a:pt x="9671" y="13484"/>
                  <a:pt x="9731" y="13518"/>
                  <a:pt x="9773" y="13593"/>
                </a:cubicBezTo>
                <a:cubicBezTo>
                  <a:pt x="9818" y="13674"/>
                  <a:pt x="9801" y="13658"/>
                  <a:pt x="9897" y="13667"/>
                </a:cubicBezTo>
              </a:path>
              <a:path w="6053" h="1886">
                <a:moveTo>
                  <a:pt x="10344" y="13022"/>
                </a:moveTo>
                <a:cubicBezTo>
                  <a:pt x="10232" y="13029"/>
                  <a:pt x="10087" y="13030"/>
                  <a:pt x="10046" y="13171"/>
                </a:cubicBezTo>
                <a:cubicBezTo>
                  <a:pt x="10029" y="13231"/>
                  <a:pt x="10048" y="13350"/>
                  <a:pt x="10096" y="13395"/>
                </a:cubicBezTo>
                <a:cubicBezTo>
                  <a:pt x="10154" y="13449"/>
                  <a:pt x="10202" y="13493"/>
                  <a:pt x="10294" y="13469"/>
                </a:cubicBezTo>
                <a:cubicBezTo>
                  <a:pt x="10350" y="13454"/>
                  <a:pt x="10433" y="13346"/>
                  <a:pt x="10468" y="13295"/>
                </a:cubicBezTo>
                <a:cubicBezTo>
                  <a:pt x="10494" y="13259"/>
                  <a:pt x="10531" y="13116"/>
                  <a:pt x="10517" y="13072"/>
                </a:cubicBezTo>
                <a:cubicBezTo>
                  <a:pt x="10509" y="13064"/>
                  <a:pt x="10500" y="13055"/>
                  <a:pt x="10492" y="13047"/>
                </a:cubicBezTo>
                <a:cubicBezTo>
                  <a:pt x="10456" y="13149"/>
                  <a:pt x="10421" y="13234"/>
                  <a:pt x="10418" y="13345"/>
                </a:cubicBezTo>
                <a:cubicBezTo>
                  <a:pt x="10412" y="13579"/>
                  <a:pt x="10455" y="13838"/>
                  <a:pt x="10393" y="14064"/>
                </a:cubicBezTo>
                <a:cubicBezTo>
                  <a:pt x="10361" y="14180"/>
                  <a:pt x="10357" y="14219"/>
                  <a:pt x="10244" y="14238"/>
                </a:cubicBezTo>
                <a:cubicBezTo>
                  <a:pt x="10124" y="14258"/>
                  <a:pt x="10033" y="14141"/>
                  <a:pt x="9971" y="14064"/>
                </a:cubicBezTo>
                <a:cubicBezTo>
                  <a:pt x="9881" y="13952"/>
                  <a:pt x="9903" y="13886"/>
                  <a:pt x="9947" y="13767"/>
                </a:cubicBezTo>
              </a:path>
              <a:path w="6053" h="1886">
                <a:moveTo>
                  <a:pt x="11137" y="13097"/>
                </a:moveTo>
                <a:cubicBezTo>
                  <a:pt x="11137" y="13234"/>
                  <a:pt x="11128" y="13366"/>
                  <a:pt x="11137" y="13494"/>
                </a:cubicBezTo>
                <a:cubicBezTo>
                  <a:pt x="11142" y="13563"/>
                  <a:pt x="11140" y="13612"/>
                  <a:pt x="11112" y="13667"/>
                </a:cubicBezTo>
              </a:path>
              <a:path w="6053" h="1886">
                <a:moveTo>
                  <a:pt x="10964" y="13295"/>
                </a:moveTo>
                <a:cubicBezTo>
                  <a:pt x="11068" y="13295"/>
                  <a:pt x="11159" y="13311"/>
                  <a:pt x="11261" y="13320"/>
                </a:cubicBezTo>
              </a:path>
              <a:path w="6053" h="1886">
                <a:moveTo>
                  <a:pt x="11559" y="12923"/>
                </a:moveTo>
                <a:cubicBezTo>
                  <a:pt x="11690" y="12866"/>
                  <a:pt x="11764" y="12841"/>
                  <a:pt x="11906" y="12874"/>
                </a:cubicBezTo>
                <a:cubicBezTo>
                  <a:pt x="11940" y="12882"/>
                  <a:pt x="12108" y="12943"/>
                  <a:pt x="12105" y="12998"/>
                </a:cubicBezTo>
                <a:cubicBezTo>
                  <a:pt x="12098" y="13120"/>
                  <a:pt x="11958" y="13156"/>
                  <a:pt x="11881" y="13221"/>
                </a:cubicBezTo>
                <a:cubicBezTo>
                  <a:pt x="11812" y="13280"/>
                  <a:pt x="11719" y="13309"/>
                  <a:pt x="11683" y="13395"/>
                </a:cubicBezTo>
                <a:cubicBezTo>
                  <a:pt x="11647" y="13483"/>
                  <a:pt x="11668" y="13599"/>
                  <a:pt x="11757" y="13643"/>
                </a:cubicBezTo>
                <a:cubicBezTo>
                  <a:pt x="11872" y="13700"/>
                  <a:pt x="11984" y="13714"/>
                  <a:pt x="12105" y="13742"/>
                </a:cubicBezTo>
                <a:cubicBezTo>
                  <a:pt x="12222" y="13769"/>
                  <a:pt x="12323" y="13842"/>
                  <a:pt x="12427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Ink 14"/>
          <p:cNvSpPr/>
          <p:nvPr/>
        </p:nvSpPr>
        <p:spPr>
          <a:xfrm>
            <a:off x="2714760" y="5830920"/>
            <a:ext cx="625320" cy="509400"/>
          </a:xfrm>
          <a:custGeom>
            <a:avLst/>
            <a:gdLst/>
            <a:ahLst/>
            <a:rect l="l" t="t" r="r" b="b"/>
            <a:pathLst>
              <a:path w="1737" h="1415">
                <a:moveTo>
                  <a:pt x="7541" y="16197"/>
                </a:moveTo>
                <a:cubicBezTo>
                  <a:pt x="7541" y="16341"/>
                  <a:pt x="7554" y="16478"/>
                  <a:pt x="7565" y="16619"/>
                </a:cubicBezTo>
                <a:cubicBezTo>
                  <a:pt x="7578" y="16779"/>
                  <a:pt x="7627" y="16929"/>
                  <a:pt x="7640" y="17090"/>
                </a:cubicBezTo>
                <a:cubicBezTo>
                  <a:pt x="7651" y="17228"/>
                  <a:pt x="7619" y="17192"/>
                  <a:pt x="7689" y="17264"/>
                </a:cubicBezTo>
              </a:path>
              <a:path w="1737" h="1415">
                <a:moveTo>
                  <a:pt x="7962" y="16197"/>
                </a:moveTo>
                <a:cubicBezTo>
                  <a:pt x="7971" y="16454"/>
                  <a:pt x="8034" y="16642"/>
                  <a:pt x="8086" y="16892"/>
                </a:cubicBezTo>
                <a:cubicBezTo>
                  <a:pt x="8114" y="17027"/>
                  <a:pt x="8111" y="17153"/>
                  <a:pt x="8111" y="17289"/>
                </a:cubicBezTo>
                <a:cubicBezTo>
                  <a:pt x="8111" y="17338"/>
                  <a:pt x="8111" y="17355"/>
                  <a:pt x="8111" y="17388"/>
                </a:cubicBezTo>
              </a:path>
              <a:path w="1737" h="1415">
                <a:moveTo>
                  <a:pt x="8384" y="16644"/>
                </a:moveTo>
                <a:cubicBezTo>
                  <a:pt x="8519" y="16674"/>
                  <a:pt x="8628" y="16707"/>
                  <a:pt x="8756" y="16718"/>
                </a:cubicBezTo>
              </a:path>
              <a:path w="1737" h="1415">
                <a:moveTo>
                  <a:pt x="8483" y="16917"/>
                </a:moveTo>
                <a:cubicBezTo>
                  <a:pt x="8524" y="16942"/>
                  <a:pt x="8566" y="16966"/>
                  <a:pt x="8607" y="16991"/>
                </a:cubicBezTo>
              </a:path>
              <a:path w="1737" h="1415">
                <a:moveTo>
                  <a:pt x="9277" y="16694"/>
                </a:moveTo>
                <a:cubicBezTo>
                  <a:pt x="9267" y="16573"/>
                  <a:pt x="9261" y="16521"/>
                  <a:pt x="9128" y="16495"/>
                </a:cubicBezTo>
                <a:cubicBezTo>
                  <a:pt x="9090" y="16488"/>
                  <a:pt x="8973" y="16533"/>
                  <a:pt x="8954" y="16570"/>
                </a:cubicBezTo>
                <a:cubicBezTo>
                  <a:pt x="8922" y="16634"/>
                  <a:pt x="8943" y="16708"/>
                  <a:pt x="8979" y="16768"/>
                </a:cubicBezTo>
                <a:cubicBezTo>
                  <a:pt x="9036" y="16863"/>
                  <a:pt x="9159" y="16802"/>
                  <a:pt x="9227" y="16768"/>
                </a:cubicBezTo>
                <a:cubicBezTo>
                  <a:pt x="9301" y="16731"/>
                  <a:pt x="9261" y="16696"/>
                  <a:pt x="9227" y="16768"/>
                </a:cubicBezTo>
                <a:cubicBezTo>
                  <a:pt x="9175" y="16878"/>
                  <a:pt x="9117" y="17021"/>
                  <a:pt x="9103" y="17140"/>
                </a:cubicBezTo>
                <a:cubicBezTo>
                  <a:pt x="9087" y="17279"/>
                  <a:pt x="9098" y="17431"/>
                  <a:pt x="9004" y="17537"/>
                </a:cubicBezTo>
                <a:cubicBezTo>
                  <a:pt x="8958" y="17583"/>
                  <a:pt x="8946" y="17597"/>
                  <a:pt x="8905" y="17611"/>
                </a:cubicBezTo>
                <a:cubicBezTo>
                  <a:pt x="8856" y="17563"/>
                  <a:pt x="8787" y="17498"/>
                  <a:pt x="8756" y="17438"/>
                </a:cubicBezTo>
                <a:cubicBezTo>
                  <a:pt x="8721" y="17370"/>
                  <a:pt x="8703" y="17301"/>
                  <a:pt x="8657" y="17239"/>
                </a:cubicBezTo>
                <a:cubicBezTo>
                  <a:pt x="8626" y="17197"/>
                  <a:pt x="8574" y="17169"/>
                  <a:pt x="8533" y="171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Ink 15"/>
          <p:cNvSpPr/>
          <p:nvPr/>
        </p:nvSpPr>
        <p:spPr>
          <a:xfrm>
            <a:off x="500040" y="4330800"/>
            <a:ext cx="5010120" cy="196920"/>
          </a:xfrm>
          <a:custGeom>
            <a:avLst/>
            <a:gdLst/>
            <a:ahLst/>
            <a:rect l="l" t="t" r="r" b="b"/>
            <a:pathLst>
              <a:path w="13916" h="547">
                <a:moveTo>
                  <a:pt x="15304" y="12378"/>
                </a:moveTo>
                <a:cubicBezTo>
                  <a:pt x="14946" y="12386"/>
                  <a:pt x="14593" y="12405"/>
                  <a:pt x="14238" y="12452"/>
                </a:cubicBezTo>
                <a:cubicBezTo>
                  <a:pt x="14021" y="12481"/>
                  <a:pt x="13812" y="12509"/>
                  <a:pt x="13593" y="12526"/>
                </a:cubicBezTo>
                <a:cubicBezTo>
                  <a:pt x="13328" y="12546"/>
                  <a:pt x="13065" y="12567"/>
                  <a:pt x="12799" y="12576"/>
                </a:cubicBezTo>
                <a:cubicBezTo>
                  <a:pt x="12086" y="12601"/>
                  <a:pt x="11377" y="12545"/>
                  <a:pt x="10666" y="12526"/>
                </a:cubicBezTo>
                <a:cubicBezTo>
                  <a:pt x="10127" y="12511"/>
                  <a:pt x="9593" y="12439"/>
                  <a:pt x="9054" y="12402"/>
                </a:cubicBezTo>
                <a:cubicBezTo>
                  <a:pt x="8553" y="12367"/>
                  <a:pt x="8063" y="12318"/>
                  <a:pt x="7565" y="12254"/>
                </a:cubicBezTo>
                <a:cubicBezTo>
                  <a:pt x="6933" y="12173"/>
                  <a:pt x="6291" y="12127"/>
                  <a:pt x="5655" y="12080"/>
                </a:cubicBezTo>
                <a:cubicBezTo>
                  <a:pt x="5177" y="12045"/>
                  <a:pt x="4697" y="12009"/>
                  <a:pt x="4217" y="12030"/>
                </a:cubicBezTo>
                <a:cubicBezTo>
                  <a:pt x="3615" y="12057"/>
                  <a:pt x="2916" y="12053"/>
                  <a:pt x="2332" y="12204"/>
                </a:cubicBezTo>
                <a:cubicBezTo>
                  <a:pt x="2219" y="12233"/>
                  <a:pt x="2107" y="12304"/>
                  <a:pt x="1984" y="12328"/>
                </a:cubicBezTo>
                <a:cubicBezTo>
                  <a:pt x="1894" y="12346"/>
                  <a:pt x="1801" y="12361"/>
                  <a:pt x="1712" y="12378"/>
                </a:cubicBezTo>
                <a:cubicBezTo>
                  <a:pt x="1610" y="12397"/>
                  <a:pt x="1491" y="12427"/>
                  <a:pt x="1389" y="12427"/>
                </a:cubicBezTo>
                <a:cubicBezTo>
                  <a:pt x="1414" y="12419"/>
                  <a:pt x="1438" y="12410"/>
                  <a:pt x="1463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6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   </a:t>
            </a: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Homework </a:t>
            </a: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worksheet P1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YOU WILL NOT NEED YOUR TEXTBOOK THIS WEEK AS I WILL PROVIDE YOU WITH WORKSHEETS INSTEA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e begin this course by doing </a:t>
            </a:r>
            <a:r>
              <a:rPr b="0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one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lesson from Chapter 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Anything in Chapter P is </a:t>
            </a:r>
            <a:r>
              <a:rPr b="0" i="1" lang="en-US" sz="4500" spc="-1" strike="noStrike">
                <a:solidFill>
                  <a:srgbClr val="7b9899"/>
                </a:solidFill>
                <a:latin typeface="Georgia"/>
              </a:rPr>
              <a:t>supposed</a:t>
            </a: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 to be completely review!</a:t>
            </a:r>
            <a:endParaRPr b="0" lang="en-US" sz="4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Lesson P.4</a:t>
            </a:r>
            <a:br>
              <a:rPr sz="6800"/>
            </a:b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part one</a:t>
            </a:r>
            <a:endParaRPr b="0" lang="en-US" sz="6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46b86"/>
                </a:solidFill>
                <a:latin typeface="Georgia"/>
              </a:rPr>
              <a:t>AN EQUATION WITH A DEGREE OF ONE (THERE IS ONLY ONE SOLUTION)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Linear Eq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Ink 4"/>
          <p:cNvSpPr/>
          <p:nvPr/>
        </p:nvSpPr>
        <p:spPr>
          <a:xfrm>
            <a:off x="1071720" y="6518160"/>
            <a:ext cx="17280" cy="19080"/>
          </a:xfrm>
          <a:custGeom>
            <a:avLst/>
            <a:gdLst/>
            <a:ahLst/>
            <a:rect l="l" t="t" r="r" b="b"/>
            <a:pathLst>
              <a:path w="50" h="51">
                <a:moveTo>
                  <a:pt x="2977" y="18107"/>
                </a:moveTo>
                <a:cubicBezTo>
                  <a:pt x="3001" y="18132"/>
                  <a:pt x="3009" y="18141"/>
                  <a:pt x="3026" y="181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ne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x + 8 = 15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3y = 12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Ink 4"/>
          <p:cNvSpPr/>
          <p:nvPr/>
        </p:nvSpPr>
        <p:spPr>
          <a:xfrm>
            <a:off x="1125360" y="2367000"/>
            <a:ext cx="839880" cy="714240"/>
          </a:xfrm>
          <a:custGeom>
            <a:avLst/>
            <a:gdLst/>
            <a:ahLst/>
            <a:rect l="l" t="t" r="r" b="b"/>
            <a:pathLst>
              <a:path w="2333" h="1986">
                <a:moveTo>
                  <a:pt x="3646" y="6995"/>
                </a:moveTo>
                <a:cubicBezTo>
                  <a:pt x="3472" y="6995"/>
                  <a:pt x="3299" y="6995"/>
                  <a:pt x="3125" y="6995"/>
                </a:cubicBezTo>
              </a:path>
              <a:path w="2333" h="1986">
                <a:moveTo>
                  <a:pt x="4192" y="6598"/>
                </a:moveTo>
                <a:cubicBezTo>
                  <a:pt x="4125" y="6557"/>
                  <a:pt x="4064" y="6572"/>
                  <a:pt x="3994" y="6598"/>
                </a:cubicBezTo>
                <a:cubicBezTo>
                  <a:pt x="3942" y="6617"/>
                  <a:pt x="3816" y="6636"/>
                  <a:pt x="3845" y="6722"/>
                </a:cubicBezTo>
                <a:cubicBezTo>
                  <a:pt x="3863" y="6777"/>
                  <a:pt x="3956" y="6814"/>
                  <a:pt x="3994" y="6846"/>
                </a:cubicBezTo>
                <a:cubicBezTo>
                  <a:pt x="4087" y="6924"/>
                  <a:pt x="4178" y="6981"/>
                  <a:pt x="4266" y="7069"/>
                </a:cubicBezTo>
                <a:cubicBezTo>
                  <a:pt x="4298" y="7101"/>
                  <a:pt x="4355" y="7173"/>
                  <a:pt x="4366" y="7218"/>
                </a:cubicBezTo>
                <a:cubicBezTo>
                  <a:pt x="4378" y="7269"/>
                  <a:pt x="4332" y="7316"/>
                  <a:pt x="4291" y="7342"/>
                </a:cubicBezTo>
                <a:cubicBezTo>
                  <a:pt x="4225" y="7385"/>
                  <a:pt x="4154" y="7372"/>
                  <a:pt x="4093" y="7342"/>
                </a:cubicBezTo>
                <a:cubicBezTo>
                  <a:pt x="4017" y="7304"/>
                  <a:pt x="3986" y="7256"/>
                  <a:pt x="3969" y="7169"/>
                </a:cubicBezTo>
                <a:cubicBezTo>
                  <a:pt x="3952" y="7078"/>
                  <a:pt x="4026" y="6980"/>
                  <a:pt x="4043" y="6896"/>
                </a:cubicBezTo>
                <a:cubicBezTo>
                  <a:pt x="4061" y="6806"/>
                  <a:pt x="4100" y="6734"/>
                  <a:pt x="4142" y="6648"/>
                </a:cubicBezTo>
              </a:path>
              <a:path w="2333" h="1986">
                <a:moveTo>
                  <a:pt x="4043" y="7838"/>
                </a:moveTo>
                <a:cubicBezTo>
                  <a:pt x="4035" y="7923"/>
                  <a:pt x="4008" y="7980"/>
                  <a:pt x="3969" y="8062"/>
                </a:cubicBezTo>
                <a:cubicBezTo>
                  <a:pt x="3928" y="8147"/>
                  <a:pt x="3861" y="8199"/>
                  <a:pt x="3820" y="8285"/>
                </a:cubicBezTo>
                <a:cubicBezTo>
                  <a:pt x="3782" y="8365"/>
                  <a:pt x="3713" y="8388"/>
                  <a:pt x="3671" y="8458"/>
                </a:cubicBezTo>
                <a:cubicBezTo>
                  <a:pt x="3646" y="8501"/>
                  <a:pt x="3631" y="8523"/>
                  <a:pt x="3597" y="8558"/>
                </a:cubicBezTo>
              </a:path>
              <a:path w="2333" h="1986">
                <a:moveTo>
                  <a:pt x="3547" y="7888"/>
                </a:moveTo>
                <a:cubicBezTo>
                  <a:pt x="3638" y="7953"/>
                  <a:pt x="3715" y="7974"/>
                  <a:pt x="3820" y="8037"/>
                </a:cubicBezTo>
                <a:cubicBezTo>
                  <a:pt x="3928" y="8102"/>
                  <a:pt x="4045" y="8202"/>
                  <a:pt x="4142" y="8285"/>
                </a:cubicBezTo>
                <a:cubicBezTo>
                  <a:pt x="4204" y="8337"/>
                  <a:pt x="4244" y="8395"/>
                  <a:pt x="4316" y="8434"/>
                </a:cubicBezTo>
                <a:cubicBezTo>
                  <a:pt x="4357" y="8456"/>
                  <a:pt x="4396" y="8474"/>
                  <a:pt x="4440" y="8483"/>
                </a:cubicBezTo>
              </a:path>
              <a:path w="2333" h="1986">
                <a:moveTo>
                  <a:pt x="5333" y="7938"/>
                </a:moveTo>
                <a:cubicBezTo>
                  <a:pt x="5235" y="7938"/>
                  <a:pt x="5155" y="7952"/>
                  <a:pt x="5060" y="7962"/>
                </a:cubicBezTo>
                <a:cubicBezTo>
                  <a:pt x="4925" y="7976"/>
                  <a:pt x="4785" y="7954"/>
                  <a:pt x="4663" y="7987"/>
                </a:cubicBezTo>
                <a:cubicBezTo>
                  <a:pt x="4655" y="7987"/>
                  <a:pt x="4646" y="7987"/>
                  <a:pt x="4638" y="7987"/>
                </a:cubicBezTo>
              </a:path>
              <a:path w="2333" h="1986">
                <a:moveTo>
                  <a:pt x="5457" y="8136"/>
                </a:moveTo>
                <a:cubicBezTo>
                  <a:pt x="5234" y="8136"/>
                  <a:pt x="5010" y="8136"/>
                  <a:pt x="4787" y="81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nk 5"/>
          <p:cNvSpPr/>
          <p:nvPr/>
        </p:nvSpPr>
        <p:spPr>
          <a:xfrm>
            <a:off x="2187720" y="2411280"/>
            <a:ext cx="982440" cy="588960"/>
          </a:xfrm>
          <a:custGeom>
            <a:avLst/>
            <a:gdLst/>
            <a:ahLst/>
            <a:rect l="l" t="t" r="r" b="b"/>
            <a:pathLst>
              <a:path w="2730" h="1638">
                <a:moveTo>
                  <a:pt x="7987" y="6995"/>
                </a:moveTo>
                <a:cubicBezTo>
                  <a:pt x="7877" y="6984"/>
                  <a:pt x="7777" y="6970"/>
                  <a:pt x="7665" y="6970"/>
                </a:cubicBezTo>
                <a:cubicBezTo>
                  <a:pt x="7600" y="6970"/>
                  <a:pt x="7573" y="6957"/>
                  <a:pt x="7516" y="6945"/>
                </a:cubicBezTo>
              </a:path>
              <a:path w="2730" h="1638">
                <a:moveTo>
                  <a:pt x="8607" y="6747"/>
                </a:moveTo>
                <a:cubicBezTo>
                  <a:pt x="8460" y="6710"/>
                  <a:pt x="8469" y="6702"/>
                  <a:pt x="8334" y="6722"/>
                </a:cubicBezTo>
                <a:cubicBezTo>
                  <a:pt x="8279" y="6730"/>
                  <a:pt x="8265" y="6739"/>
                  <a:pt x="8210" y="6747"/>
                </a:cubicBezTo>
                <a:cubicBezTo>
                  <a:pt x="8219" y="6809"/>
                  <a:pt x="8261" y="6856"/>
                  <a:pt x="8310" y="6896"/>
                </a:cubicBezTo>
                <a:cubicBezTo>
                  <a:pt x="8415" y="6981"/>
                  <a:pt x="8557" y="7026"/>
                  <a:pt x="8657" y="7119"/>
                </a:cubicBezTo>
                <a:cubicBezTo>
                  <a:pt x="8719" y="7176"/>
                  <a:pt x="8748" y="7291"/>
                  <a:pt x="8781" y="7367"/>
                </a:cubicBezTo>
                <a:cubicBezTo>
                  <a:pt x="8809" y="7432"/>
                  <a:pt x="8815" y="7435"/>
                  <a:pt x="8781" y="7491"/>
                </a:cubicBezTo>
                <a:cubicBezTo>
                  <a:pt x="8657" y="7522"/>
                  <a:pt x="8644" y="7491"/>
                  <a:pt x="8533" y="7466"/>
                </a:cubicBezTo>
                <a:cubicBezTo>
                  <a:pt x="8450" y="7447"/>
                  <a:pt x="8421" y="7388"/>
                  <a:pt x="8359" y="7317"/>
                </a:cubicBezTo>
                <a:cubicBezTo>
                  <a:pt x="8306" y="7256"/>
                  <a:pt x="8334" y="7150"/>
                  <a:pt x="8334" y="7069"/>
                </a:cubicBezTo>
                <a:cubicBezTo>
                  <a:pt x="8334" y="6979"/>
                  <a:pt x="8394" y="6945"/>
                  <a:pt x="8434" y="6871"/>
                </a:cubicBezTo>
                <a:cubicBezTo>
                  <a:pt x="8459" y="6826"/>
                  <a:pt x="8480" y="6746"/>
                  <a:pt x="8533" y="6722"/>
                </a:cubicBezTo>
                <a:cubicBezTo>
                  <a:pt x="8541" y="6722"/>
                  <a:pt x="8550" y="6722"/>
                  <a:pt x="8558" y="6722"/>
                </a:cubicBezTo>
              </a:path>
              <a:path w="2730" h="1638">
                <a:moveTo>
                  <a:pt x="6077" y="7615"/>
                </a:moveTo>
                <a:cubicBezTo>
                  <a:pt x="6206" y="7615"/>
                  <a:pt x="6328" y="7605"/>
                  <a:pt x="6449" y="7590"/>
                </a:cubicBezTo>
                <a:cubicBezTo>
                  <a:pt x="6596" y="7572"/>
                  <a:pt x="6751" y="7581"/>
                  <a:pt x="6896" y="7565"/>
                </a:cubicBezTo>
                <a:cubicBezTo>
                  <a:pt x="6945" y="7565"/>
                  <a:pt x="6962" y="7565"/>
                  <a:pt x="6995" y="7565"/>
                </a:cubicBezTo>
                <a:cubicBezTo>
                  <a:pt x="6962" y="7621"/>
                  <a:pt x="6949" y="7693"/>
                  <a:pt x="6945" y="7764"/>
                </a:cubicBezTo>
                <a:cubicBezTo>
                  <a:pt x="6941" y="7844"/>
                  <a:pt x="6888" y="7888"/>
                  <a:pt x="6871" y="7962"/>
                </a:cubicBezTo>
                <a:cubicBezTo>
                  <a:pt x="6858" y="8019"/>
                  <a:pt x="6840" y="8078"/>
                  <a:pt x="6821" y="8136"/>
                </a:cubicBezTo>
                <a:cubicBezTo>
                  <a:pt x="6799" y="8203"/>
                  <a:pt x="6789" y="8264"/>
                  <a:pt x="6772" y="83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Ink 6"/>
          <p:cNvSpPr/>
          <p:nvPr/>
        </p:nvSpPr>
        <p:spPr>
          <a:xfrm>
            <a:off x="1544760" y="3241800"/>
            <a:ext cx="1179360" cy="598320"/>
          </a:xfrm>
          <a:custGeom>
            <a:avLst/>
            <a:gdLst/>
            <a:ahLst/>
            <a:rect l="l" t="t" r="r" b="b"/>
            <a:pathLst>
              <a:path w="3275" h="1663">
                <a:moveTo>
                  <a:pt x="4291" y="9203"/>
                </a:moveTo>
                <a:cubicBezTo>
                  <a:pt x="4338" y="9285"/>
                  <a:pt x="4342" y="9337"/>
                  <a:pt x="4366" y="9426"/>
                </a:cubicBezTo>
                <a:cubicBezTo>
                  <a:pt x="4394" y="9532"/>
                  <a:pt x="4380" y="9592"/>
                  <a:pt x="4366" y="9699"/>
                </a:cubicBezTo>
                <a:cubicBezTo>
                  <a:pt x="4360" y="9744"/>
                  <a:pt x="4350" y="9779"/>
                  <a:pt x="4341" y="9823"/>
                </a:cubicBezTo>
              </a:path>
              <a:path w="3275" h="1663">
                <a:moveTo>
                  <a:pt x="4688" y="9475"/>
                </a:moveTo>
                <a:cubicBezTo>
                  <a:pt x="4611" y="9475"/>
                  <a:pt x="4560" y="9491"/>
                  <a:pt x="4490" y="9500"/>
                </a:cubicBezTo>
                <a:cubicBezTo>
                  <a:pt x="4424" y="9500"/>
                  <a:pt x="4407" y="9500"/>
                  <a:pt x="4366" y="9500"/>
                </a:cubicBezTo>
              </a:path>
              <a:path w="3275" h="1663">
                <a:moveTo>
                  <a:pt x="4688" y="9079"/>
                </a:moveTo>
                <a:cubicBezTo>
                  <a:pt x="4697" y="9157"/>
                  <a:pt x="4698" y="9249"/>
                  <a:pt x="4713" y="9327"/>
                </a:cubicBezTo>
                <a:cubicBezTo>
                  <a:pt x="4729" y="9410"/>
                  <a:pt x="4716" y="9521"/>
                  <a:pt x="4738" y="9599"/>
                </a:cubicBezTo>
                <a:cubicBezTo>
                  <a:pt x="4751" y="9643"/>
                  <a:pt x="4762" y="9667"/>
                  <a:pt x="4762" y="9723"/>
                </a:cubicBezTo>
              </a:path>
              <a:path w="3275" h="1663">
                <a:moveTo>
                  <a:pt x="5060" y="9426"/>
                </a:moveTo>
                <a:cubicBezTo>
                  <a:pt x="5075" y="9527"/>
                  <a:pt x="5102" y="9626"/>
                  <a:pt x="5110" y="9723"/>
                </a:cubicBezTo>
                <a:cubicBezTo>
                  <a:pt x="5110" y="9731"/>
                  <a:pt x="5110" y="9740"/>
                  <a:pt x="5110" y="9748"/>
                </a:cubicBezTo>
              </a:path>
              <a:path w="3275" h="1663">
                <a:moveTo>
                  <a:pt x="5011" y="9079"/>
                </a:moveTo>
                <a:cubicBezTo>
                  <a:pt x="5019" y="9079"/>
                  <a:pt x="5027" y="9079"/>
                  <a:pt x="5035" y="9079"/>
                </a:cubicBezTo>
              </a:path>
              <a:path w="3275" h="1663">
                <a:moveTo>
                  <a:pt x="5358" y="9004"/>
                </a:moveTo>
                <a:cubicBezTo>
                  <a:pt x="5358" y="9100"/>
                  <a:pt x="5374" y="9189"/>
                  <a:pt x="5383" y="9277"/>
                </a:cubicBezTo>
                <a:cubicBezTo>
                  <a:pt x="5395" y="9395"/>
                  <a:pt x="5416" y="9509"/>
                  <a:pt x="5432" y="9624"/>
                </a:cubicBezTo>
                <a:cubicBezTo>
                  <a:pt x="5441" y="9689"/>
                  <a:pt x="5458" y="9734"/>
                  <a:pt x="5482" y="9798"/>
                </a:cubicBezTo>
              </a:path>
              <a:path w="3275" h="1663">
                <a:moveTo>
                  <a:pt x="5705" y="9004"/>
                </a:moveTo>
                <a:cubicBezTo>
                  <a:pt x="5712" y="9194"/>
                  <a:pt x="5756" y="9365"/>
                  <a:pt x="5779" y="9550"/>
                </a:cubicBezTo>
                <a:cubicBezTo>
                  <a:pt x="5787" y="9613"/>
                  <a:pt x="5796" y="9662"/>
                  <a:pt x="5804" y="9723"/>
                </a:cubicBezTo>
              </a:path>
              <a:path w="3275" h="1663">
                <a:moveTo>
                  <a:pt x="6201" y="9401"/>
                </a:moveTo>
                <a:cubicBezTo>
                  <a:pt x="6188" y="9359"/>
                  <a:pt x="6161" y="9220"/>
                  <a:pt x="6077" y="9227"/>
                </a:cubicBezTo>
                <a:cubicBezTo>
                  <a:pt x="6000" y="9233"/>
                  <a:pt x="5981" y="9320"/>
                  <a:pt x="5978" y="9376"/>
                </a:cubicBezTo>
                <a:cubicBezTo>
                  <a:pt x="5975" y="9439"/>
                  <a:pt x="5984" y="9496"/>
                  <a:pt x="6003" y="9550"/>
                </a:cubicBezTo>
                <a:cubicBezTo>
                  <a:pt x="6032" y="9631"/>
                  <a:pt x="6086" y="9669"/>
                  <a:pt x="6176" y="9649"/>
                </a:cubicBezTo>
                <a:cubicBezTo>
                  <a:pt x="6233" y="9636"/>
                  <a:pt x="6245" y="9515"/>
                  <a:pt x="6251" y="9475"/>
                </a:cubicBezTo>
                <a:cubicBezTo>
                  <a:pt x="6259" y="9423"/>
                  <a:pt x="6243" y="9277"/>
                  <a:pt x="6226" y="9327"/>
                </a:cubicBezTo>
                <a:cubicBezTo>
                  <a:pt x="6210" y="9373"/>
                  <a:pt x="6252" y="9467"/>
                  <a:pt x="6276" y="9500"/>
                </a:cubicBezTo>
                <a:cubicBezTo>
                  <a:pt x="6357" y="9613"/>
                  <a:pt x="6351" y="9624"/>
                  <a:pt x="6474" y="9624"/>
                </a:cubicBezTo>
                <a:cubicBezTo>
                  <a:pt x="6482" y="9624"/>
                  <a:pt x="6491" y="9624"/>
                  <a:pt x="6499" y="9624"/>
                </a:cubicBezTo>
              </a:path>
              <a:path w="3275" h="1663">
                <a:moveTo>
                  <a:pt x="6524" y="9227"/>
                </a:moveTo>
                <a:cubicBezTo>
                  <a:pt x="6534" y="9301"/>
                  <a:pt x="6573" y="9400"/>
                  <a:pt x="6598" y="9475"/>
                </a:cubicBezTo>
                <a:cubicBezTo>
                  <a:pt x="6621" y="9544"/>
                  <a:pt x="6637" y="9586"/>
                  <a:pt x="6672" y="9649"/>
                </a:cubicBezTo>
                <a:cubicBezTo>
                  <a:pt x="6655" y="9583"/>
                  <a:pt x="6650" y="9484"/>
                  <a:pt x="6623" y="9426"/>
                </a:cubicBezTo>
                <a:cubicBezTo>
                  <a:pt x="6589" y="9352"/>
                  <a:pt x="6591" y="9297"/>
                  <a:pt x="6648" y="9227"/>
                </a:cubicBezTo>
                <a:cubicBezTo>
                  <a:pt x="6699" y="9164"/>
                  <a:pt x="6741" y="9178"/>
                  <a:pt x="6821" y="9178"/>
                </a:cubicBezTo>
              </a:path>
              <a:path w="3275" h="1663">
                <a:moveTo>
                  <a:pt x="6945" y="9153"/>
                </a:moveTo>
                <a:cubicBezTo>
                  <a:pt x="6974" y="9264"/>
                  <a:pt x="6972" y="9351"/>
                  <a:pt x="7045" y="9426"/>
                </a:cubicBezTo>
                <a:cubicBezTo>
                  <a:pt x="7111" y="9494"/>
                  <a:pt x="7176" y="9487"/>
                  <a:pt x="7243" y="9426"/>
                </a:cubicBezTo>
                <a:cubicBezTo>
                  <a:pt x="7300" y="9375"/>
                  <a:pt x="7293" y="9322"/>
                  <a:pt x="7293" y="9252"/>
                </a:cubicBezTo>
                <a:cubicBezTo>
                  <a:pt x="7293" y="9236"/>
                  <a:pt x="7293" y="9219"/>
                  <a:pt x="7293" y="9203"/>
                </a:cubicBezTo>
                <a:cubicBezTo>
                  <a:pt x="7302" y="9270"/>
                  <a:pt x="7338" y="9334"/>
                  <a:pt x="7367" y="9401"/>
                </a:cubicBezTo>
                <a:cubicBezTo>
                  <a:pt x="7404" y="9487"/>
                  <a:pt x="7419" y="9562"/>
                  <a:pt x="7466" y="9649"/>
                </a:cubicBezTo>
                <a:cubicBezTo>
                  <a:pt x="7512" y="9734"/>
                  <a:pt x="7521" y="9809"/>
                  <a:pt x="7541" y="9897"/>
                </a:cubicBezTo>
                <a:cubicBezTo>
                  <a:pt x="7554" y="9956"/>
                  <a:pt x="7569" y="10067"/>
                  <a:pt x="7516" y="10120"/>
                </a:cubicBezTo>
                <a:cubicBezTo>
                  <a:pt x="7440" y="10196"/>
                  <a:pt x="7363" y="10200"/>
                  <a:pt x="7268" y="10170"/>
                </a:cubicBezTo>
                <a:cubicBezTo>
                  <a:pt x="7159" y="10135"/>
                  <a:pt x="7169" y="10042"/>
                  <a:pt x="7169" y="9947"/>
                </a:cubicBezTo>
                <a:cubicBezTo>
                  <a:pt x="7169" y="9883"/>
                  <a:pt x="7193" y="9798"/>
                  <a:pt x="7268" y="9773"/>
                </a:cubicBezTo>
                <a:cubicBezTo>
                  <a:pt x="7318" y="9756"/>
                  <a:pt x="7384" y="9732"/>
                  <a:pt x="7392" y="9748"/>
                </a:cubicBezTo>
              </a:path>
              <a:path w="3275" h="1663">
                <a:moveTo>
                  <a:pt x="5879" y="9823"/>
                </a:moveTo>
                <a:cubicBezTo>
                  <a:pt x="5879" y="9930"/>
                  <a:pt x="5891" y="10016"/>
                  <a:pt x="5904" y="10120"/>
                </a:cubicBezTo>
                <a:cubicBezTo>
                  <a:pt x="5904" y="10165"/>
                  <a:pt x="5900" y="10178"/>
                  <a:pt x="5928" y="10195"/>
                </a:cubicBezTo>
              </a:path>
              <a:path w="3275" h="1663">
                <a:moveTo>
                  <a:pt x="6077" y="9847"/>
                </a:moveTo>
                <a:cubicBezTo>
                  <a:pt x="6077" y="9953"/>
                  <a:pt x="6097" y="10029"/>
                  <a:pt x="6102" y="10120"/>
                </a:cubicBezTo>
                <a:cubicBezTo>
                  <a:pt x="6106" y="10180"/>
                  <a:pt x="6099" y="10182"/>
                  <a:pt x="6152" y="10195"/>
                </a:cubicBezTo>
              </a:path>
              <a:path w="3275" h="1663">
                <a:moveTo>
                  <a:pt x="6524" y="10096"/>
                </a:moveTo>
                <a:cubicBezTo>
                  <a:pt x="6517" y="10150"/>
                  <a:pt x="6497" y="10224"/>
                  <a:pt x="6474" y="10269"/>
                </a:cubicBezTo>
                <a:cubicBezTo>
                  <a:pt x="6457" y="10303"/>
                  <a:pt x="6410" y="10357"/>
                  <a:pt x="6400" y="10393"/>
                </a:cubicBezTo>
                <a:cubicBezTo>
                  <a:pt x="6378" y="10472"/>
                  <a:pt x="6339" y="10460"/>
                  <a:pt x="6276" y="10517"/>
                </a:cubicBezTo>
                <a:cubicBezTo>
                  <a:pt x="6219" y="10569"/>
                  <a:pt x="6161" y="10564"/>
                  <a:pt x="6102" y="10592"/>
                </a:cubicBezTo>
                <a:cubicBezTo>
                  <a:pt x="6005" y="10638"/>
                  <a:pt x="5962" y="10666"/>
                  <a:pt x="5854" y="10666"/>
                </a:cubicBezTo>
                <a:cubicBezTo>
                  <a:pt x="5742" y="10666"/>
                  <a:pt x="5678" y="10635"/>
                  <a:pt x="5581" y="10592"/>
                </a:cubicBezTo>
                <a:cubicBezTo>
                  <a:pt x="5497" y="10554"/>
                  <a:pt x="5448" y="10533"/>
                  <a:pt x="5383" y="10468"/>
                </a:cubicBezTo>
                <a:cubicBezTo>
                  <a:pt x="5343" y="10428"/>
                  <a:pt x="5322" y="10396"/>
                  <a:pt x="5283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Ink 7"/>
          <p:cNvSpPr/>
          <p:nvPr/>
        </p:nvSpPr>
        <p:spPr>
          <a:xfrm>
            <a:off x="6054840" y="2384280"/>
            <a:ext cx="1892160" cy="1697040"/>
          </a:xfrm>
          <a:custGeom>
            <a:avLst/>
            <a:gdLst/>
            <a:ahLst/>
            <a:rect l="l" t="t" r="r" b="b"/>
            <a:pathLst>
              <a:path w="5259" h="4714">
                <a:moveTo>
                  <a:pt x="20117" y="6623"/>
                </a:moveTo>
                <a:cubicBezTo>
                  <a:pt x="20234" y="6634"/>
                  <a:pt x="20342" y="6648"/>
                  <a:pt x="20464" y="6648"/>
                </a:cubicBezTo>
                <a:cubicBezTo>
                  <a:pt x="20616" y="6648"/>
                  <a:pt x="20763" y="6661"/>
                  <a:pt x="20910" y="6672"/>
                </a:cubicBezTo>
                <a:cubicBezTo>
                  <a:pt x="21141" y="6689"/>
                  <a:pt x="21375" y="6680"/>
                  <a:pt x="21605" y="6697"/>
                </a:cubicBezTo>
                <a:cubicBezTo>
                  <a:pt x="21738" y="6707"/>
                  <a:pt x="21900" y="6694"/>
                  <a:pt x="22027" y="6722"/>
                </a:cubicBezTo>
                <a:cubicBezTo>
                  <a:pt x="22043" y="6730"/>
                  <a:pt x="22060" y="6739"/>
                  <a:pt x="22076" y="6747"/>
                </a:cubicBezTo>
              </a:path>
              <a:path w="5259" h="4714">
                <a:moveTo>
                  <a:pt x="20538" y="7317"/>
                </a:moveTo>
                <a:cubicBezTo>
                  <a:pt x="20622" y="7317"/>
                  <a:pt x="20686" y="7332"/>
                  <a:pt x="20762" y="7342"/>
                </a:cubicBezTo>
                <a:cubicBezTo>
                  <a:pt x="20859" y="7355"/>
                  <a:pt x="20987" y="7384"/>
                  <a:pt x="21059" y="7466"/>
                </a:cubicBezTo>
                <a:cubicBezTo>
                  <a:pt x="21094" y="7505"/>
                  <a:pt x="21111" y="7625"/>
                  <a:pt x="21059" y="7665"/>
                </a:cubicBezTo>
                <a:cubicBezTo>
                  <a:pt x="20974" y="7731"/>
                  <a:pt x="20811" y="7757"/>
                  <a:pt x="20712" y="7789"/>
                </a:cubicBezTo>
                <a:cubicBezTo>
                  <a:pt x="20617" y="7819"/>
                  <a:pt x="20527" y="7866"/>
                  <a:pt x="20439" y="7888"/>
                </a:cubicBezTo>
                <a:cubicBezTo>
                  <a:pt x="20476" y="7947"/>
                  <a:pt x="20495" y="7983"/>
                  <a:pt x="20563" y="8012"/>
                </a:cubicBezTo>
                <a:cubicBezTo>
                  <a:pt x="20662" y="8055"/>
                  <a:pt x="20775" y="8095"/>
                  <a:pt x="20861" y="8161"/>
                </a:cubicBezTo>
                <a:cubicBezTo>
                  <a:pt x="20968" y="8243"/>
                  <a:pt x="21078" y="8344"/>
                  <a:pt x="21109" y="8483"/>
                </a:cubicBezTo>
                <a:cubicBezTo>
                  <a:pt x="21131" y="8581"/>
                  <a:pt x="21063" y="8640"/>
                  <a:pt x="20985" y="8682"/>
                </a:cubicBezTo>
                <a:cubicBezTo>
                  <a:pt x="20848" y="8755"/>
                  <a:pt x="20740" y="8761"/>
                  <a:pt x="20588" y="8781"/>
                </a:cubicBezTo>
                <a:cubicBezTo>
                  <a:pt x="20444" y="8800"/>
                  <a:pt x="20313" y="8806"/>
                  <a:pt x="20166" y="8806"/>
                </a:cubicBezTo>
              </a:path>
              <a:path w="5259" h="4714">
                <a:moveTo>
                  <a:pt x="16867" y="9575"/>
                </a:moveTo>
                <a:cubicBezTo>
                  <a:pt x="16822" y="9710"/>
                  <a:pt x="16792" y="9849"/>
                  <a:pt x="16818" y="9996"/>
                </a:cubicBezTo>
                <a:cubicBezTo>
                  <a:pt x="16835" y="10089"/>
                  <a:pt x="16886" y="10222"/>
                  <a:pt x="16966" y="10269"/>
                </a:cubicBezTo>
                <a:cubicBezTo>
                  <a:pt x="17027" y="10305"/>
                  <a:pt x="17141" y="10384"/>
                  <a:pt x="17214" y="10368"/>
                </a:cubicBezTo>
                <a:cubicBezTo>
                  <a:pt x="17303" y="10349"/>
                  <a:pt x="17421" y="10310"/>
                  <a:pt x="17487" y="10244"/>
                </a:cubicBezTo>
                <a:cubicBezTo>
                  <a:pt x="17541" y="10191"/>
                  <a:pt x="17594" y="10109"/>
                  <a:pt x="17636" y="10046"/>
                </a:cubicBezTo>
                <a:cubicBezTo>
                  <a:pt x="17675" y="9987"/>
                  <a:pt x="17661" y="9915"/>
                  <a:pt x="17661" y="9847"/>
                </a:cubicBezTo>
                <a:cubicBezTo>
                  <a:pt x="17661" y="9929"/>
                  <a:pt x="17669" y="9994"/>
                  <a:pt x="17686" y="10071"/>
                </a:cubicBezTo>
                <a:cubicBezTo>
                  <a:pt x="17717" y="10214"/>
                  <a:pt x="17792" y="10330"/>
                  <a:pt x="17835" y="10468"/>
                </a:cubicBezTo>
                <a:cubicBezTo>
                  <a:pt x="17871" y="10583"/>
                  <a:pt x="17871" y="10699"/>
                  <a:pt x="17909" y="10815"/>
                </a:cubicBezTo>
                <a:cubicBezTo>
                  <a:pt x="17942" y="10916"/>
                  <a:pt x="17964" y="11011"/>
                  <a:pt x="17934" y="11112"/>
                </a:cubicBezTo>
                <a:cubicBezTo>
                  <a:pt x="17905" y="11212"/>
                  <a:pt x="17798" y="11274"/>
                  <a:pt x="17711" y="11311"/>
                </a:cubicBezTo>
                <a:cubicBezTo>
                  <a:pt x="17617" y="11351"/>
                  <a:pt x="17513" y="11336"/>
                  <a:pt x="17413" y="11336"/>
                </a:cubicBezTo>
                <a:cubicBezTo>
                  <a:pt x="17299" y="11336"/>
                  <a:pt x="17247" y="11293"/>
                  <a:pt x="17190" y="11187"/>
                </a:cubicBezTo>
                <a:cubicBezTo>
                  <a:pt x="17149" y="11111"/>
                  <a:pt x="17165" y="11022"/>
                  <a:pt x="17165" y="10939"/>
                </a:cubicBezTo>
              </a:path>
              <a:path w="5259" h="4714">
                <a:moveTo>
                  <a:pt x="18157" y="9376"/>
                </a:moveTo>
                <a:cubicBezTo>
                  <a:pt x="18241" y="9387"/>
                  <a:pt x="18315" y="9411"/>
                  <a:pt x="18405" y="9401"/>
                </a:cubicBezTo>
                <a:cubicBezTo>
                  <a:pt x="18545" y="9386"/>
                  <a:pt x="18662" y="9376"/>
                  <a:pt x="18802" y="9376"/>
                </a:cubicBezTo>
                <a:cubicBezTo>
                  <a:pt x="18900" y="9376"/>
                  <a:pt x="19006" y="9337"/>
                  <a:pt x="19100" y="9351"/>
                </a:cubicBezTo>
                <a:cubicBezTo>
                  <a:pt x="19125" y="9359"/>
                  <a:pt x="19149" y="9368"/>
                  <a:pt x="19174" y="9376"/>
                </a:cubicBezTo>
              </a:path>
              <a:path w="5259" h="4714">
                <a:moveTo>
                  <a:pt x="18405" y="9897"/>
                </a:moveTo>
                <a:cubicBezTo>
                  <a:pt x="18469" y="9975"/>
                  <a:pt x="18539" y="9947"/>
                  <a:pt x="18653" y="9947"/>
                </a:cubicBezTo>
                <a:cubicBezTo>
                  <a:pt x="18753" y="9947"/>
                  <a:pt x="18831" y="9948"/>
                  <a:pt x="18926" y="9922"/>
                </a:cubicBezTo>
              </a:path>
              <a:path w="5259" h="4714">
                <a:moveTo>
                  <a:pt x="19943" y="9252"/>
                </a:moveTo>
                <a:cubicBezTo>
                  <a:pt x="19976" y="9307"/>
                  <a:pt x="19968" y="9358"/>
                  <a:pt x="19968" y="9426"/>
                </a:cubicBezTo>
                <a:cubicBezTo>
                  <a:pt x="19968" y="9510"/>
                  <a:pt x="19925" y="9565"/>
                  <a:pt x="19869" y="9624"/>
                </a:cubicBezTo>
                <a:cubicBezTo>
                  <a:pt x="19818" y="9678"/>
                  <a:pt x="19746" y="9711"/>
                  <a:pt x="19769" y="9798"/>
                </a:cubicBezTo>
                <a:cubicBezTo>
                  <a:pt x="19786" y="9862"/>
                  <a:pt x="19899" y="9847"/>
                  <a:pt x="19943" y="9847"/>
                </a:cubicBezTo>
                <a:cubicBezTo>
                  <a:pt x="20024" y="9847"/>
                  <a:pt x="20588" y="9871"/>
                  <a:pt x="20588" y="9823"/>
                </a:cubicBezTo>
                <a:cubicBezTo>
                  <a:pt x="20580" y="9815"/>
                  <a:pt x="20571" y="9806"/>
                  <a:pt x="20563" y="9798"/>
                </a:cubicBezTo>
              </a:path>
              <a:path w="5259" h="4714">
                <a:moveTo>
                  <a:pt x="20117" y="9153"/>
                </a:moveTo>
                <a:cubicBezTo>
                  <a:pt x="20126" y="9246"/>
                  <a:pt x="20141" y="9331"/>
                  <a:pt x="20141" y="9426"/>
                </a:cubicBezTo>
                <a:cubicBezTo>
                  <a:pt x="20141" y="9716"/>
                  <a:pt x="20137" y="10012"/>
                  <a:pt x="20117" y="10294"/>
                </a:cubicBezTo>
                <a:cubicBezTo>
                  <a:pt x="20109" y="10407"/>
                  <a:pt x="20117" y="10527"/>
                  <a:pt x="20117" y="106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Ink 8"/>
          <p:cNvSpPr/>
          <p:nvPr/>
        </p:nvSpPr>
        <p:spPr>
          <a:xfrm>
            <a:off x="5759280" y="2482920"/>
            <a:ext cx="652680" cy="598320"/>
          </a:xfrm>
          <a:custGeom>
            <a:avLst/>
            <a:gdLst/>
            <a:ahLst/>
            <a:rect l="l" t="t" r="r" b="b"/>
            <a:pathLst>
              <a:path w="1812" h="1663">
                <a:moveTo>
                  <a:pt x="15999" y="6970"/>
                </a:moveTo>
                <a:cubicBezTo>
                  <a:pt x="16070" y="6970"/>
                  <a:pt x="16134" y="6950"/>
                  <a:pt x="16197" y="6945"/>
                </a:cubicBezTo>
                <a:cubicBezTo>
                  <a:pt x="16444" y="6925"/>
                  <a:pt x="16699" y="6939"/>
                  <a:pt x="16942" y="6921"/>
                </a:cubicBezTo>
                <a:cubicBezTo>
                  <a:pt x="17100" y="6909"/>
                  <a:pt x="17256" y="6910"/>
                  <a:pt x="17413" y="6896"/>
                </a:cubicBezTo>
                <a:cubicBezTo>
                  <a:pt x="17543" y="6885"/>
                  <a:pt x="17679" y="6896"/>
                  <a:pt x="17810" y="6896"/>
                </a:cubicBezTo>
              </a:path>
              <a:path w="1812" h="1663">
                <a:moveTo>
                  <a:pt x="16495" y="7441"/>
                </a:moveTo>
                <a:cubicBezTo>
                  <a:pt x="16572" y="7384"/>
                  <a:pt x="16662" y="7353"/>
                  <a:pt x="16768" y="7367"/>
                </a:cubicBezTo>
                <a:cubicBezTo>
                  <a:pt x="16856" y="7379"/>
                  <a:pt x="16916" y="7401"/>
                  <a:pt x="16991" y="7441"/>
                </a:cubicBezTo>
                <a:cubicBezTo>
                  <a:pt x="17078" y="7487"/>
                  <a:pt x="17046" y="7534"/>
                  <a:pt x="16991" y="7590"/>
                </a:cubicBezTo>
                <a:cubicBezTo>
                  <a:pt x="16919" y="7663"/>
                  <a:pt x="16854" y="7688"/>
                  <a:pt x="16768" y="7739"/>
                </a:cubicBezTo>
                <a:cubicBezTo>
                  <a:pt x="16743" y="7764"/>
                  <a:pt x="16735" y="7772"/>
                  <a:pt x="16718" y="7789"/>
                </a:cubicBezTo>
                <a:cubicBezTo>
                  <a:pt x="16784" y="7867"/>
                  <a:pt x="16799" y="7812"/>
                  <a:pt x="16892" y="7838"/>
                </a:cubicBezTo>
                <a:cubicBezTo>
                  <a:pt x="17063" y="7885"/>
                  <a:pt x="17221" y="7975"/>
                  <a:pt x="17388" y="8037"/>
                </a:cubicBezTo>
                <a:cubicBezTo>
                  <a:pt x="17484" y="8073"/>
                  <a:pt x="17495" y="8120"/>
                  <a:pt x="17512" y="8210"/>
                </a:cubicBezTo>
                <a:cubicBezTo>
                  <a:pt x="17524" y="8273"/>
                  <a:pt x="17467" y="8377"/>
                  <a:pt x="17413" y="8409"/>
                </a:cubicBezTo>
                <a:cubicBezTo>
                  <a:pt x="17264" y="8498"/>
                  <a:pt x="17087" y="8539"/>
                  <a:pt x="16917" y="8558"/>
                </a:cubicBezTo>
                <a:cubicBezTo>
                  <a:pt x="16844" y="8566"/>
                  <a:pt x="16732" y="8579"/>
                  <a:pt x="16669" y="8533"/>
                </a:cubicBezTo>
                <a:cubicBezTo>
                  <a:pt x="16627" y="8491"/>
                  <a:pt x="16619" y="8483"/>
                  <a:pt x="16594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Ink 9"/>
          <p:cNvSpPr/>
          <p:nvPr/>
        </p:nvSpPr>
        <p:spPr>
          <a:xfrm>
            <a:off x="6429240" y="3946680"/>
            <a:ext cx="1795680" cy="669600"/>
          </a:xfrm>
          <a:custGeom>
            <a:avLst/>
            <a:gdLst/>
            <a:ahLst/>
            <a:rect l="l" t="t" r="r" b="b"/>
            <a:pathLst>
              <a:path w="4987" h="1861">
                <a:moveTo>
                  <a:pt x="18479" y="12005"/>
                </a:moveTo>
                <a:cubicBezTo>
                  <a:pt x="18479" y="11918"/>
                  <a:pt x="18489" y="11891"/>
                  <a:pt x="18430" y="11832"/>
                </a:cubicBezTo>
                <a:cubicBezTo>
                  <a:pt x="18377" y="11779"/>
                  <a:pt x="18357" y="11782"/>
                  <a:pt x="18281" y="11782"/>
                </a:cubicBezTo>
                <a:cubicBezTo>
                  <a:pt x="18167" y="11782"/>
                  <a:pt x="18083" y="11831"/>
                  <a:pt x="17983" y="11881"/>
                </a:cubicBezTo>
                <a:cubicBezTo>
                  <a:pt x="17936" y="11905"/>
                  <a:pt x="17855" y="11967"/>
                  <a:pt x="17859" y="12030"/>
                </a:cubicBezTo>
                <a:cubicBezTo>
                  <a:pt x="17862" y="12076"/>
                  <a:pt x="17940" y="12146"/>
                  <a:pt x="17983" y="12154"/>
                </a:cubicBezTo>
                <a:cubicBezTo>
                  <a:pt x="18090" y="12173"/>
                  <a:pt x="18222" y="12175"/>
                  <a:pt x="18331" y="12179"/>
                </a:cubicBezTo>
                <a:cubicBezTo>
                  <a:pt x="18397" y="12181"/>
                  <a:pt x="18581" y="12210"/>
                  <a:pt x="18628" y="12254"/>
                </a:cubicBezTo>
                <a:cubicBezTo>
                  <a:pt x="18683" y="12305"/>
                  <a:pt x="18708" y="12363"/>
                  <a:pt x="18752" y="12427"/>
                </a:cubicBezTo>
                <a:cubicBezTo>
                  <a:pt x="18792" y="12485"/>
                  <a:pt x="18785" y="12559"/>
                  <a:pt x="18752" y="12626"/>
                </a:cubicBezTo>
                <a:cubicBezTo>
                  <a:pt x="18732" y="12667"/>
                  <a:pt x="18629" y="12765"/>
                  <a:pt x="18579" y="12774"/>
                </a:cubicBezTo>
                <a:cubicBezTo>
                  <a:pt x="18500" y="12788"/>
                  <a:pt x="18436" y="12795"/>
                  <a:pt x="18355" y="12799"/>
                </a:cubicBezTo>
                <a:cubicBezTo>
                  <a:pt x="18292" y="12802"/>
                  <a:pt x="18237" y="12793"/>
                  <a:pt x="18182" y="12774"/>
                </a:cubicBezTo>
                <a:cubicBezTo>
                  <a:pt x="18122" y="12745"/>
                  <a:pt x="18099" y="12728"/>
                  <a:pt x="18083" y="12675"/>
                </a:cubicBezTo>
              </a:path>
              <a:path w="4987" h="1861">
                <a:moveTo>
                  <a:pt x="18802" y="11658"/>
                </a:moveTo>
                <a:cubicBezTo>
                  <a:pt x="18857" y="11727"/>
                  <a:pt x="18838" y="11780"/>
                  <a:pt x="18876" y="11857"/>
                </a:cubicBezTo>
                <a:cubicBezTo>
                  <a:pt x="18925" y="11955"/>
                  <a:pt x="18946" y="12043"/>
                  <a:pt x="18976" y="12154"/>
                </a:cubicBezTo>
                <a:cubicBezTo>
                  <a:pt x="19000" y="12245"/>
                  <a:pt x="19003" y="12338"/>
                  <a:pt x="19025" y="12427"/>
                </a:cubicBezTo>
                <a:cubicBezTo>
                  <a:pt x="19046" y="12510"/>
                  <a:pt x="19042" y="12585"/>
                  <a:pt x="19100" y="12650"/>
                </a:cubicBezTo>
                <a:cubicBezTo>
                  <a:pt x="19127" y="12681"/>
                  <a:pt x="19138" y="12691"/>
                  <a:pt x="19174" y="12700"/>
                </a:cubicBezTo>
              </a:path>
              <a:path w="4987" h="1861">
                <a:moveTo>
                  <a:pt x="18628" y="12080"/>
                </a:moveTo>
                <a:cubicBezTo>
                  <a:pt x="18687" y="12044"/>
                  <a:pt x="18740" y="12079"/>
                  <a:pt x="18802" y="12055"/>
                </a:cubicBezTo>
                <a:cubicBezTo>
                  <a:pt x="18854" y="12035"/>
                  <a:pt x="18923" y="12051"/>
                  <a:pt x="18976" y="12030"/>
                </a:cubicBezTo>
                <a:cubicBezTo>
                  <a:pt x="19004" y="12001"/>
                  <a:pt x="19017" y="11993"/>
                  <a:pt x="19050" y="12005"/>
                </a:cubicBezTo>
              </a:path>
              <a:path w="4987" h="1861">
                <a:moveTo>
                  <a:pt x="19075" y="12154"/>
                </a:moveTo>
                <a:cubicBezTo>
                  <a:pt x="19193" y="12178"/>
                  <a:pt x="19263" y="12192"/>
                  <a:pt x="19372" y="12129"/>
                </a:cubicBezTo>
                <a:cubicBezTo>
                  <a:pt x="19430" y="12096"/>
                  <a:pt x="19528" y="12056"/>
                  <a:pt x="19546" y="11981"/>
                </a:cubicBezTo>
                <a:cubicBezTo>
                  <a:pt x="19563" y="11911"/>
                  <a:pt x="19541" y="11878"/>
                  <a:pt x="19496" y="11832"/>
                </a:cubicBezTo>
                <a:cubicBezTo>
                  <a:pt x="19424" y="11758"/>
                  <a:pt x="19327" y="11771"/>
                  <a:pt x="19248" y="11832"/>
                </a:cubicBezTo>
                <a:cubicBezTo>
                  <a:pt x="19172" y="11891"/>
                  <a:pt x="19153" y="11937"/>
                  <a:pt x="19149" y="12030"/>
                </a:cubicBezTo>
                <a:cubicBezTo>
                  <a:pt x="19146" y="12097"/>
                  <a:pt x="19138" y="12170"/>
                  <a:pt x="19174" y="12229"/>
                </a:cubicBezTo>
                <a:cubicBezTo>
                  <a:pt x="19211" y="12289"/>
                  <a:pt x="19238" y="12343"/>
                  <a:pt x="19298" y="12378"/>
                </a:cubicBezTo>
                <a:cubicBezTo>
                  <a:pt x="19371" y="12420"/>
                  <a:pt x="19459" y="12450"/>
                  <a:pt x="19546" y="12427"/>
                </a:cubicBezTo>
                <a:cubicBezTo>
                  <a:pt x="19576" y="12419"/>
                  <a:pt x="19602" y="12352"/>
                  <a:pt x="19621" y="12328"/>
                </a:cubicBezTo>
              </a:path>
              <a:path w="4987" h="1861">
                <a:moveTo>
                  <a:pt x="19621" y="11807"/>
                </a:moveTo>
                <a:cubicBezTo>
                  <a:pt x="19658" y="11873"/>
                  <a:pt x="19676" y="11910"/>
                  <a:pt x="19695" y="11981"/>
                </a:cubicBezTo>
                <a:cubicBezTo>
                  <a:pt x="19722" y="12082"/>
                  <a:pt x="19747" y="12177"/>
                  <a:pt x="19769" y="12278"/>
                </a:cubicBezTo>
                <a:cubicBezTo>
                  <a:pt x="19795" y="12398"/>
                  <a:pt x="19814" y="12527"/>
                  <a:pt x="19819" y="12650"/>
                </a:cubicBezTo>
                <a:cubicBezTo>
                  <a:pt x="19821" y="12698"/>
                  <a:pt x="19902" y="12888"/>
                  <a:pt x="19844" y="12774"/>
                </a:cubicBezTo>
                <a:cubicBezTo>
                  <a:pt x="19808" y="12703"/>
                  <a:pt x="19792" y="12606"/>
                  <a:pt x="19769" y="12526"/>
                </a:cubicBezTo>
                <a:cubicBezTo>
                  <a:pt x="19736" y="12410"/>
                  <a:pt x="19680" y="12317"/>
                  <a:pt x="19645" y="12204"/>
                </a:cubicBezTo>
                <a:cubicBezTo>
                  <a:pt x="19612" y="12099"/>
                  <a:pt x="19574" y="11990"/>
                  <a:pt x="19571" y="11881"/>
                </a:cubicBezTo>
                <a:cubicBezTo>
                  <a:pt x="19570" y="11856"/>
                  <a:pt x="19560" y="11635"/>
                  <a:pt x="19596" y="11609"/>
                </a:cubicBezTo>
                <a:cubicBezTo>
                  <a:pt x="19646" y="11573"/>
                  <a:pt x="19741" y="11586"/>
                  <a:pt x="19794" y="11609"/>
                </a:cubicBezTo>
                <a:cubicBezTo>
                  <a:pt x="19879" y="11646"/>
                  <a:pt x="19982" y="11683"/>
                  <a:pt x="20042" y="11757"/>
                </a:cubicBezTo>
                <a:cubicBezTo>
                  <a:pt x="20129" y="11864"/>
                  <a:pt x="20171" y="11939"/>
                  <a:pt x="20191" y="12080"/>
                </a:cubicBezTo>
                <a:cubicBezTo>
                  <a:pt x="20199" y="12138"/>
                  <a:pt x="20176" y="12237"/>
                  <a:pt x="20141" y="12278"/>
                </a:cubicBezTo>
                <a:cubicBezTo>
                  <a:pt x="20097" y="12329"/>
                  <a:pt x="19988" y="12390"/>
                  <a:pt x="19918" y="12402"/>
                </a:cubicBezTo>
                <a:cubicBezTo>
                  <a:pt x="19841" y="12415"/>
                  <a:pt x="19764" y="12402"/>
                  <a:pt x="19695" y="12378"/>
                </a:cubicBezTo>
                <a:cubicBezTo>
                  <a:pt x="19670" y="12370"/>
                  <a:pt x="19646" y="12361"/>
                  <a:pt x="19621" y="12353"/>
                </a:cubicBezTo>
              </a:path>
              <a:path w="4987" h="1861">
                <a:moveTo>
                  <a:pt x="20117" y="11361"/>
                </a:moveTo>
                <a:cubicBezTo>
                  <a:pt x="20148" y="11447"/>
                  <a:pt x="20144" y="11521"/>
                  <a:pt x="20166" y="11609"/>
                </a:cubicBezTo>
                <a:cubicBezTo>
                  <a:pt x="20189" y="11700"/>
                  <a:pt x="20174" y="11788"/>
                  <a:pt x="20191" y="11881"/>
                </a:cubicBezTo>
                <a:cubicBezTo>
                  <a:pt x="20208" y="11973"/>
                  <a:pt x="20221" y="12065"/>
                  <a:pt x="20241" y="12154"/>
                </a:cubicBezTo>
                <a:cubicBezTo>
                  <a:pt x="20257" y="12224"/>
                  <a:pt x="20282" y="12282"/>
                  <a:pt x="20290" y="12353"/>
                </a:cubicBezTo>
                <a:cubicBezTo>
                  <a:pt x="20309" y="12305"/>
                  <a:pt x="20290" y="12247"/>
                  <a:pt x="20290" y="12179"/>
                </a:cubicBezTo>
                <a:cubicBezTo>
                  <a:pt x="20290" y="12039"/>
                  <a:pt x="20296" y="11916"/>
                  <a:pt x="20315" y="11782"/>
                </a:cubicBezTo>
                <a:cubicBezTo>
                  <a:pt x="20323" y="11728"/>
                  <a:pt x="20340" y="11647"/>
                  <a:pt x="20389" y="11609"/>
                </a:cubicBezTo>
                <a:cubicBezTo>
                  <a:pt x="20448" y="11563"/>
                  <a:pt x="20523" y="11571"/>
                  <a:pt x="20563" y="11633"/>
                </a:cubicBezTo>
                <a:cubicBezTo>
                  <a:pt x="20613" y="11711"/>
                  <a:pt x="20647" y="11739"/>
                  <a:pt x="20687" y="11832"/>
                </a:cubicBezTo>
                <a:cubicBezTo>
                  <a:pt x="20727" y="11925"/>
                  <a:pt x="20732" y="12051"/>
                  <a:pt x="20737" y="12154"/>
                </a:cubicBezTo>
                <a:cubicBezTo>
                  <a:pt x="20741" y="12238"/>
                  <a:pt x="20740" y="12306"/>
                  <a:pt x="20762" y="12378"/>
                </a:cubicBezTo>
                <a:cubicBezTo>
                  <a:pt x="20762" y="12386"/>
                  <a:pt x="20762" y="12394"/>
                  <a:pt x="20762" y="12402"/>
                </a:cubicBezTo>
              </a:path>
              <a:path w="4987" h="1861">
                <a:moveTo>
                  <a:pt x="21183" y="11906"/>
                </a:moveTo>
                <a:cubicBezTo>
                  <a:pt x="21204" y="11828"/>
                  <a:pt x="21233" y="11752"/>
                  <a:pt x="21183" y="11683"/>
                </a:cubicBezTo>
                <a:cubicBezTo>
                  <a:pt x="21124" y="11602"/>
                  <a:pt x="21115" y="11569"/>
                  <a:pt x="21010" y="11559"/>
                </a:cubicBezTo>
                <a:cubicBezTo>
                  <a:pt x="20959" y="11554"/>
                  <a:pt x="20901" y="11600"/>
                  <a:pt x="20861" y="11633"/>
                </a:cubicBezTo>
                <a:cubicBezTo>
                  <a:pt x="20797" y="11686"/>
                  <a:pt x="20753" y="11749"/>
                  <a:pt x="20737" y="11832"/>
                </a:cubicBezTo>
                <a:cubicBezTo>
                  <a:pt x="20728" y="11880"/>
                  <a:pt x="20736" y="12022"/>
                  <a:pt x="20762" y="12055"/>
                </a:cubicBezTo>
                <a:cubicBezTo>
                  <a:pt x="20810" y="12117"/>
                  <a:pt x="20895" y="12178"/>
                  <a:pt x="20960" y="12229"/>
                </a:cubicBezTo>
                <a:cubicBezTo>
                  <a:pt x="21009" y="12267"/>
                  <a:pt x="21088" y="12254"/>
                  <a:pt x="21134" y="12204"/>
                </a:cubicBezTo>
                <a:cubicBezTo>
                  <a:pt x="21182" y="12152"/>
                  <a:pt x="21188" y="12090"/>
                  <a:pt x="21208" y="12030"/>
                </a:cubicBezTo>
                <a:cubicBezTo>
                  <a:pt x="21241" y="11934"/>
                  <a:pt x="21222" y="11907"/>
                  <a:pt x="21208" y="11807"/>
                </a:cubicBezTo>
                <a:cubicBezTo>
                  <a:pt x="21208" y="11762"/>
                  <a:pt x="21212" y="11749"/>
                  <a:pt x="21183" y="11733"/>
                </a:cubicBezTo>
                <a:cubicBezTo>
                  <a:pt x="21191" y="11822"/>
                  <a:pt x="21204" y="11917"/>
                  <a:pt x="21233" y="12005"/>
                </a:cubicBezTo>
                <a:cubicBezTo>
                  <a:pt x="21247" y="12047"/>
                  <a:pt x="21289" y="12218"/>
                  <a:pt x="21332" y="12229"/>
                </a:cubicBezTo>
                <a:cubicBezTo>
                  <a:pt x="21332" y="12221"/>
                  <a:pt x="21332" y="12212"/>
                  <a:pt x="21332" y="12204"/>
                </a:cubicBezTo>
              </a:path>
              <a:path w="4987" h="1861">
                <a:moveTo>
                  <a:pt x="21406" y="11633"/>
                </a:moveTo>
                <a:cubicBezTo>
                  <a:pt x="21416" y="11703"/>
                  <a:pt x="21445" y="11756"/>
                  <a:pt x="21456" y="11832"/>
                </a:cubicBezTo>
                <a:cubicBezTo>
                  <a:pt x="21465" y="11893"/>
                  <a:pt x="21464" y="11971"/>
                  <a:pt x="21481" y="12030"/>
                </a:cubicBezTo>
                <a:cubicBezTo>
                  <a:pt x="21505" y="12078"/>
                  <a:pt x="21513" y="12092"/>
                  <a:pt x="21506" y="12129"/>
                </a:cubicBezTo>
                <a:cubicBezTo>
                  <a:pt x="21481" y="12046"/>
                  <a:pt x="21481" y="11970"/>
                  <a:pt x="21481" y="11881"/>
                </a:cubicBezTo>
                <a:cubicBezTo>
                  <a:pt x="21481" y="11791"/>
                  <a:pt x="21495" y="11716"/>
                  <a:pt x="21506" y="11633"/>
                </a:cubicBezTo>
                <a:cubicBezTo>
                  <a:pt x="21518" y="11542"/>
                  <a:pt x="21488" y="11502"/>
                  <a:pt x="21555" y="11435"/>
                </a:cubicBezTo>
                <a:cubicBezTo>
                  <a:pt x="21614" y="11376"/>
                  <a:pt x="21658" y="11414"/>
                  <a:pt x="21704" y="11460"/>
                </a:cubicBezTo>
                <a:cubicBezTo>
                  <a:pt x="21756" y="11512"/>
                  <a:pt x="21773" y="11568"/>
                  <a:pt x="21803" y="11633"/>
                </a:cubicBezTo>
                <a:cubicBezTo>
                  <a:pt x="21854" y="11743"/>
                  <a:pt x="21824" y="11803"/>
                  <a:pt x="21853" y="11906"/>
                </a:cubicBezTo>
                <a:cubicBezTo>
                  <a:pt x="21862" y="11939"/>
                  <a:pt x="21897" y="12083"/>
                  <a:pt x="21853" y="12105"/>
                </a:cubicBezTo>
                <a:cubicBezTo>
                  <a:pt x="21845" y="12097"/>
                  <a:pt x="21836" y="12088"/>
                  <a:pt x="21828" y="12080"/>
                </a:cubicBezTo>
              </a:path>
              <a:path w="4987" h="1861">
                <a:moveTo>
                  <a:pt x="21977" y="11460"/>
                </a:moveTo>
                <a:cubicBezTo>
                  <a:pt x="22010" y="11573"/>
                  <a:pt x="22029" y="11669"/>
                  <a:pt x="22051" y="11782"/>
                </a:cubicBezTo>
                <a:cubicBezTo>
                  <a:pt x="22064" y="11850"/>
                  <a:pt x="22058" y="11940"/>
                  <a:pt x="22076" y="12005"/>
                </a:cubicBezTo>
                <a:cubicBezTo>
                  <a:pt x="22100" y="12053"/>
                  <a:pt x="22108" y="12068"/>
                  <a:pt x="22101" y="12105"/>
                </a:cubicBezTo>
              </a:path>
              <a:path w="4987" h="1861">
                <a:moveTo>
                  <a:pt x="22275" y="11559"/>
                </a:moveTo>
                <a:cubicBezTo>
                  <a:pt x="22372" y="11619"/>
                  <a:pt x="22456" y="11677"/>
                  <a:pt x="22572" y="11683"/>
                </a:cubicBezTo>
                <a:cubicBezTo>
                  <a:pt x="22655" y="11687"/>
                  <a:pt x="22704" y="11682"/>
                  <a:pt x="22771" y="11633"/>
                </a:cubicBezTo>
                <a:cubicBezTo>
                  <a:pt x="22816" y="11600"/>
                  <a:pt x="22858" y="11544"/>
                  <a:pt x="22845" y="11485"/>
                </a:cubicBezTo>
                <a:cubicBezTo>
                  <a:pt x="22824" y="11391"/>
                  <a:pt x="22823" y="11388"/>
                  <a:pt x="22746" y="11361"/>
                </a:cubicBezTo>
                <a:cubicBezTo>
                  <a:pt x="22633" y="11321"/>
                  <a:pt x="22646" y="11311"/>
                  <a:pt x="22498" y="11311"/>
                </a:cubicBezTo>
                <a:cubicBezTo>
                  <a:pt x="22405" y="11311"/>
                  <a:pt x="22325" y="11360"/>
                  <a:pt x="22275" y="11435"/>
                </a:cubicBezTo>
                <a:cubicBezTo>
                  <a:pt x="22233" y="11499"/>
                  <a:pt x="22206" y="11581"/>
                  <a:pt x="22225" y="11658"/>
                </a:cubicBezTo>
                <a:cubicBezTo>
                  <a:pt x="22242" y="11730"/>
                  <a:pt x="22260" y="11857"/>
                  <a:pt x="22324" y="11906"/>
                </a:cubicBezTo>
                <a:cubicBezTo>
                  <a:pt x="22370" y="11942"/>
                  <a:pt x="22514" y="12065"/>
                  <a:pt x="22572" y="12080"/>
                </a:cubicBezTo>
                <a:cubicBezTo>
                  <a:pt x="22659" y="12103"/>
                  <a:pt x="22758" y="12089"/>
                  <a:pt x="22796" y="12005"/>
                </a:cubicBezTo>
                <a:cubicBezTo>
                  <a:pt x="22804" y="11980"/>
                  <a:pt x="22812" y="11956"/>
                  <a:pt x="22820" y="11931"/>
                </a:cubicBezTo>
              </a:path>
              <a:path w="4987" h="1861">
                <a:moveTo>
                  <a:pt x="21903" y="10964"/>
                </a:moveTo>
                <a:lnTo>
                  <a:pt x="21903" y="10964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wo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2v – 6 = 18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 baseline="30000">
                <a:solidFill>
                  <a:srgbClr val="000000"/>
                </a:solidFill>
                <a:latin typeface="Georgia"/>
              </a:rPr>
              <a:t>z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 + 8 = 14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Ink 4"/>
          <p:cNvSpPr/>
          <p:nvPr/>
        </p:nvSpPr>
        <p:spPr>
          <a:xfrm>
            <a:off x="1438200" y="2330280"/>
            <a:ext cx="2027160" cy="1428840"/>
          </a:xfrm>
          <a:custGeom>
            <a:avLst/>
            <a:gdLst/>
            <a:ahLst/>
            <a:rect l="l" t="t" r="r" b="b"/>
            <a:pathLst>
              <a:path w="5631" h="3970">
                <a:moveTo>
                  <a:pt x="4316" y="6648"/>
                </a:moveTo>
                <a:cubicBezTo>
                  <a:pt x="4316" y="6765"/>
                  <a:pt x="4316" y="6883"/>
                  <a:pt x="4341" y="6995"/>
                </a:cubicBezTo>
                <a:cubicBezTo>
                  <a:pt x="4360" y="7081"/>
                  <a:pt x="4380" y="7161"/>
                  <a:pt x="4415" y="7243"/>
                </a:cubicBezTo>
                <a:cubicBezTo>
                  <a:pt x="4450" y="7323"/>
                  <a:pt x="4445" y="7323"/>
                  <a:pt x="4490" y="7268"/>
                </a:cubicBezTo>
              </a:path>
              <a:path w="5631" h="3970">
                <a:moveTo>
                  <a:pt x="4093" y="6921"/>
                </a:moveTo>
                <a:cubicBezTo>
                  <a:pt x="4204" y="6921"/>
                  <a:pt x="4311" y="6907"/>
                  <a:pt x="4415" y="6896"/>
                </a:cubicBezTo>
                <a:cubicBezTo>
                  <a:pt x="4522" y="6885"/>
                  <a:pt x="4610" y="6909"/>
                  <a:pt x="4713" y="6871"/>
                </a:cubicBezTo>
                <a:cubicBezTo>
                  <a:pt x="4772" y="6849"/>
                  <a:pt x="4827" y="6818"/>
                  <a:pt x="4887" y="6796"/>
                </a:cubicBezTo>
              </a:path>
              <a:path w="5631" h="3970">
                <a:moveTo>
                  <a:pt x="5482" y="6474"/>
                </a:moveTo>
                <a:cubicBezTo>
                  <a:pt x="5474" y="6541"/>
                  <a:pt x="5445" y="6639"/>
                  <a:pt x="5407" y="6697"/>
                </a:cubicBezTo>
                <a:cubicBezTo>
                  <a:pt x="5352" y="6780"/>
                  <a:pt x="5296" y="6870"/>
                  <a:pt x="5283" y="6970"/>
                </a:cubicBezTo>
                <a:cubicBezTo>
                  <a:pt x="5273" y="7047"/>
                  <a:pt x="5307" y="7114"/>
                  <a:pt x="5358" y="7169"/>
                </a:cubicBezTo>
                <a:cubicBezTo>
                  <a:pt x="5408" y="7223"/>
                  <a:pt x="5461" y="7264"/>
                  <a:pt x="5531" y="7268"/>
                </a:cubicBezTo>
                <a:cubicBezTo>
                  <a:pt x="5621" y="7273"/>
                  <a:pt x="5639" y="7260"/>
                  <a:pt x="5705" y="7218"/>
                </a:cubicBezTo>
                <a:cubicBezTo>
                  <a:pt x="5766" y="7179"/>
                  <a:pt x="5849" y="7135"/>
                  <a:pt x="5829" y="7045"/>
                </a:cubicBezTo>
                <a:cubicBezTo>
                  <a:pt x="5813" y="6972"/>
                  <a:pt x="5747" y="6951"/>
                  <a:pt x="5680" y="6970"/>
                </a:cubicBezTo>
                <a:cubicBezTo>
                  <a:pt x="5602" y="6992"/>
                  <a:pt x="5553" y="7039"/>
                  <a:pt x="5507" y="7094"/>
                </a:cubicBezTo>
                <a:cubicBezTo>
                  <a:pt x="5475" y="7132"/>
                  <a:pt x="5413" y="7250"/>
                  <a:pt x="5482" y="7293"/>
                </a:cubicBezTo>
                <a:cubicBezTo>
                  <a:pt x="5531" y="7293"/>
                  <a:pt x="5548" y="7293"/>
                  <a:pt x="5581" y="7293"/>
                </a:cubicBezTo>
              </a:path>
              <a:path w="5631" h="3970">
                <a:moveTo>
                  <a:pt x="8062" y="6573"/>
                </a:moveTo>
                <a:cubicBezTo>
                  <a:pt x="8088" y="6617"/>
                  <a:pt x="8101" y="6690"/>
                  <a:pt x="8086" y="6747"/>
                </a:cubicBezTo>
                <a:cubicBezTo>
                  <a:pt x="8068" y="6815"/>
                  <a:pt x="8041" y="6874"/>
                  <a:pt x="8037" y="6945"/>
                </a:cubicBezTo>
                <a:cubicBezTo>
                  <a:pt x="8034" y="7002"/>
                  <a:pt x="8037" y="7062"/>
                  <a:pt x="8037" y="7119"/>
                </a:cubicBezTo>
              </a:path>
              <a:path w="5631" h="3970">
                <a:moveTo>
                  <a:pt x="7739" y="6921"/>
                </a:moveTo>
                <a:cubicBezTo>
                  <a:pt x="7817" y="6946"/>
                  <a:pt x="7883" y="6931"/>
                  <a:pt x="7962" y="6945"/>
                </a:cubicBezTo>
                <a:cubicBezTo>
                  <a:pt x="8061" y="6963"/>
                  <a:pt x="8134" y="6970"/>
                  <a:pt x="8235" y="6970"/>
                </a:cubicBezTo>
                <a:cubicBezTo>
                  <a:pt x="8292" y="6970"/>
                  <a:pt x="8405" y="6963"/>
                  <a:pt x="8458" y="6945"/>
                </a:cubicBezTo>
                <a:cubicBezTo>
                  <a:pt x="8466" y="6937"/>
                  <a:pt x="8475" y="6929"/>
                  <a:pt x="8483" y="6921"/>
                </a:cubicBezTo>
              </a:path>
              <a:path w="5631" h="3970">
                <a:moveTo>
                  <a:pt x="9029" y="6573"/>
                </a:moveTo>
                <a:cubicBezTo>
                  <a:pt x="8981" y="6621"/>
                  <a:pt x="8945" y="6670"/>
                  <a:pt x="8905" y="6722"/>
                </a:cubicBezTo>
                <a:cubicBezTo>
                  <a:pt x="8847" y="6797"/>
                  <a:pt x="8826" y="6835"/>
                  <a:pt x="8781" y="6921"/>
                </a:cubicBezTo>
                <a:cubicBezTo>
                  <a:pt x="8726" y="7026"/>
                  <a:pt x="8740" y="7056"/>
                  <a:pt x="8756" y="7169"/>
                </a:cubicBezTo>
                <a:cubicBezTo>
                  <a:pt x="8766" y="7240"/>
                  <a:pt x="8779" y="7266"/>
                  <a:pt x="8830" y="7317"/>
                </a:cubicBezTo>
                <a:cubicBezTo>
                  <a:pt x="8882" y="7369"/>
                  <a:pt x="8946" y="7349"/>
                  <a:pt x="9004" y="7342"/>
                </a:cubicBezTo>
                <a:cubicBezTo>
                  <a:pt x="9080" y="7334"/>
                  <a:pt x="9119" y="7297"/>
                  <a:pt x="9178" y="7243"/>
                </a:cubicBezTo>
                <a:cubicBezTo>
                  <a:pt x="9225" y="7200"/>
                  <a:pt x="9214" y="7101"/>
                  <a:pt x="9153" y="7069"/>
                </a:cubicBezTo>
                <a:cubicBezTo>
                  <a:pt x="9079" y="7031"/>
                  <a:pt x="9001" y="7038"/>
                  <a:pt x="8930" y="7069"/>
                </a:cubicBezTo>
                <a:cubicBezTo>
                  <a:pt x="8868" y="7096"/>
                  <a:pt x="8780" y="7130"/>
                  <a:pt x="8806" y="7218"/>
                </a:cubicBezTo>
                <a:cubicBezTo>
                  <a:pt x="8814" y="7226"/>
                  <a:pt x="8822" y="7235"/>
                  <a:pt x="8830" y="7243"/>
                </a:cubicBezTo>
              </a:path>
              <a:path w="5631" h="3970">
                <a:moveTo>
                  <a:pt x="7838" y="7913"/>
                </a:moveTo>
                <a:cubicBezTo>
                  <a:pt x="7894" y="7868"/>
                  <a:pt x="7964" y="7827"/>
                  <a:pt x="8037" y="7813"/>
                </a:cubicBezTo>
                <a:cubicBezTo>
                  <a:pt x="8110" y="7799"/>
                  <a:pt x="8201" y="7808"/>
                  <a:pt x="8260" y="7838"/>
                </a:cubicBezTo>
                <a:cubicBezTo>
                  <a:pt x="8336" y="7876"/>
                  <a:pt x="8397" y="7924"/>
                  <a:pt x="8359" y="8012"/>
                </a:cubicBezTo>
                <a:cubicBezTo>
                  <a:pt x="8336" y="8065"/>
                  <a:pt x="8254" y="8172"/>
                  <a:pt x="8210" y="8210"/>
                </a:cubicBezTo>
                <a:cubicBezTo>
                  <a:pt x="8145" y="8266"/>
                  <a:pt x="8062" y="8368"/>
                  <a:pt x="8037" y="8458"/>
                </a:cubicBezTo>
                <a:cubicBezTo>
                  <a:pt x="8029" y="8487"/>
                  <a:pt x="8031" y="8609"/>
                  <a:pt x="8086" y="8607"/>
                </a:cubicBezTo>
                <a:cubicBezTo>
                  <a:pt x="8204" y="8603"/>
                  <a:pt x="8339" y="8582"/>
                  <a:pt x="8434" y="8508"/>
                </a:cubicBezTo>
                <a:cubicBezTo>
                  <a:pt x="8450" y="8491"/>
                  <a:pt x="8467" y="8475"/>
                  <a:pt x="8483" y="8458"/>
                </a:cubicBezTo>
              </a:path>
              <a:path w="5631" h="3970">
                <a:moveTo>
                  <a:pt x="9029" y="7838"/>
                </a:moveTo>
                <a:cubicBezTo>
                  <a:pt x="8979" y="7827"/>
                  <a:pt x="8856" y="7778"/>
                  <a:pt x="8806" y="7789"/>
                </a:cubicBezTo>
                <a:cubicBezTo>
                  <a:pt x="8657" y="7823"/>
                  <a:pt x="8670" y="7873"/>
                  <a:pt x="8582" y="8012"/>
                </a:cubicBezTo>
                <a:cubicBezTo>
                  <a:pt x="8539" y="8079"/>
                  <a:pt x="8533" y="8097"/>
                  <a:pt x="8533" y="8186"/>
                </a:cubicBezTo>
                <a:cubicBezTo>
                  <a:pt x="8533" y="8244"/>
                  <a:pt x="8531" y="8264"/>
                  <a:pt x="8558" y="8310"/>
                </a:cubicBezTo>
                <a:cubicBezTo>
                  <a:pt x="8584" y="8256"/>
                  <a:pt x="8620" y="8162"/>
                  <a:pt x="8682" y="8136"/>
                </a:cubicBezTo>
                <a:cubicBezTo>
                  <a:pt x="8760" y="8104"/>
                  <a:pt x="8807" y="8124"/>
                  <a:pt x="8880" y="8161"/>
                </a:cubicBezTo>
                <a:cubicBezTo>
                  <a:pt x="8940" y="8191"/>
                  <a:pt x="9011" y="8210"/>
                  <a:pt x="9029" y="8285"/>
                </a:cubicBezTo>
                <a:cubicBezTo>
                  <a:pt x="9049" y="8370"/>
                  <a:pt x="9017" y="8440"/>
                  <a:pt x="8979" y="8508"/>
                </a:cubicBezTo>
                <a:cubicBezTo>
                  <a:pt x="8936" y="8585"/>
                  <a:pt x="8878" y="8556"/>
                  <a:pt x="8806" y="8582"/>
                </a:cubicBezTo>
                <a:cubicBezTo>
                  <a:pt x="8723" y="8611"/>
                  <a:pt x="8665" y="8601"/>
                  <a:pt x="8582" y="8582"/>
                </a:cubicBezTo>
                <a:cubicBezTo>
                  <a:pt x="8557" y="8574"/>
                  <a:pt x="8533" y="8566"/>
                  <a:pt x="8508" y="8558"/>
                </a:cubicBezTo>
              </a:path>
              <a:path w="5631" h="3970">
                <a:moveTo>
                  <a:pt x="6846" y="8062"/>
                </a:moveTo>
                <a:cubicBezTo>
                  <a:pt x="6984" y="8062"/>
                  <a:pt x="7110" y="8068"/>
                  <a:pt x="7243" y="8086"/>
                </a:cubicBezTo>
                <a:cubicBezTo>
                  <a:pt x="7284" y="8086"/>
                  <a:pt x="7292" y="8086"/>
                  <a:pt x="7317" y="8086"/>
                </a:cubicBezTo>
              </a:path>
              <a:path w="5631" h="3970">
                <a:moveTo>
                  <a:pt x="6846" y="8434"/>
                </a:moveTo>
                <a:cubicBezTo>
                  <a:pt x="6983" y="8434"/>
                  <a:pt x="7048" y="8438"/>
                  <a:pt x="7169" y="8384"/>
                </a:cubicBezTo>
              </a:path>
              <a:path w="5631" h="3970">
                <a:moveTo>
                  <a:pt x="4142" y="8186"/>
                </a:moveTo>
                <a:cubicBezTo>
                  <a:pt x="4203" y="8145"/>
                  <a:pt x="4278" y="8128"/>
                  <a:pt x="4341" y="8086"/>
                </a:cubicBezTo>
                <a:cubicBezTo>
                  <a:pt x="4405" y="8043"/>
                  <a:pt x="4490" y="8024"/>
                  <a:pt x="4564" y="8012"/>
                </a:cubicBezTo>
                <a:cubicBezTo>
                  <a:pt x="4656" y="7997"/>
                  <a:pt x="4743" y="7987"/>
                  <a:pt x="4837" y="7987"/>
                </a:cubicBezTo>
                <a:cubicBezTo>
                  <a:pt x="4932" y="7987"/>
                  <a:pt x="5024" y="7973"/>
                  <a:pt x="5110" y="8012"/>
                </a:cubicBezTo>
                <a:cubicBezTo>
                  <a:pt x="5172" y="8040"/>
                  <a:pt x="5213" y="8087"/>
                  <a:pt x="5184" y="8161"/>
                </a:cubicBezTo>
                <a:cubicBezTo>
                  <a:pt x="5167" y="8205"/>
                  <a:pt x="5087" y="8298"/>
                  <a:pt x="5060" y="8334"/>
                </a:cubicBezTo>
                <a:cubicBezTo>
                  <a:pt x="5030" y="8374"/>
                  <a:pt x="4931" y="8394"/>
                  <a:pt x="4911" y="8434"/>
                </a:cubicBezTo>
                <a:cubicBezTo>
                  <a:pt x="4871" y="8514"/>
                  <a:pt x="4873" y="8500"/>
                  <a:pt x="4787" y="8558"/>
                </a:cubicBezTo>
                <a:cubicBezTo>
                  <a:pt x="4762" y="8582"/>
                  <a:pt x="4754" y="8590"/>
                  <a:pt x="4738" y="8607"/>
                </a:cubicBezTo>
              </a:path>
              <a:path w="5631" h="3970">
                <a:moveTo>
                  <a:pt x="8582" y="7590"/>
                </a:moveTo>
                <a:cubicBezTo>
                  <a:pt x="8604" y="7547"/>
                  <a:pt x="8608" y="7535"/>
                  <a:pt x="8632" y="7516"/>
                </a:cubicBezTo>
                <a:cubicBezTo>
                  <a:pt x="8652" y="7595"/>
                  <a:pt x="8628" y="7637"/>
                  <a:pt x="8582" y="7714"/>
                </a:cubicBezTo>
                <a:cubicBezTo>
                  <a:pt x="8543" y="7778"/>
                  <a:pt x="8475" y="7863"/>
                  <a:pt x="8458" y="7938"/>
                </a:cubicBezTo>
                <a:cubicBezTo>
                  <a:pt x="8444" y="7999"/>
                  <a:pt x="8434" y="8043"/>
                  <a:pt x="8434" y="8111"/>
                </a:cubicBezTo>
                <a:cubicBezTo>
                  <a:pt x="8530" y="8111"/>
                  <a:pt x="8586" y="8078"/>
                  <a:pt x="8682" y="8062"/>
                </a:cubicBezTo>
                <a:cubicBezTo>
                  <a:pt x="8767" y="8048"/>
                  <a:pt x="8842" y="8037"/>
                  <a:pt x="8930" y="8037"/>
                </a:cubicBezTo>
                <a:cubicBezTo>
                  <a:pt x="9002" y="8037"/>
                  <a:pt x="9012" y="8095"/>
                  <a:pt x="8979" y="8012"/>
                </a:cubicBezTo>
              </a:path>
              <a:path w="5631" h="3970">
                <a:moveTo>
                  <a:pt x="8954" y="7590"/>
                </a:moveTo>
                <a:cubicBezTo>
                  <a:pt x="8900" y="7660"/>
                  <a:pt x="8905" y="7700"/>
                  <a:pt x="8905" y="7789"/>
                </a:cubicBezTo>
                <a:cubicBezTo>
                  <a:pt x="8905" y="7870"/>
                  <a:pt x="8897" y="7982"/>
                  <a:pt x="8880" y="8062"/>
                </a:cubicBezTo>
                <a:cubicBezTo>
                  <a:pt x="8859" y="8163"/>
                  <a:pt x="8855" y="8254"/>
                  <a:pt x="8855" y="8359"/>
                </a:cubicBezTo>
                <a:cubicBezTo>
                  <a:pt x="8855" y="8406"/>
                  <a:pt x="8849" y="8478"/>
                  <a:pt x="8830" y="8384"/>
                </a:cubicBezTo>
              </a:path>
              <a:path w="5631" h="3970">
                <a:moveTo>
                  <a:pt x="4713" y="8483"/>
                </a:moveTo>
                <a:cubicBezTo>
                  <a:pt x="4686" y="8510"/>
                  <a:pt x="4614" y="8579"/>
                  <a:pt x="4688" y="8607"/>
                </a:cubicBezTo>
                <a:cubicBezTo>
                  <a:pt x="4873" y="8677"/>
                  <a:pt x="5227" y="8607"/>
                  <a:pt x="5432" y="8607"/>
                </a:cubicBezTo>
              </a:path>
              <a:path w="5631" h="3970">
                <a:moveTo>
                  <a:pt x="5606" y="7888"/>
                </a:moveTo>
                <a:cubicBezTo>
                  <a:pt x="5589" y="7888"/>
                  <a:pt x="5573" y="7888"/>
                  <a:pt x="5556" y="7888"/>
                </a:cubicBezTo>
                <a:cubicBezTo>
                  <a:pt x="5611" y="7943"/>
                  <a:pt x="5641" y="8007"/>
                  <a:pt x="5655" y="8086"/>
                </a:cubicBezTo>
                <a:cubicBezTo>
                  <a:pt x="5667" y="8154"/>
                  <a:pt x="5663" y="8219"/>
                  <a:pt x="5680" y="8285"/>
                </a:cubicBezTo>
                <a:cubicBezTo>
                  <a:pt x="5696" y="8345"/>
                  <a:pt x="5725" y="8461"/>
                  <a:pt x="5755" y="8508"/>
                </a:cubicBezTo>
                <a:cubicBezTo>
                  <a:pt x="5796" y="8550"/>
                  <a:pt x="5804" y="8558"/>
                  <a:pt x="5829" y="8582"/>
                </a:cubicBezTo>
                <a:cubicBezTo>
                  <a:pt x="5829" y="8507"/>
                  <a:pt x="5843" y="8453"/>
                  <a:pt x="5854" y="8384"/>
                </a:cubicBezTo>
                <a:cubicBezTo>
                  <a:pt x="5868" y="8300"/>
                  <a:pt x="5897" y="8240"/>
                  <a:pt x="5928" y="8161"/>
                </a:cubicBezTo>
                <a:cubicBezTo>
                  <a:pt x="5963" y="8071"/>
                  <a:pt x="6011" y="7941"/>
                  <a:pt x="6052" y="7863"/>
                </a:cubicBezTo>
                <a:cubicBezTo>
                  <a:pt x="6077" y="7814"/>
                  <a:pt x="6138" y="7731"/>
                  <a:pt x="6176" y="7689"/>
                </a:cubicBezTo>
                <a:cubicBezTo>
                  <a:pt x="6199" y="7667"/>
                  <a:pt x="6207" y="7662"/>
                  <a:pt x="6201" y="7640"/>
                </a:cubicBezTo>
              </a:path>
              <a:path w="5631" h="3970">
                <a:moveTo>
                  <a:pt x="3994" y="8930"/>
                </a:moveTo>
                <a:cubicBezTo>
                  <a:pt x="4145" y="8930"/>
                  <a:pt x="4292" y="8947"/>
                  <a:pt x="4440" y="8954"/>
                </a:cubicBezTo>
                <a:cubicBezTo>
                  <a:pt x="4639" y="8964"/>
                  <a:pt x="4837" y="8975"/>
                  <a:pt x="5035" y="8979"/>
                </a:cubicBezTo>
                <a:cubicBezTo>
                  <a:pt x="5243" y="8983"/>
                  <a:pt x="5446" y="9004"/>
                  <a:pt x="5655" y="9004"/>
                </a:cubicBezTo>
                <a:cubicBezTo>
                  <a:pt x="6416" y="9004"/>
                  <a:pt x="7178" y="8996"/>
                  <a:pt x="7938" y="9029"/>
                </a:cubicBezTo>
                <a:cubicBezTo>
                  <a:pt x="8241" y="9042"/>
                  <a:pt x="8554" y="9049"/>
                  <a:pt x="8855" y="9079"/>
                </a:cubicBezTo>
                <a:cubicBezTo>
                  <a:pt x="9002" y="9094"/>
                  <a:pt x="9158" y="9119"/>
                  <a:pt x="9302" y="9128"/>
                </a:cubicBezTo>
                <a:cubicBezTo>
                  <a:pt x="9421" y="9135"/>
                  <a:pt x="9482" y="9125"/>
                  <a:pt x="9599" y="9103"/>
                </a:cubicBezTo>
              </a:path>
              <a:path w="5631" h="3970">
                <a:moveTo>
                  <a:pt x="4688" y="9401"/>
                </a:moveTo>
                <a:cubicBezTo>
                  <a:pt x="4755" y="9368"/>
                  <a:pt x="4809" y="9331"/>
                  <a:pt x="4887" y="9327"/>
                </a:cubicBezTo>
                <a:cubicBezTo>
                  <a:pt x="5008" y="9320"/>
                  <a:pt x="5118" y="9335"/>
                  <a:pt x="5234" y="9351"/>
                </a:cubicBezTo>
                <a:cubicBezTo>
                  <a:pt x="5290" y="9359"/>
                  <a:pt x="5378" y="9389"/>
                  <a:pt x="5407" y="9451"/>
                </a:cubicBezTo>
                <a:cubicBezTo>
                  <a:pt x="5447" y="9536"/>
                  <a:pt x="5297" y="9674"/>
                  <a:pt x="5234" y="9723"/>
                </a:cubicBezTo>
                <a:cubicBezTo>
                  <a:pt x="5135" y="9801"/>
                  <a:pt x="5103" y="9851"/>
                  <a:pt x="5035" y="9947"/>
                </a:cubicBezTo>
                <a:cubicBezTo>
                  <a:pt x="4989" y="10011"/>
                  <a:pt x="4892" y="10063"/>
                  <a:pt x="5011" y="10145"/>
                </a:cubicBezTo>
                <a:cubicBezTo>
                  <a:pt x="5075" y="10189"/>
                  <a:pt x="5210" y="10161"/>
                  <a:pt x="5283" y="10170"/>
                </a:cubicBezTo>
                <a:cubicBezTo>
                  <a:pt x="5532" y="10201"/>
                  <a:pt x="5776" y="10170"/>
                  <a:pt x="6028" y="10170"/>
                </a:cubicBezTo>
                <a:cubicBezTo>
                  <a:pt x="6188" y="10170"/>
                  <a:pt x="6326" y="10135"/>
                  <a:pt x="6474" y="10096"/>
                </a:cubicBezTo>
                <a:cubicBezTo>
                  <a:pt x="6515" y="10088"/>
                  <a:pt x="6557" y="10079"/>
                  <a:pt x="6598" y="10071"/>
                </a:cubicBezTo>
              </a:path>
              <a:path w="5631" h="3970">
                <a:moveTo>
                  <a:pt x="8062" y="9376"/>
                </a:moveTo>
                <a:cubicBezTo>
                  <a:pt x="8151" y="9376"/>
                  <a:pt x="8227" y="9383"/>
                  <a:pt x="8310" y="9401"/>
                </a:cubicBezTo>
                <a:cubicBezTo>
                  <a:pt x="8408" y="9422"/>
                  <a:pt x="8513" y="9462"/>
                  <a:pt x="8607" y="9500"/>
                </a:cubicBezTo>
                <a:cubicBezTo>
                  <a:pt x="8658" y="9521"/>
                  <a:pt x="8811" y="9594"/>
                  <a:pt x="8830" y="9649"/>
                </a:cubicBezTo>
                <a:cubicBezTo>
                  <a:pt x="8852" y="9712"/>
                  <a:pt x="8821" y="9779"/>
                  <a:pt x="8781" y="9823"/>
                </a:cubicBezTo>
                <a:cubicBezTo>
                  <a:pt x="8748" y="9859"/>
                  <a:pt x="8652" y="9944"/>
                  <a:pt x="8607" y="9971"/>
                </a:cubicBezTo>
                <a:cubicBezTo>
                  <a:pt x="8520" y="10022"/>
                  <a:pt x="8419" y="10042"/>
                  <a:pt x="8334" y="10096"/>
                </a:cubicBezTo>
                <a:cubicBezTo>
                  <a:pt x="8282" y="10130"/>
                  <a:pt x="8133" y="10224"/>
                  <a:pt x="8186" y="10319"/>
                </a:cubicBezTo>
                <a:cubicBezTo>
                  <a:pt x="8209" y="10360"/>
                  <a:pt x="8298" y="10383"/>
                  <a:pt x="8334" y="10393"/>
                </a:cubicBezTo>
                <a:cubicBezTo>
                  <a:pt x="8421" y="10417"/>
                  <a:pt x="8517" y="10432"/>
                  <a:pt x="8607" y="10443"/>
                </a:cubicBezTo>
                <a:cubicBezTo>
                  <a:pt x="8727" y="10458"/>
                  <a:pt x="8858" y="10443"/>
                  <a:pt x="8979" y="104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5"/>
          <p:cNvSpPr/>
          <p:nvPr/>
        </p:nvSpPr>
        <p:spPr>
          <a:xfrm>
            <a:off x="1955880" y="3803760"/>
            <a:ext cx="1374840" cy="482400"/>
          </a:xfrm>
          <a:custGeom>
            <a:avLst/>
            <a:gdLst/>
            <a:ahLst/>
            <a:rect l="l" t="t" r="r" b="b"/>
            <a:pathLst>
              <a:path w="3821" h="1340">
                <a:moveTo>
                  <a:pt x="5432" y="10790"/>
                </a:moveTo>
                <a:cubicBezTo>
                  <a:pt x="5461" y="10848"/>
                  <a:pt x="5489" y="10910"/>
                  <a:pt x="5507" y="10964"/>
                </a:cubicBezTo>
                <a:cubicBezTo>
                  <a:pt x="5550" y="11091"/>
                  <a:pt x="5612" y="11208"/>
                  <a:pt x="5655" y="11336"/>
                </a:cubicBezTo>
                <a:cubicBezTo>
                  <a:pt x="5693" y="11451"/>
                  <a:pt x="5736" y="11570"/>
                  <a:pt x="5779" y="11683"/>
                </a:cubicBezTo>
                <a:cubicBezTo>
                  <a:pt x="5807" y="11755"/>
                  <a:pt x="5835" y="11820"/>
                  <a:pt x="5879" y="11881"/>
                </a:cubicBezTo>
                <a:cubicBezTo>
                  <a:pt x="5887" y="11889"/>
                  <a:pt x="5896" y="11898"/>
                  <a:pt x="5904" y="11906"/>
                </a:cubicBezTo>
                <a:cubicBezTo>
                  <a:pt x="5977" y="11853"/>
                  <a:pt x="5975" y="11831"/>
                  <a:pt x="6003" y="11757"/>
                </a:cubicBezTo>
                <a:cubicBezTo>
                  <a:pt x="6038" y="11662"/>
                  <a:pt x="6063" y="11537"/>
                  <a:pt x="6077" y="11435"/>
                </a:cubicBezTo>
                <a:cubicBezTo>
                  <a:pt x="6091" y="11330"/>
                  <a:pt x="6138" y="11217"/>
                  <a:pt x="6176" y="11112"/>
                </a:cubicBezTo>
                <a:cubicBezTo>
                  <a:pt x="6208" y="11024"/>
                  <a:pt x="6263" y="10954"/>
                  <a:pt x="6300" y="10889"/>
                </a:cubicBezTo>
                <a:cubicBezTo>
                  <a:pt x="6345" y="10810"/>
                  <a:pt x="6372" y="10714"/>
                  <a:pt x="6424" y="10641"/>
                </a:cubicBezTo>
                <a:cubicBezTo>
                  <a:pt x="6474" y="10571"/>
                  <a:pt x="6484" y="10588"/>
                  <a:pt x="6548" y="10567"/>
                </a:cubicBezTo>
              </a:path>
              <a:path w="3821" h="1340">
                <a:moveTo>
                  <a:pt x="6970" y="11038"/>
                </a:moveTo>
                <a:cubicBezTo>
                  <a:pt x="7010" y="11062"/>
                  <a:pt x="7094" y="11083"/>
                  <a:pt x="7144" y="11088"/>
                </a:cubicBezTo>
                <a:cubicBezTo>
                  <a:pt x="7290" y="11101"/>
                  <a:pt x="7443" y="11088"/>
                  <a:pt x="7590" y="11088"/>
                </a:cubicBezTo>
              </a:path>
              <a:path w="3821" h="1340">
                <a:moveTo>
                  <a:pt x="6796" y="11559"/>
                </a:moveTo>
                <a:cubicBezTo>
                  <a:pt x="6877" y="11581"/>
                  <a:pt x="6936" y="11584"/>
                  <a:pt x="7020" y="11584"/>
                </a:cubicBezTo>
                <a:cubicBezTo>
                  <a:pt x="7197" y="11584"/>
                  <a:pt x="7372" y="11587"/>
                  <a:pt x="7541" y="11609"/>
                </a:cubicBezTo>
                <a:cubicBezTo>
                  <a:pt x="7617" y="11619"/>
                  <a:pt x="7611" y="11598"/>
                  <a:pt x="7665" y="11584"/>
                </a:cubicBezTo>
              </a:path>
              <a:path w="3821" h="1340">
                <a:moveTo>
                  <a:pt x="8161" y="10964"/>
                </a:moveTo>
                <a:cubicBezTo>
                  <a:pt x="8134" y="11034"/>
                  <a:pt x="8136" y="11086"/>
                  <a:pt x="8136" y="11162"/>
                </a:cubicBezTo>
                <a:cubicBezTo>
                  <a:pt x="8136" y="11275"/>
                  <a:pt x="8124" y="11379"/>
                  <a:pt x="8111" y="11485"/>
                </a:cubicBezTo>
                <a:cubicBezTo>
                  <a:pt x="8099" y="11578"/>
                  <a:pt x="8101" y="11668"/>
                  <a:pt x="8086" y="11757"/>
                </a:cubicBezTo>
                <a:cubicBezTo>
                  <a:pt x="8074" y="11829"/>
                  <a:pt x="8095" y="11827"/>
                  <a:pt x="8136" y="11807"/>
                </a:cubicBezTo>
              </a:path>
              <a:path w="3821" h="1340">
                <a:moveTo>
                  <a:pt x="8384" y="11063"/>
                </a:moveTo>
                <a:cubicBezTo>
                  <a:pt x="8425" y="10965"/>
                  <a:pt x="8450" y="10898"/>
                  <a:pt x="8558" y="10864"/>
                </a:cubicBezTo>
                <a:cubicBezTo>
                  <a:pt x="8671" y="10828"/>
                  <a:pt x="8715" y="10834"/>
                  <a:pt x="8806" y="10889"/>
                </a:cubicBezTo>
                <a:cubicBezTo>
                  <a:pt x="8863" y="10924"/>
                  <a:pt x="8896" y="10955"/>
                  <a:pt x="8930" y="11013"/>
                </a:cubicBezTo>
                <a:cubicBezTo>
                  <a:pt x="8972" y="11084"/>
                  <a:pt x="8961" y="11171"/>
                  <a:pt x="8930" y="11237"/>
                </a:cubicBezTo>
                <a:cubicBezTo>
                  <a:pt x="8902" y="11296"/>
                  <a:pt x="8849" y="11362"/>
                  <a:pt x="8806" y="11410"/>
                </a:cubicBezTo>
                <a:cubicBezTo>
                  <a:pt x="8763" y="11458"/>
                  <a:pt x="8680" y="11518"/>
                  <a:pt x="8632" y="11559"/>
                </a:cubicBezTo>
                <a:cubicBezTo>
                  <a:pt x="8583" y="11600"/>
                  <a:pt x="8530" y="11636"/>
                  <a:pt x="8483" y="11683"/>
                </a:cubicBezTo>
                <a:cubicBezTo>
                  <a:pt x="8427" y="11739"/>
                  <a:pt x="8504" y="11801"/>
                  <a:pt x="8558" y="11807"/>
                </a:cubicBezTo>
                <a:cubicBezTo>
                  <a:pt x="8620" y="11814"/>
                  <a:pt x="8698" y="11841"/>
                  <a:pt x="8756" y="11832"/>
                </a:cubicBezTo>
                <a:cubicBezTo>
                  <a:pt x="8843" y="11818"/>
                  <a:pt x="8913" y="11807"/>
                  <a:pt x="9004" y="11807"/>
                </a:cubicBezTo>
                <a:cubicBezTo>
                  <a:pt x="9056" y="11807"/>
                  <a:pt x="9230" y="11838"/>
                  <a:pt x="9252" y="11782"/>
                </a:cubicBezTo>
                <a:cubicBezTo>
                  <a:pt x="9252" y="11766"/>
                  <a:pt x="9252" y="11749"/>
                  <a:pt x="9252" y="117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6"/>
          <p:cNvSpPr/>
          <p:nvPr/>
        </p:nvSpPr>
        <p:spPr>
          <a:xfrm>
            <a:off x="1652760" y="4232160"/>
            <a:ext cx="1652400" cy="777960"/>
          </a:xfrm>
          <a:custGeom>
            <a:avLst/>
            <a:gdLst/>
            <a:ahLst/>
            <a:rect l="l" t="t" r="r" b="b"/>
            <a:pathLst>
              <a:path w="4590" h="2159">
                <a:moveTo>
                  <a:pt x="4638" y="12378"/>
                </a:moveTo>
                <a:cubicBezTo>
                  <a:pt x="4653" y="12554"/>
                  <a:pt x="4696" y="12723"/>
                  <a:pt x="4713" y="12898"/>
                </a:cubicBezTo>
                <a:cubicBezTo>
                  <a:pt x="4727" y="13046"/>
                  <a:pt x="4735" y="13196"/>
                  <a:pt x="4738" y="13345"/>
                </a:cubicBezTo>
                <a:cubicBezTo>
                  <a:pt x="4740" y="13429"/>
                  <a:pt x="4735" y="13561"/>
                  <a:pt x="4713" y="13643"/>
                </a:cubicBezTo>
                <a:cubicBezTo>
                  <a:pt x="4705" y="13651"/>
                  <a:pt x="4696" y="13659"/>
                  <a:pt x="4688" y="13667"/>
                </a:cubicBezTo>
                <a:cubicBezTo>
                  <a:pt x="4658" y="13549"/>
                  <a:pt x="4659" y="13438"/>
                  <a:pt x="4638" y="13320"/>
                </a:cubicBezTo>
                <a:cubicBezTo>
                  <a:pt x="4612" y="13173"/>
                  <a:pt x="4589" y="13050"/>
                  <a:pt x="4589" y="12898"/>
                </a:cubicBezTo>
                <a:cubicBezTo>
                  <a:pt x="4589" y="12684"/>
                  <a:pt x="4616" y="12530"/>
                  <a:pt x="4663" y="12328"/>
                </a:cubicBezTo>
                <a:cubicBezTo>
                  <a:pt x="4693" y="12197"/>
                  <a:pt x="4726" y="12082"/>
                  <a:pt x="4837" y="12005"/>
                </a:cubicBezTo>
                <a:cubicBezTo>
                  <a:pt x="4921" y="11947"/>
                  <a:pt x="4991" y="11947"/>
                  <a:pt x="5085" y="11981"/>
                </a:cubicBezTo>
                <a:cubicBezTo>
                  <a:pt x="5176" y="12013"/>
                  <a:pt x="5227" y="12095"/>
                  <a:pt x="5259" y="12179"/>
                </a:cubicBezTo>
                <a:cubicBezTo>
                  <a:pt x="5290" y="12260"/>
                  <a:pt x="5311" y="12441"/>
                  <a:pt x="5283" y="12526"/>
                </a:cubicBezTo>
                <a:cubicBezTo>
                  <a:pt x="5249" y="12629"/>
                  <a:pt x="5118" y="12818"/>
                  <a:pt x="5035" y="12874"/>
                </a:cubicBezTo>
                <a:cubicBezTo>
                  <a:pt x="4973" y="12916"/>
                  <a:pt x="4814" y="12975"/>
                  <a:pt x="4738" y="12948"/>
                </a:cubicBezTo>
                <a:cubicBezTo>
                  <a:pt x="4679" y="12927"/>
                  <a:pt x="4659" y="12858"/>
                  <a:pt x="4638" y="12824"/>
                </a:cubicBezTo>
                <a:cubicBezTo>
                  <a:pt x="4589" y="12744"/>
                  <a:pt x="4629" y="12721"/>
                  <a:pt x="4663" y="12650"/>
                </a:cubicBezTo>
                <a:cubicBezTo>
                  <a:pt x="4698" y="12577"/>
                  <a:pt x="4735" y="12539"/>
                  <a:pt x="4812" y="12526"/>
                </a:cubicBezTo>
                <a:cubicBezTo>
                  <a:pt x="4872" y="12516"/>
                  <a:pt x="4950" y="12584"/>
                  <a:pt x="4986" y="12626"/>
                </a:cubicBezTo>
                <a:cubicBezTo>
                  <a:pt x="5094" y="12752"/>
                  <a:pt x="5098" y="12840"/>
                  <a:pt x="5159" y="12998"/>
                </a:cubicBezTo>
                <a:cubicBezTo>
                  <a:pt x="5201" y="13107"/>
                  <a:pt x="5268" y="13231"/>
                  <a:pt x="5333" y="13320"/>
                </a:cubicBezTo>
                <a:cubicBezTo>
                  <a:pt x="5419" y="13438"/>
                  <a:pt x="5552" y="13591"/>
                  <a:pt x="5705" y="13618"/>
                </a:cubicBezTo>
                <a:cubicBezTo>
                  <a:pt x="5794" y="13634"/>
                  <a:pt x="5911" y="13571"/>
                  <a:pt x="5978" y="13519"/>
                </a:cubicBezTo>
                <a:cubicBezTo>
                  <a:pt x="6079" y="13441"/>
                  <a:pt x="6172" y="13279"/>
                  <a:pt x="6226" y="13171"/>
                </a:cubicBezTo>
              </a:path>
              <a:path w="4590" h="2159">
                <a:moveTo>
                  <a:pt x="6424" y="12626"/>
                </a:moveTo>
                <a:cubicBezTo>
                  <a:pt x="6292" y="12638"/>
                  <a:pt x="6259" y="12682"/>
                  <a:pt x="6201" y="12799"/>
                </a:cubicBezTo>
                <a:cubicBezTo>
                  <a:pt x="6140" y="12921"/>
                  <a:pt x="6084" y="12991"/>
                  <a:pt x="6052" y="13122"/>
                </a:cubicBezTo>
                <a:cubicBezTo>
                  <a:pt x="6029" y="13216"/>
                  <a:pt x="6028" y="13297"/>
                  <a:pt x="6028" y="13395"/>
                </a:cubicBezTo>
                <a:cubicBezTo>
                  <a:pt x="6028" y="13446"/>
                  <a:pt x="6030" y="13463"/>
                  <a:pt x="6077" y="13469"/>
                </a:cubicBezTo>
                <a:cubicBezTo>
                  <a:pt x="6175" y="13455"/>
                  <a:pt x="6162" y="13410"/>
                  <a:pt x="6201" y="13320"/>
                </a:cubicBezTo>
                <a:cubicBezTo>
                  <a:pt x="6241" y="13228"/>
                  <a:pt x="6257" y="13144"/>
                  <a:pt x="6276" y="13047"/>
                </a:cubicBezTo>
                <a:cubicBezTo>
                  <a:pt x="6294" y="12953"/>
                  <a:pt x="6317" y="12841"/>
                  <a:pt x="6325" y="12750"/>
                </a:cubicBezTo>
                <a:cubicBezTo>
                  <a:pt x="6331" y="12678"/>
                  <a:pt x="6325" y="12599"/>
                  <a:pt x="6325" y="12526"/>
                </a:cubicBezTo>
                <a:cubicBezTo>
                  <a:pt x="6366" y="12598"/>
                  <a:pt x="6384" y="12690"/>
                  <a:pt x="6400" y="12774"/>
                </a:cubicBezTo>
                <a:cubicBezTo>
                  <a:pt x="6422" y="12889"/>
                  <a:pt x="6408" y="13020"/>
                  <a:pt x="6474" y="13122"/>
                </a:cubicBezTo>
                <a:cubicBezTo>
                  <a:pt x="6547" y="13234"/>
                  <a:pt x="6552" y="13292"/>
                  <a:pt x="6672" y="13246"/>
                </a:cubicBezTo>
              </a:path>
              <a:path w="4590" h="2159">
                <a:moveTo>
                  <a:pt x="7069" y="12551"/>
                </a:moveTo>
                <a:cubicBezTo>
                  <a:pt x="7069" y="12442"/>
                  <a:pt x="7060" y="12408"/>
                  <a:pt x="6970" y="12551"/>
                </a:cubicBezTo>
                <a:cubicBezTo>
                  <a:pt x="6925" y="12623"/>
                  <a:pt x="6881" y="12720"/>
                  <a:pt x="6846" y="12799"/>
                </a:cubicBezTo>
                <a:cubicBezTo>
                  <a:pt x="6813" y="12874"/>
                  <a:pt x="6777" y="13043"/>
                  <a:pt x="6796" y="13122"/>
                </a:cubicBezTo>
                <a:cubicBezTo>
                  <a:pt x="6810" y="13180"/>
                  <a:pt x="6849" y="13310"/>
                  <a:pt x="6921" y="13320"/>
                </a:cubicBezTo>
                <a:cubicBezTo>
                  <a:pt x="7070" y="13341"/>
                  <a:pt x="7126" y="13299"/>
                  <a:pt x="7218" y="13196"/>
                </a:cubicBezTo>
                <a:cubicBezTo>
                  <a:pt x="7330" y="13071"/>
                  <a:pt x="7355" y="12884"/>
                  <a:pt x="7367" y="12725"/>
                </a:cubicBezTo>
                <a:cubicBezTo>
                  <a:pt x="7378" y="12572"/>
                  <a:pt x="7329" y="12427"/>
                  <a:pt x="7317" y="12278"/>
                </a:cubicBezTo>
                <a:cubicBezTo>
                  <a:pt x="7306" y="12144"/>
                  <a:pt x="7287" y="12090"/>
                  <a:pt x="7218" y="11981"/>
                </a:cubicBezTo>
                <a:cubicBezTo>
                  <a:pt x="7210" y="11964"/>
                  <a:pt x="7201" y="11948"/>
                  <a:pt x="7193" y="11931"/>
                </a:cubicBezTo>
                <a:cubicBezTo>
                  <a:pt x="7219" y="12032"/>
                  <a:pt x="7230" y="12032"/>
                  <a:pt x="7268" y="12129"/>
                </a:cubicBezTo>
                <a:cubicBezTo>
                  <a:pt x="7324" y="12273"/>
                  <a:pt x="7367" y="12448"/>
                  <a:pt x="7392" y="12601"/>
                </a:cubicBezTo>
                <a:cubicBezTo>
                  <a:pt x="7421" y="12781"/>
                  <a:pt x="7435" y="12968"/>
                  <a:pt x="7466" y="13146"/>
                </a:cubicBezTo>
                <a:cubicBezTo>
                  <a:pt x="7490" y="13194"/>
                  <a:pt x="7498" y="13209"/>
                  <a:pt x="7491" y="13246"/>
                </a:cubicBezTo>
                <a:cubicBezTo>
                  <a:pt x="7504" y="13170"/>
                  <a:pt x="7516" y="13088"/>
                  <a:pt x="7516" y="12998"/>
                </a:cubicBezTo>
                <a:cubicBezTo>
                  <a:pt x="7516" y="12829"/>
                  <a:pt x="7523" y="12666"/>
                  <a:pt x="7541" y="12502"/>
                </a:cubicBezTo>
                <a:cubicBezTo>
                  <a:pt x="7550" y="12423"/>
                  <a:pt x="7559" y="12369"/>
                  <a:pt x="7590" y="12303"/>
                </a:cubicBezTo>
                <a:cubicBezTo>
                  <a:pt x="7598" y="12295"/>
                  <a:pt x="7607" y="12286"/>
                  <a:pt x="7615" y="12278"/>
                </a:cubicBezTo>
                <a:cubicBezTo>
                  <a:pt x="7674" y="12337"/>
                  <a:pt x="7695" y="12333"/>
                  <a:pt x="7714" y="12427"/>
                </a:cubicBezTo>
                <a:cubicBezTo>
                  <a:pt x="7737" y="12539"/>
                  <a:pt x="7746" y="12660"/>
                  <a:pt x="7764" y="12774"/>
                </a:cubicBezTo>
                <a:cubicBezTo>
                  <a:pt x="7792" y="12952"/>
                  <a:pt x="7836" y="13157"/>
                  <a:pt x="7913" y="13320"/>
                </a:cubicBezTo>
                <a:cubicBezTo>
                  <a:pt x="7970" y="13442"/>
                  <a:pt x="8035" y="13456"/>
                  <a:pt x="8161" y="13444"/>
                </a:cubicBezTo>
                <a:cubicBezTo>
                  <a:pt x="8249" y="13435"/>
                  <a:pt x="8316" y="13339"/>
                  <a:pt x="8359" y="13271"/>
                </a:cubicBezTo>
                <a:cubicBezTo>
                  <a:pt x="8436" y="13150"/>
                  <a:pt x="8467" y="13061"/>
                  <a:pt x="8508" y="12923"/>
                </a:cubicBezTo>
                <a:cubicBezTo>
                  <a:pt x="8542" y="12809"/>
                  <a:pt x="8567" y="12671"/>
                  <a:pt x="8582" y="12551"/>
                </a:cubicBezTo>
                <a:cubicBezTo>
                  <a:pt x="8592" y="12472"/>
                  <a:pt x="8581" y="12376"/>
                  <a:pt x="8558" y="12303"/>
                </a:cubicBezTo>
                <a:cubicBezTo>
                  <a:pt x="8550" y="12287"/>
                  <a:pt x="8541" y="12270"/>
                  <a:pt x="8533" y="12254"/>
                </a:cubicBezTo>
                <a:cubicBezTo>
                  <a:pt x="8415" y="12271"/>
                  <a:pt x="8431" y="12265"/>
                  <a:pt x="8334" y="12378"/>
                </a:cubicBezTo>
                <a:cubicBezTo>
                  <a:pt x="8259" y="12466"/>
                  <a:pt x="8223" y="12607"/>
                  <a:pt x="8210" y="12725"/>
                </a:cubicBezTo>
                <a:cubicBezTo>
                  <a:pt x="8188" y="12928"/>
                  <a:pt x="8186" y="13065"/>
                  <a:pt x="8235" y="13271"/>
                </a:cubicBezTo>
                <a:cubicBezTo>
                  <a:pt x="8266" y="13400"/>
                  <a:pt x="8323" y="13494"/>
                  <a:pt x="8434" y="13568"/>
                </a:cubicBezTo>
                <a:cubicBezTo>
                  <a:pt x="8540" y="13639"/>
                  <a:pt x="8615" y="13557"/>
                  <a:pt x="8682" y="13494"/>
                </a:cubicBezTo>
                <a:cubicBezTo>
                  <a:pt x="8820" y="13366"/>
                  <a:pt x="8853" y="13210"/>
                  <a:pt x="8930" y="13047"/>
                </a:cubicBezTo>
                <a:cubicBezTo>
                  <a:pt x="9030" y="12834"/>
                  <a:pt x="9047" y="12605"/>
                  <a:pt x="9079" y="12378"/>
                </a:cubicBezTo>
                <a:cubicBezTo>
                  <a:pt x="9099" y="12237"/>
                  <a:pt x="9118" y="12119"/>
                  <a:pt x="9079" y="11981"/>
                </a:cubicBezTo>
                <a:cubicBezTo>
                  <a:pt x="9049" y="11875"/>
                  <a:pt x="9053" y="11853"/>
                  <a:pt x="8979" y="11782"/>
                </a:cubicBezTo>
                <a:cubicBezTo>
                  <a:pt x="8963" y="11774"/>
                  <a:pt x="8946" y="11765"/>
                  <a:pt x="8930" y="11757"/>
                </a:cubicBezTo>
                <a:cubicBezTo>
                  <a:pt x="8808" y="11824"/>
                  <a:pt x="8835" y="11826"/>
                  <a:pt x="8756" y="11956"/>
                </a:cubicBezTo>
                <a:cubicBezTo>
                  <a:pt x="8646" y="12138"/>
                  <a:pt x="8682" y="12343"/>
                  <a:pt x="8682" y="12551"/>
                </a:cubicBezTo>
                <a:cubicBezTo>
                  <a:pt x="8682" y="12756"/>
                  <a:pt x="8698" y="12925"/>
                  <a:pt x="8756" y="13122"/>
                </a:cubicBezTo>
                <a:cubicBezTo>
                  <a:pt x="8806" y="13292"/>
                  <a:pt x="8842" y="13462"/>
                  <a:pt x="8930" y="13618"/>
                </a:cubicBezTo>
                <a:cubicBezTo>
                  <a:pt x="8980" y="13707"/>
                  <a:pt x="9039" y="13900"/>
                  <a:pt x="9153" y="13915"/>
                </a:cubicBezTo>
                <a:cubicBezTo>
                  <a:pt x="9161" y="13907"/>
                  <a:pt x="9170" y="13899"/>
                  <a:pt x="9178" y="138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7"/>
          <p:cNvSpPr/>
          <p:nvPr/>
        </p:nvSpPr>
        <p:spPr>
          <a:xfrm>
            <a:off x="6357960" y="2384280"/>
            <a:ext cx="376200" cy="384480"/>
          </a:xfrm>
          <a:custGeom>
            <a:avLst/>
            <a:gdLst/>
            <a:ahLst/>
            <a:rect l="l" t="t" r="r" b="b"/>
            <a:pathLst>
              <a:path w="1043" h="1067">
                <a:moveTo>
                  <a:pt x="17735" y="6921"/>
                </a:moveTo>
                <a:cubicBezTo>
                  <a:pt x="17707" y="6949"/>
                  <a:pt x="17694" y="6957"/>
                  <a:pt x="17661" y="6945"/>
                </a:cubicBezTo>
                <a:cubicBezTo>
                  <a:pt x="17723" y="6969"/>
                  <a:pt x="17772" y="6990"/>
                  <a:pt x="17835" y="6995"/>
                </a:cubicBezTo>
                <a:cubicBezTo>
                  <a:pt x="17843" y="6995"/>
                  <a:pt x="17851" y="6995"/>
                  <a:pt x="17859" y="6995"/>
                </a:cubicBezTo>
              </a:path>
              <a:path w="1043" h="1067">
                <a:moveTo>
                  <a:pt x="18529" y="6648"/>
                </a:moveTo>
                <a:cubicBezTo>
                  <a:pt x="18453" y="6648"/>
                  <a:pt x="18392" y="6644"/>
                  <a:pt x="18331" y="6697"/>
                </a:cubicBezTo>
                <a:cubicBezTo>
                  <a:pt x="18280" y="6742"/>
                  <a:pt x="18182" y="6785"/>
                  <a:pt x="18207" y="6871"/>
                </a:cubicBezTo>
                <a:cubicBezTo>
                  <a:pt x="18229" y="6946"/>
                  <a:pt x="18330" y="6933"/>
                  <a:pt x="18380" y="6945"/>
                </a:cubicBezTo>
                <a:cubicBezTo>
                  <a:pt x="18434" y="6958"/>
                  <a:pt x="18564" y="7002"/>
                  <a:pt x="18604" y="7045"/>
                </a:cubicBezTo>
                <a:cubicBezTo>
                  <a:pt x="18652" y="7097"/>
                  <a:pt x="18694" y="7228"/>
                  <a:pt x="18703" y="7293"/>
                </a:cubicBezTo>
                <a:cubicBezTo>
                  <a:pt x="18716" y="7389"/>
                  <a:pt x="18692" y="7477"/>
                  <a:pt x="18678" y="7565"/>
                </a:cubicBezTo>
                <a:cubicBezTo>
                  <a:pt x="18664" y="7656"/>
                  <a:pt x="18623" y="7689"/>
                  <a:pt x="18529" y="7665"/>
                </a:cubicBezTo>
                <a:cubicBezTo>
                  <a:pt x="18454" y="7646"/>
                  <a:pt x="18445" y="7602"/>
                  <a:pt x="18405" y="7541"/>
                </a:cubicBezTo>
                <a:cubicBezTo>
                  <a:pt x="18362" y="7474"/>
                  <a:pt x="18338" y="7397"/>
                  <a:pt x="18355" y="7317"/>
                </a:cubicBezTo>
                <a:cubicBezTo>
                  <a:pt x="18381" y="7193"/>
                  <a:pt x="18437" y="7071"/>
                  <a:pt x="18504" y="6970"/>
                </a:cubicBezTo>
                <a:cubicBezTo>
                  <a:pt x="18557" y="6891"/>
                  <a:pt x="18622" y="6839"/>
                  <a:pt x="18678" y="6772"/>
                </a:cubicBezTo>
                <a:cubicBezTo>
                  <a:pt x="18720" y="6722"/>
                  <a:pt x="18709" y="6674"/>
                  <a:pt x="18678" y="66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8"/>
          <p:cNvSpPr/>
          <p:nvPr/>
        </p:nvSpPr>
        <p:spPr>
          <a:xfrm>
            <a:off x="5599080" y="3125880"/>
            <a:ext cx="1598760" cy="731880"/>
          </a:xfrm>
          <a:custGeom>
            <a:avLst/>
            <a:gdLst/>
            <a:ahLst/>
            <a:rect l="l" t="t" r="r" b="b"/>
            <a:pathLst>
              <a:path w="4441" h="2035">
                <a:moveTo>
                  <a:pt x="15875" y="9029"/>
                </a:moveTo>
                <a:cubicBezTo>
                  <a:pt x="15930" y="8996"/>
                  <a:pt x="15981" y="9004"/>
                  <a:pt x="16049" y="9004"/>
                </a:cubicBezTo>
                <a:cubicBezTo>
                  <a:pt x="16131" y="9004"/>
                  <a:pt x="16191" y="9025"/>
                  <a:pt x="16272" y="9029"/>
                </a:cubicBezTo>
                <a:cubicBezTo>
                  <a:pt x="16335" y="9032"/>
                  <a:pt x="16416" y="8987"/>
                  <a:pt x="16470" y="9004"/>
                </a:cubicBezTo>
                <a:cubicBezTo>
                  <a:pt x="16478" y="9012"/>
                  <a:pt x="16487" y="9021"/>
                  <a:pt x="16495" y="9029"/>
                </a:cubicBezTo>
                <a:cubicBezTo>
                  <a:pt x="16439" y="9086"/>
                  <a:pt x="16395" y="9143"/>
                  <a:pt x="16346" y="9203"/>
                </a:cubicBezTo>
                <a:cubicBezTo>
                  <a:pt x="16306" y="9252"/>
                  <a:pt x="16202" y="9304"/>
                  <a:pt x="16173" y="9351"/>
                </a:cubicBezTo>
                <a:cubicBezTo>
                  <a:pt x="16116" y="9441"/>
                  <a:pt x="16042" y="9487"/>
                  <a:pt x="15974" y="9575"/>
                </a:cubicBezTo>
                <a:cubicBezTo>
                  <a:pt x="15902" y="9667"/>
                  <a:pt x="15830" y="9786"/>
                  <a:pt x="15751" y="9872"/>
                </a:cubicBezTo>
                <a:cubicBezTo>
                  <a:pt x="15707" y="9920"/>
                  <a:pt x="15664" y="9960"/>
                  <a:pt x="15627" y="10021"/>
                </a:cubicBezTo>
                <a:cubicBezTo>
                  <a:pt x="15605" y="10065"/>
                  <a:pt x="15602" y="10086"/>
                  <a:pt x="15577" y="10046"/>
                </a:cubicBezTo>
              </a:path>
              <a:path w="4441" h="2035">
                <a:moveTo>
                  <a:pt x="15553" y="9897"/>
                </a:moveTo>
                <a:cubicBezTo>
                  <a:pt x="15620" y="9863"/>
                  <a:pt x="15695" y="9872"/>
                  <a:pt x="15776" y="9872"/>
                </a:cubicBezTo>
                <a:cubicBezTo>
                  <a:pt x="15957" y="9872"/>
                  <a:pt x="16244" y="9926"/>
                  <a:pt x="16396" y="9847"/>
                </a:cubicBezTo>
                <a:cubicBezTo>
                  <a:pt x="16413" y="9839"/>
                  <a:pt x="16429" y="9831"/>
                  <a:pt x="16446" y="9823"/>
                </a:cubicBezTo>
              </a:path>
              <a:path w="4441" h="2035">
                <a:moveTo>
                  <a:pt x="17438" y="8682"/>
                </a:moveTo>
                <a:cubicBezTo>
                  <a:pt x="17349" y="8858"/>
                  <a:pt x="17271" y="9032"/>
                  <a:pt x="17190" y="9203"/>
                </a:cubicBezTo>
                <a:cubicBezTo>
                  <a:pt x="17112" y="9366"/>
                  <a:pt x="17036" y="9533"/>
                  <a:pt x="16966" y="9699"/>
                </a:cubicBezTo>
                <a:cubicBezTo>
                  <a:pt x="16891" y="9876"/>
                  <a:pt x="16807" y="10073"/>
                  <a:pt x="16718" y="10244"/>
                </a:cubicBezTo>
                <a:cubicBezTo>
                  <a:pt x="16649" y="10376"/>
                  <a:pt x="16585" y="10469"/>
                  <a:pt x="16545" y="10616"/>
                </a:cubicBezTo>
                <a:cubicBezTo>
                  <a:pt x="16537" y="10649"/>
                  <a:pt x="16528" y="10683"/>
                  <a:pt x="16520" y="10716"/>
                </a:cubicBezTo>
              </a:path>
              <a:path w="4441" h="2035">
                <a:moveTo>
                  <a:pt x="17165" y="9674"/>
                </a:moveTo>
                <a:cubicBezTo>
                  <a:pt x="17195" y="9614"/>
                  <a:pt x="17226" y="9535"/>
                  <a:pt x="17289" y="9500"/>
                </a:cubicBezTo>
                <a:cubicBezTo>
                  <a:pt x="17366" y="9458"/>
                  <a:pt x="17484" y="9450"/>
                  <a:pt x="17562" y="9475"/>
                </a:cubicBezTo>
                <a:cubicBezTo>
                  <a:pt x="17606" y="9489"/>
                  <a:pt x="17689" y="9529"/>
                  <a:pt x="17711" y="9575"/>
                </a:cubicBezTo>
                <a:cubicBezTo>
                  <a:pt x="17752" y="9663"/>
                  <a:pt x="17760" y="9728"/>
                  <a:pt x="17760" y="9823"/>
                </a:cubicBezTo>
                <a:cubicBezTo>
                  <a:pt x="17760" y="9938"/>
                  <a:pt x="17747" y="10036"/>
                  <a:pt x="17711" y="10145"/>
                </a:cubicBezTo>
                <a:cubicBezTo>
                  <a:pt x="17685" y="10223"/>
                  <a:pt x="17624" y="10275"/>
                  <a:pt x="17537" y="10294"/>
                </a:cubicBezTo>
                <a:cubicBezTo>
                  <a:pt x="17478" y="10307"/>
                  <a:pt x="17399" y="10294"/>
                  <a:pt x="17338" y="10294"/>
                </a:cubicBezTo>
                <a:cubicBezTo>
                  <a:pt x="17376" y="10241"/>
                  <a:pt x="17429" y="10184"/>
                  <a:pt x="17487" y="10145"/>
                </a:cubicBezTo>
                <a:cubicBezTo>
                  <a:pt x="17554" y="10100"/>
                  <a:pt x="17633" y="10075"/>
                  <a:pt x="17711" y="10071"/>
                </a:cubicBezTo>
                <a:cubicBezTo>
                  <a:pt x="17803" y="10066"/>
                  <a:pt x="17872" y="10083"/>
                  <a:pt x="17959" y="10096"/>
                </a:cubicBezTo>
                <a:cubicBezTo>
                  <a:pt x="17998" y="10102"/>
                  <a:pt x="18043" y="10096"/>
                  <a:pt x="18083" y="10096"/>
                </a:cubicBezTo>
              </a:path>
              <a:path w="4441" h="2035">
                <a:moveTo>
                  <a:pt x="18306" y="9327"/>
                </a:moveTo>
                <a:cubicBezTo>
                  <a:pt x="18396" y="9327"/>
                  <a:pt x="18470" y="9316"/>
                  <a:pt x="18554" y="9302"/>
                </a:cubicBezTo>
                <a:cubicBezTo>
                  <a:pt x="18640" y="9288"/>
                  <a:pt x="18739" y="9302"/>
                  <a:pt x="18827" y="9302"/>
                </a:cubicBezTo>
              </a:path>
              <a:path w="4441" h="2035">
                <a:moveTo>
                  <a:pt x="18306" y="9525"/>
                </a:moveTo>
                <a:cubicBezTo>
                  <a:pt x="18395" y="9519"/>
                  <a:pt x="18465" y="9500"/>
                  <a:pt x="18554" y="9500"/>
                </a:cubicBezTo>
                <a:cubicBezTo>
                  <a:pt x="18604" y="9500"/>
                  <a:pt x="18620" y="9500"/>
                  <a:pt x="18653" y="9500"/>
                </a:cubicBezTo>
              </a:path>
              <a:path w="4441" h="2035">
                <a:moveTo>
                  <a:pt x="19918" y="8781"/>
                </a:moveTo>
                <a:cubicBezTo>
                  <a:pt x="19873" y="8751"/>
                  <a:pt x="19793" y="8713"/>
                  <a:pt x="19745" y="8706"/>
                </a:cubicBezTo>
                <a:cubicBezTo>
                  <a:pt x="19671" y="8695"/>
                  <a:pt x="19587" y="8701"/>
                  <a:pt x="19521" y="8731"/>
                </a:cubicBezTo>
                <a:cubicBezTo>
                  <a:pt x="19427" y="8773"/>
                  <a:pt x="19430" y="8805"/>
                  <a:pt x="19372" y="8880"/>
                </a:cubicBezTo>
                <a:cubicBezTo>
                  <a:pt x="19308" y="8964"/>
                  <a:pt x="19244" y="9035"/>
                  <a:pt x="19248" y="9153"/>
                </a:cubicBezTo>
                <a:cubicBezTo>
                  <a:pt x="19251" y="9257"/>
                  <a:pt x="19330" y="9321"/>
                  <a:pt x="19372" y="9401"/>
                </a:cubicBezTo>
                <a:cubicBezTo>
                  <a:pt x="19414" y="9482"/>
                  <a:pt x="19438" y="9569"/>
                  <a:pt x="19521" y="9624"/>
                </a:cubicBezTo>
                <a:cubicBezTo>
                  <a:pt x="19592" y="9671"/>
                  <a:pt x="19624" y="9716"/>
                  <a:pt x="19720" y="9699"/>
                </a:cubicBezTo>
                <a:cubicBezTo>
                  <a:pt x="19798" y="9685"/>
                  <a:pt x="19837" y="9648"/>
                  <a:pt x="19893" y="9599"/>
                </a:cubicBezTo>
                <a:cubicBezTo>
                  <a:pt x="19956" y="9544"/>
                  <a:pt x="19988" y="9482"/>
                  <a:pt x="19993" y="9401"/>
                </a:cubicBezTo>
                <a:cubicBezTo>
                  <a:pt x="19997" y="9327"/>
                  <a:pt x="19958" y="9227"/>
                  <a:pt x="19869" y="9227"/>
                </a:cubicBezTo>
                <a:cubicBezTo>
                  <a:pt x="19815" y="9227"/>
                  <a:pt x="19737" y="9296"/>
                  <a:pt x="19695" y="9327"/>
                </a:cubicBezTo>
                <a:cubicBezTo>
                  <a:pt x="19633" y="9373"/>
                  <a:pt x="19645" y="9458"/>
                  <a:pt x="19645" y="9525"/>
                </a:cubicBezTo>
                <a:cubicBezTo>
                  <a:pt x="19645" y="9567"/>
                  <a:pt x="19645" y="9592"/>
                  <a:pt x="19645" y="95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9"/>
          <p:cNvSpPr/>
          <p:nvPr/>
        </p:nvSpPr>
        <p:spPr>
          <a:xfrm>
            <a:off x="6037200" y="3786120"/>
            <a:ext cx="33984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16966" y="10988"/>
                </a:moveTo>
                <a:cubicBezTo>
                  <a:pt x="16974" y="10980"/>
                  <a:pt x="16983" y="10972"/>
                  <a:pt x="16991" y="10964"/>
                </a:cubicBezTo>
              </a:path>
              <a:path w="944" h="696">
                <a:moveTo>
                  <a:pt x="16867" y="10889"/>
                </a:moveTo>
                <a:cubicBezTo>
                  <a:pt x="16937" y="10899"/>
                  <a:pt x="16951" y="10930"/>
                  <a:pt x="17016" y="10964"/>
                </a:cubicBezTo>
                <a:cubicBezTo>
                  <a:pt x="17062" y="10988"/>
                  <a:pt x="17080" y="11002"/>
                  <a:pt x="17115" y="11038"/>
                </a:cubicBezTo>
              </a:path>
              <a:path w="944" h="696">
                <a:moveTo>
                  <a:pt x="17041" y="10914"/>
                </a:moveTo>
                <a:cubicBezTo>
                  <a:pt x="17041" y="10897"/>
                  <a:pt x="17041" y="10881"/>
                  <a:pt x="17041" y="10864"/>
                </a:cubicBezTo>
                <a:cubicBezTo>
                  <a:pt x="17071" y="10924"/>
                  <a:pt x="17027" y="10908"/>
                  <a:pt x="16991" y="10964"/>
                </a:cubicBezTo>
                <a:cubicBezTo>
                  <a:pt x="16954" y="11021"/>
                  <a:pt x="16934" y="11085"/>
                  <a:pt x="16892" y="11137"/>
                </a:cubicBezTo>
                <a:cubicBezTo>
                  <a:pt x="16852" y="11186"/>
                  <a:pt x="16830" y="11187"/>
                  <a:pt x="16768" y="11212"/>
                </a:cubicBezTo>
              </a:path>
              <a:path w="944" h="696">
                <a:moveTo>
                  <a:pt x="17090" y="10616"/>
                </a:moveTo>
                <a:cubicBezTo>
                  <a:pt x="17145" y="10538"/>
                  <a:pt x="17166" y="10482"/>
                  <a:pt x="17264" y="10542"/>
                </a:cubicBezTo>
                <a:cubicBezTo>
                  <a:pt x="17311" y="10571"/>
                  <a:pt x="17368" y="10607"/>
                  <a:pt x="17413" y="10641"/>
                </a:cubicBezTo>
                <a:cubicBezTo>
                  <a:pt x="17468" y="10682"/>
                  <a:pt x="17497" y="10776"/>
                  <a:pt x="17487" y="10840"/>
                </a:cubicBezTo>
                <a:cubicBezTo>
                  <a:pt x="17470" y="10949"/>
                  <a:pt x="17372" y="11009"/>
                  <a:pt x="17264" y="10988"/>
                </a:cubicBezTo>
                <a:cubicBezTo>
                  <a:pt x="17170" y="10970"/>
                  <a:pt x="17208" y="10876"/>
                  <a:pt x="17264" y="10840"/>
                </a:cubicBezTo>
                <a:cubicBezTo>
                  <a:pt x="17356" y="10782"/>
                  <a:pt x="17459" y="10790"/>
                  <a:pt x="17562" y="10790"/>
                </a:cubicBezTo>
                <a:cubicBezTo>
                  <a:pt x="17632" y="10790"/>
                  <a:pt x="17658" y="10783"/>
                  <a:pt x="17711" y="108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10"/>
          <p:cNvSpPr/>
          <p:nvPr/>
        </p:nvSpPr>
        <p:spPr>
          <a:xfrm>
            <a:off x="5875200" y="3500280"/>
            <a:ext cx="1349640" cy="973440"/>
          </a:xfrm>
          <a:custGeom>
            <a:avLst/>
            <a:gdLst/>
            <a:ahLst/>
            <a:rect l="l" t="t" r="r" b="b"/>
            <a:pathLst>
              <a:path w="3747" h="2705">
                <a:moveTo>
                  <a:pt x="19298" y="10195"/>
                </a:moveTo>
                <a:cubicBezTo>
                  <a:pt x="19256" y="10236"/>
                  <a:pt x="19233" y="10273"/>
                  <a:pt x="19199" y="10319"/>
                </a:cubicBezTo>
                <a:cubicBezTo>
                  <a:pt x="19167" y="10362"/>
                  <a:pt x="19139" y="10404"/>
                  <a:pt x="19100" y="10443"/>
                </a:cubicBezTo>
                <a:cubicBezTo>
                  <a:pt x="19070" y="10473"/>
                  <a:pt x="19056" y="10484"/>
                  <a:pt x="19025" y="10492"/>
                </a:cubicBezTo>
              </a:path>
              <a:path w="3747" h="2705">
                <a:moveTo>
                  <a:pt x="18926" y="10096"/>
                </a:moveTo>
                <a:cubicBezTo>
                  <a:pt x="18974" y="10142"/>
                  <a:pt x="18988" y="10190"/>
                  <a:pt x="19025" y="10244"/>
                </a:cubicBezTo>
                <a:cubicBezTo>
                  <a:pt x="19069" y="10307"/>
                  <a:pt x="19141" y="10349"/>
                  <a:pt x="19199" y="10393"/>
                </a:cubicBezTo>
                <a:cubicBezTo>
                  <a:pt x="19232" y="10418"/>
                  <a:pt x="19247" y="10460"/>
                  <a:pt x="19273" y="10492"/>
                </a:cubicBezTo>
              </a:path>
              <a:path w="3747" h="2705">
                <a:moveTo>
                  <a:pt x="19521" y="9847"/>
                </a:moveTo>
                <a:cubicBezTo>
                  <a:pt x="19566" y="9804"/>
                  <a:pt x="19626" y="9707"/>
                  <a:pt x="19695" y="9723"/>
                </a:cubicBezTo>
                <a:cubicBezTo>
                  <a:pt x="19753" y="9737"/>
                  <a:pt x="19797" y="9796"/>
                  <a:pt x="19819" y="9847"/>
                </a:cubicBezTo>
                <a:cubicBezTo>
                  <a:pt x="19863" y="9946"/>
                  <a:pt x="19938" y="10081"/>
                  <a:pt x="19918" y="10195"/>
                </a:cubicBezTo>
                <a:cubicBezTo>
                  <a:pt x="19912" y="10227"/>
                  <a:pt x="19859" y="10336"/>
                  <a:pt x="19819" y="10344"/>
                </a:cubicBezTo>
                <a:cubicBezTo>
                  <a:pt x="19714" y="10366"/>
                  <a:pt x="19665" y="10338"/>
                  <a:pt x="19596" y="10269"/>
                </a:cubicBezTo>
                <a:cubicBezTo>
                  <a:pt x="19640" y="10208"/>
                  <a:pt x="19684" y="10171"/>
                  <a:pt x="19769" y="10195"/>
                </a:cubicBezTo>
                <a:cubicBezTo>
                  <a:pt x="19837" y="10214"/>
                  <a:pt x="19942" y="10228"/>
                  <a:pt x="19993" y="10269"/>
                </a:cubicBezTo>
                <a:cubicBezTo>
                  <a:pt x="20019" y="10291"/>
                  <a:pt x="20043" y="10320"/>
                  <a:pt x="20067" y="10344"/>
                </a:cubicBezTo>
              </a:path>
              <a:path w="3747" h="2705">
                <a:moveTo>
                  <a:pt x="16520" y="12030"/>
                </a:moveTo>
                <a:cubicBezTo>
                  <a:pt x="16570" y="11980"/>
                  <a:pt x="16620" y="11967"/>
                  <a:pt x="16694" y="11956"/>
                </a:cubicBezTo>
                <a:cubicBezTo>
                  <a:pt x="16864" y="11931"/>
                  <a:pt x="17055" y="11961"/>
                  <a:pt x="17214" y="11931"/>
                </a:cubicBezTo>
                <a:cubicBezTo>
                  <a:pt x="17231" y="11931"/>
                  <a:pt x="17247" y="11931"/>
                  <a:pt x="17264" y="11931"/>
                </a:cubicBezTo>
                <a:cubicBezTo>
                  <a:pt x="17214" y="11961"/>
                  <a:pt x="17165" y="11957"/>
                  <a:pt x="17115" y="11981"/>
                </a:cubicBezTo>
                <a:cubicBezTo>
                  <a:pt x="17032" y="12021"/>
                  <a:pt x="16958" y="12052"/>
                  <a:pt x="16867" y="12080"/>
                </a:cubicBezTo>
                <a:cubicBezTo>
                  <a:pt x="16783" y="12106"/>
                  <a:pt x="16705" y="12162"/>
                  <a:pt x="16619" y="12179"/>
                </a:cubicBezTo>
                <a:cubicBezTo>
                  <a:pt x="16562" y="12190"/>
                  <a:pt x="16503" y="12210"/>
                  <a:pt x="16446" y="12229"/>
                </a:cubicBezTo>
                <a:cubicBezTo>
                  <a:pt x="16398" y="12245"/>
                  <a:pt x="16361" y="12255"/>
                  <a:pt x="16321" y="12278"/>
                </a:cubicBezTo>
                <a:cubicBezTo>
                  <a:pt x="16474" y="12278"/>
                  <a:pt x="16622" y="12280"/>
                  <a:pt x="16768" y="12303"/>
                </a:cubicBezTo>
                <a:cubicBezTo>
                  <a:pt x="16891" y="12322"/>
                  <a:pt x="16990" y="12315"/>
                  <a:pt x="17115" y="12353"/>
                </a:cubicBezTo>
                <a:cubicBezTo>
                  <a:pt x="17184" y="12374"/>
                  <a:pt x="17267" y="12415"/>
                  <a:pt x="17338" y="12427"/>
                </a:cubicBezTo>
                <a:cubicBezTo>
                  <a:pt x="17404" y="12427"/>
                  <a:pt x="17421" y="12427"/>
                  <a:pt x="17462" y="12427"/>
                </a:cubicBezTo>
              </a:path>
              <a:path w="3747" h="2705">
                <a:moveTo>
                  <a:pt x="17512" y="11807"/>
                </a:moveTo>
                <a:cubicBezTo>
                  <a:pt x="17601" y="11807"/>
                  <a:pt x="17678" y="11821"/>
                  <a:pt x="17760" y="11832"/>
                </a:cubicBezTo>
                <a:cubicBezTo>
                  <a:pt x="17835" y="11832"/>
                  <a:pt x="17859" y="11832"/>
                  <a:pt x="17909" y="11832"/>
                </a:cubicBezTo>
              </a:path>
              <a:path w="3747" h="2705">
                <a:moveTo>
                  <a:pt x="17636" y="11906"/>
                </a:moveTo>
                <a:cubicBezTo>
                  <a:pt x="17725" y="11893"/>
                  <a:pt x="17736" y="11892"/>
                  <a:pt x="17835" y="11906"/>
                </a:cubicBezTo>
                <a:cubicBezTo>
                  <a:pt x="17851" y="11906"/>
                  <a:pt x="17868" y="11906"/>
                  <a:pt x="17884" y="11906"/>
                </a:cubicBezTo>
              </a:path>
              <a:path w="3747" h="2705">
                <a:moveTo>
                  <a:pt x="18529" y="11261"/>
                </a:moveTo>
                <a:cubicBezTo>
                  <a:pt x="18529" y="11541"/>
                  <a:pt x="18601" y="11946"/>
                  <a:pt x="18504" y="12204"/>
                </a:cubicBezTo>
              </a:path>
              <a:path w="3747" h="2705">
                <a:moveTo>
                  <a:pt x="18653" y="11137"/>
                </a:moveTo>
                <a:cubicBezTo>
                  <a:pt x="18678" y="11074"/>
                  <a:pt x="18700" y="11006"/>
                  <a:pt x="18777" y="10988"/>
                </a:cubicBezTo>
                <a:cubicBezTo>
                  <a:pt x="18850" y="10971"/>
                  <a:pt x="18940" y="10999"/>
                  <a:pt x="19000" y="11038"/>
                </a:cubicBezTo>
                <a:cubicBezTo>
                  <a:pt x="19049" y="11070"/>
                  <a:pt x="19138" y="11145"/>
                  <a:pt x="19174" y="11187"/>
                </a:cubicBezTo>
                <a:cubicBezTo>
                  <a:pt x="19209" y="11228"/>
                  <a:pt x="19242" y="11340"/>
                  <a:pt x="19248" y="11385"/>
                </a:cubicBezTo>
                <a:cubicBezTo>
                  <a:pt x="19261" y="11473"/>
                  <a:pt x="19245" y="11601"/>
                  <a:pt x="19224" y="11683"/>
                </a:cubicBezTo>
                <a:cubicBezTo>
                  <a:pt x="19198" y="11781"/>
                  <a:pt x="19119" y="11846"/>
                  <a:pt x="19050" y="11906"/>
                </a:cubicBezTo>
                <a:cubicBezTo>
                  <a:pt x="18997" y="11952"/>
                  <a:pt x="18882" y="11932"/>
                  <a:pt x="18852" y="11857"/>
                </a:cubicBezTo>
                <a:cubicBezTo>
                  <a:pt x="18835" y="11815"/>
                  <a:pt x="18861" y="11670"/>
                  <a:pt x="18876" y="11633"/>
                </a:cubicBezTo>
                <a:cubicBezTo>
                  <a:pt x="18894" y="11588"/>
                  <a:pt x="18967" y="11559"/>
                  <a:pt x="19000" y="11534"/>
                </a:cubicBezTo>
                <a:cubicBezTo>
                  <a:pt x="19060" y="11489"/>
                  <a:pt x="19068" y="11485"/>
                  <a:pt x="19149" y="11485"/>
                </a:cubicBezTo>
                <a:cubicBezTo>
                  <a:pt x="19207" y="11485"/>
                  <a:pt x="19275" y="11510"/>
                  <a:pt x="19323" y="11534"/>
                </a:cubicBezTo>
                <a:cubicBezTo>
                  <a:pt x="19371" y="11558"/>
                  <a:pt x="19425" y="11609"/>
                  <a:pt x="19447" y="11658"/>
                </a:cubicBezTo>
                <a:cubicBezTo>
                  <a:pt x="19455" y="11683"/>
                  <a:pt x="19464" y="11708"/>
                  <a:pt x="19472" y="117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11"/>
          <p:cNvSpPr/>
          <p:nvPr/>
        </p:nvSpPr>
        <p:spPr>
          <a:xfrm>
            <a:off x="7661160" y="2367000"/>
            <a:ext cx="509760" cy="330120"/>
          </a:xfrm>
          <a:custGeom>
            <a:avLst/>
            <a:gdLst/>
            <a:ahLst/>
            <a:rect l="l" t="t" r="r" b="b"/>
            <a:pathLst>
              <a:path w="1415" h="919">
                <a:moveTo>
                  <a:pt x="21282" y="6921"/>
                </a:moveTo>
                <a:cubicBezTo>
                  <a:pt x="21357" y="6928"/>
                  <a:pt x="21402" y="6945"/>
                  <a:pt x="21481" y="6945"/>
                </a:cubicBezTo>
              </a:path>
              <a:path w="1415" h="919">
                <a:moveTo>
                  <a:pt x="22498" y="6697"/>
                </a:moveTo>
                <a:cubicBezTo>
                  <a:pt x="22488" y="6628"/>
                  <a:pt x="22453" y="6591"/>
                  <a:pt x="22374" y="6573"/>
                </a:cubicBezTo>
                <a:cubicBezTo>
                  <a:pt x="22284" y="6553"/>
                  <a:pt x="22210" y="6608"/>
                  <a:pt x="22126" y="6623"/>
                </a:cubicBezTo>
                <a:cubicBezTo>
                  <a:pt x="22049" y="6637"/>
                  <a:pt x="22037" y="6672"/>
                  <a:pt x="22027" y="6747"/>
                </a:cubicBezTo>
                <a:cubicBezTo>
                  <a:pt x="22069" y="6790"/>
                  <a:pt x="22115" y="6811"/>
                  <a:pt x="22175" y="6821"/>
                </a:cubicBezTo>
                <a:cubicBezTo>
                  <a:pt x="22281" y="6839"/>
                  <a:pt x="22335" y="6866"/>
                  <a:pt x="22423" y="6921"/>
                </a:cubicBezTo>
                <a:cubicBezTo>
                  <a:pt x="22534" y="6990"/>
                  <a:pt x="22588" y="7004"/>
                  <a:pt x="22647" y="7144"/>
                </a:cubicBezTo>
                <a:cubicBezTo>
                  <a:pt x="22685" y="7235"/>
                  <a:pt x="22710" y="7302"/>
                  <a:pt x="22671" y="7392"/>
                </a:cubicBezTo>
                <a:cubicBezTo>
                  <a:pt x="22648" y="7443"/>
                  <a:pt x="22613" y="7507"/>
                  <a:pt x="22547" y="7491"/>
                </a:cubicBezTo>
                <a:cubicBezTo>
                  <a:pt x="22470" y="7473"/>
                  <a:pt x="22431" y="7444"/>
                  <a:pt x="22374" y="7392"/>
                </a:cubicBezTo>
                <a:cubicBezTo>
                  <a:pt x="22317" y="7340"/>
                  <a:pt x="22243" y="7227"/>
                  <a:pt x="22250" y="7144"/>
                </a:cubicBezTo>
                <a:cubicBezTo>
                  <a:pt x="22261" y="7018"/>
                  <a:pt x="22283" y="6924"/>
                  <a:pt x="22349" y="6821"/>
                </a:cubicBezTo>
                <a:cubicBezTo>
                  <a:pt x="22372" y="6785"/>
                  <a:pt x="22439" y="6671"/>
                  <a:pt x="22473" y="6648"/>
                </a:cubicBezTo>
                <a:cubicBezTo>
                  <a:pt x="22540" y="6625"/>
                  <a:pt x="22558" y="6620"/>
                  <a:pt x="22597" y="65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12"/>
          <p:cNvSpPr/>
          <p:nvPr/>
        </p:nvSpPr>
        <p:spPr>
          <a:xfrm>
            <a:off x="6143760" y="4795920"/>
            <a:ext cx="1197000" cy="527040"/>
          </a:xfrm>
          <a:custGeom>
            <a:avLst/>
            <a:gdLst/>
            <a:ahLst/>
            <a:rect l="l" t="t" r="r" b="b"/>
            <a:pathLst>
              <a:path w="3324" h="1465">
                <a:moveTo>
                  <a:pt x="17512" y="13395"/>
                </a:moveTo>
                <a:cubicBezTo>
                  <a:pt x="17598" y="13407"/>
                  <a:pt x="17596" y="13440"/>
                  <a:pt x="17636" y="13519"/>
                </a:cubicBezTo>
                <a:cubicBezTo>
                  <a:pt x="17674" y="13594"/>
                  <a:pt x="17701" y="13687"/>
                  <a:pt x="17711" y="13767"/>
                </a:cubicBezTo>
                <a:cubicBezTo>
                  <a:pt x="17728" y="13904"/>
                  <a:pt x="17715" y="14024"/>
                  <a:pt x="17711" y="14163"/>
                </a:cubicBezTo>
                <a:cubicBezTo>
                  <a:pt x="17708" y="14241"/>
                  <a:pt x="17650" y="14378"/>
                  <a:pt x="17587" y="14436"/>
                </a:cubicBezTo>
                <a:cubicBezTo>
                  <a:pt x="17546" y="14474"/>
                  <a:pt x="17411" y="14478"/>
                  <a:pt x="17363" y="14461"/>
                </a:cubicBezTo>
                <a:cubicBezTo>
                  <a:pt x="17308" y="14441"/>
                  <a:pt x="17206" y="14384"/>
                  <a:pt x="17165" y="14337"/>
                </a:cubicBezTo>
                <a:cubicBezTo>
                  <a:pt x="17120" y="14285"/>
                  <a:pt x="17091" y="14197"/>
                  <a:pt x="17066" y="14139"/>
                </a:cubicBezTo>
              </a:path>
              <a:path w="3324" h="1465">
                <a:moveTo>
                  <a:pt x="17760" y="13320"/>
                </a:moveTo>
                <a:cubicBezTo>
                  <a:pt x="17690" y="13329"/>
                  <a:pt x="17629" y="13359"/>
                  <a:pt x="17562" y="13370"/>
                </a:cubicBezTo>
                <a:cubicBezTo>
                  <a:pt x="17471" y="13385"/>
                  <a:pt x="17374" y="13414"/>
                  <a:pt x="17289" y="13419"/>
                </a:cubicBezTo>
                <a:cubicBezTo>
                  <a:pt x="17240" y="13422"/>
                  <a:pt x="17189" y="13419"/>
                  <a:pt x="17140" y="13419"/>
                </a:cubicBezTo>
              </a:path>
              <a:path w="3324" h="1465">
                <a:moveTo>
                  <a:pt x="18306" y="14064"/>
                </a:moveTo>
                <a:cubicBezTo>
                  <a:pt x="18291" y="14007"/>
                  <a:pt x="18253" y="13971"/>
                  <a:pt x="18182" y="13990"/>
                </a:cubicBezTo>
                <a:cubicBezTo>
                  <a:pt x="18157" y="14015"/>
                  <a:pt x="18149" y="14023"/>
                  <a:pt x="18132" y="14039"/>
                </a:cubicBezTo>
              </a:path>
              <a:path w="3324" h="1465">
                <a:moveTo>
                  <a:pt x="18008" y="14114"/>
                </a:moveTo>
                <a:cubicBezTo>
                  <a:pt x="17991" y="14197"/>
                  <a:pt x="17947" y="14282"/>
                  <a:pt x="18033" y="14337"/>
                </a:cubicBezTo>
                <a:cubicBezTo>
                  <a:pt x="18076" y="14364"/>
                  <a:pt x="18097" y="14377"/>
                  <a:pt x="18132" y="14412"/>
                </a:cubicBezTo>
                <a:cubicBezTo>
                  <a:pt x="18193" y="14363"/>
                  <a:pt x="18241" y="14335"/>
                  <a:pt x="18281" y="14263"/>
                </a:cubicBezTo>
                <a:cubicBezTo>
                  <a:pt x="18313" y="14206"/>
                  <a:pt x="18344" y="14120"/>
                  <a:pt x="18355" y="14064"/>
                </a:cubicBezTo>
                <a:cubicBezTo>
                  <a:pt x="18368" y="13995"/>
                  <a:pt x="18339" y="13932"/>
                  <a:pt x="18331" y="13866"/>
                </a:cubicBezTo>
                <a:cubicBezTo>
                  <a:pt x="18307" y="13937"/>
                  <a:pt x="18343" y="13987"/>
                  <a:pt x="18355" y="14064"/>
                </a:cubicBezTo>
                <a:cubicBezTo>
                  <a:pt x="18371" y="14166"/>
                  <a:pt x="18381" y="14287"/>
                  <a:pt x="18405" y="14387"/>
                </a:cubicBezTo>
                <a:cubicBezTo>
                  <a:pt x="18419" y="14445"/>
                  <a:pt x="18430" y="14473"/>
                  <a:pt x="18430" y="14536"/>
                </a:cubicBezTo>
              </a:path>
              <a:path w="3324" h="1465">
                <a:moveTo>
                  <a:pt x="19124" y="14511"/>
                </a:moveTo>
                <a:cubicBezTo>
                  <a:pt x="19173" y="14449"/>
                  <a:pt x="19174" y="14415"/>
                  <a:pt x="19174" y="14337"/>
                </a:cubicBezTo>
                <a:cubicBezTo>
                  <a:pt x="19174" y="14231"/>
                  <a:pt x="19192" y="14149"/>
                  <a:pt x="19124" y="14064"/>
                </a:cubicBezTo>
                <a:cubicBezTo>
                  <a:pt x="19047" y="14086"/>
                  <a:pt x="19056" y="14125"/>
                  <a:pt x="19000" y="14188"/>
                </a:cubicBezTo>
                <a:cubicBezTo>
                  <a:pt x="18976" y="14213"/>
                  <a:pt x="18968" y="14222"/>
                  <a:pt x="18951" y="14238"/>
                </a:cubicBezTo>
                <a:cubicBezTo>
                  <a:pt x="18923" y="14191"/>
                  <a:pt x="18904" y="14146"/>
                  <a:pt x="18901" y="14089"/>
                </a:cubicBezTo>
                <a:cubicBezTo>
                  <a:pt x="18896" y="14006"/>
                  <a:pt x="18889" y="13967"/>
                  <a:pt x="18852" y="13891"/>
                </a:cubicBezTo>
                <a:cubicBezTo>
                  <a:pt x="18776" y="13950"/>
                  <a:pt x="18769" y="13948"/>
                  <a:pt x="18728" y="14039"/>
                </a:cubicBezTo>
                <a:cubicBezTo>
                  <a:pt x="18698" y="14106"/>
                  <a:pt x="18671" y="14236"/>
                  <a:pt x="18628" y="14288"/>
                </a:cubicBezTo>
                <a:cubicBezTo>
                  <a:pt x="18592" y="14331"/>
                  <a:pt x="18543" y="14326"/>
                  <a:pt x="18529" y="14312"/>
                </a:cubicBezTo>
              </a:path>
              <a:path w="3324" h="1465">
                <a:moveTo>
                  <a:pt x="19248" y="14213"/>
                </a:moveTo>
                <a:cubicBezTo>
                  <a:pt x="19322" y="14273"/>
                  <a:pt x="19345" y="14253"/>
                  <a:pt x="19422" y="14238"/>
                </a:cubicBezTo>
                <a:cubicBezTo>
                  <a:pt x="19439" y="14238"/>
                  <a:pt x="19455" y="14238"/>
                  <a:pt x="19472" y="14238"/>
                </a:cubicBezTo>
              </a:path>
              <a:path w="3324" h="1465">
                <a:moveTo>
                  <a:pt x="19794" y="14064"/>
                </a:moveTo>
                <a:cubicBezTo>
                  <a:pt x="19769" y="14007"/>
                  <a:pt x="19707" y="13957"/>
                  <a:pt x="19621" y="13990"/>
                </a:cubicBezTo>
                <a:cubicBezTo>
                  <a:pt x="19558" y="14015"/>
                  <a:pt x="19471" y="14096"/>
                  <a:pt x="19447" y="14163"/>
                </a:cubicBezTo>
                <a:cubicBezTo>
                  <a:pt x="19407" y="14274"/>
                  <a:pt x="19387" y="14397"/>
                  <a:pt x="19372" y="14511"/>
                </a:cubicBezTo>
                <a:cubicBezTo>
                  <a:pt x="19361" y="14593"/>
                  <a:pt x="19412" y="14610"/>
                  <a:pt x="19472" y="14585"/>
                </a:cubicBezTo>
                <a:cubicBezTo>
                  <a:pt x="19585" y="14538"/>
                  <a:pt x="19661" y="14446"/>
                  <a:pt x="19745" y="14362"/>
                </a:cubicBezTo>
              </a:path>
              <a:path w="3324" h="1465">
                <a:moveTo>
                  <a:pt x="20389" y="13891"/>
                </a:moveTo>
                <a:cubicBezTo>
                  <a:pt x="20343" y="13891"/>
                  <a:pt x="20224" y="13887"/>
                  <a:pt x="20191" y="13915"/>
                </a:cubicBezTo>
                <a:cubicBezTo>
                  <a:pt x="20127" y="13969"/>
                  <a:pt x="20182" y="14080"/>
                  <a:pt x="20191" y="14139"/>
                </a:cubicBezTo>
                <a:cubicBezTo>
                  <a:pt x="20201" y="14211"/>
                  <a:pt x="20224" y="14272"/>
                  <a:pt x="20241" y="14337"/>
                </a:cubicBezTo>
                <a:cubicBezTo>
                  <a:pt x="20266" y="14433"/>
                  <a:pt x="20309" y="14470"/>
                  <a:pt x="20265" y="14560"/>
                </a:cubicBezTo>
                <a:cubicBezTo>
                  <a:pt x="20223" y="14646"/>
                  <a:pt x="20179" y="14678"/>
                  <a:pt x="20092" y="14709"/>
                </a:cubicBezTo>
                <a:cubicBezTo>
                  <a:pt x="19972" y="14752"/>
                  <a:pt x="19871" y="14784"/>
                  <a:pt x="19745" y="14784"/>
                </a:cubicBezTo>
              </a:path>
              <a:path w="3324" h="1465">
                <a:moveTo>
                  <a:pt x="19422" y="14089"/>
                </a:moveTo>
                <a:cubicBezTo>
                  <a:pt x="19484" y="14112"/>
                  <a:pt x="19537" y="14119"/>
                  <a:pt x="19596" y="14089"/>
                </a:cubicBezTo>
                <a:cubicBezTo>
                  <a:pt x="19644" y="14065"/>
                  <a:pt x="19657" y="14032"/>
                  <a:pt x="19695" y="13990"/>
                </a:cubicBezTo>
                <a:cubicBezTo>
                  <a:pt x="19723" y="13958"/>
                  <a:pt x="19761" y="13941"/>
                  <a:pt x="19794" y="13915"/>
                </a:cubicBezTo>
                <a:cubicBezTo>
                  <a:pt x="19737" y="13859"/>
                  <a:pt x="19687" y="13869"/>
                  <a:pt x="19621" y="13841"/>
                </a:cubicBezTo>
                <a:cubicBezTo>
                  <a:pt x="19613" y="13833"/>
                  <a:pt x="19604" y="13824"/>
                  <a:pt x="19596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stributive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eorgia"/>
              </a:rPr>
              <a:t>3(2a + 5) = 57</a:t>
            </a:r>
            <a:endParaRPr b="0" lang="en-US" sz="6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Ink 4"/>
          <p:cNvSpPr/>
          <p:nvPr/>
        </p:nvSpPr>
        <p:spPr>
          <a:xfrm>
            <a:off x="884160" y="2544840"/>
            <a:ext cx="1562040" cy="554040"/>
          </a:xfrm>
          <a:custGeom>
            <a:avLst/>
            <a:gdLst/>
            <a:ahLst/>
            <a:rect l="l" t="t" r="r" b="b"/>
            <a:pathLst>
              <a:path w="4341" h="1539">
                <a:moveTo>
                  <a:pt x="2629" y="7441"/>
                </a:moveTo>
                <a:cubicBezTo>
                  <a:pt x="2589" y="7432"/>
                  <a:pt x="2542" y="7494"/>
                  <a:pt x="2530" y="7565"/>
                </a:cubicBezTo>
                <a:cubicBezTo>
                  <a:pt x="2511" y="7671"/>
                  <a:pt x="2498" y="7780"/>
                  <a:pt x="2480" y="7888"/>
                </a:cubicBezTo>
                <a:cubicBezTo>
                  <a:pt x="2454" y="8048"/>
                  <a:pt x="2462" y="8177"/>
                  <a:pt x="2480" y="8334"/>
                </a:cubicBezTo>
                <a:cubicBezTo>
                  <a:pt x="2491" y="8432"/>
                  <a:pt x="2519" y="8497"/>
                  <a:pt x="2604" y="8558"/>
                </a:cubicBezTo>
                <a:cubicBezTo>
                  <a:pt x="2683" y="8614"/>
                  <a:pt x="2761" y="8607"/>
                  <a:pt x="2853" y="8607"/>
                </a:cubicBezTo>
                <a:cubicBezTo>
                  <a:pt x="2942" y="8607"/>
                  <a:pt x="3025" y="8579"/>
                  <a:pt x="3101" y="8533"/>
                </a:cubicBezTo>
                <a:cubicBezTo>
                  <a:pt x="3197" y="8474"/>
                  <a:pt x="3275" y="8361"/>
                  <a:pt x="3324" y="8260"/>
                </a:cubicBezTo>
                <a:cubicBezTo>
                  <a:pt x="3364" y="8179"/>
                  <a:pt x="3358" y="8092"/>
                  <a:pt x="3324" y="8012"/>
                </a:cubicBezTo>
                <a:cubicBezTo>
                  <a:pt x="3311" y="7981"/>
                  <a:pt x="3257" y="7874"/>
                  <a:pt x="3225" y="7863"/>
                </a:cubicBezTo>
                <a:cubicBezTo>
                  <a:pt x="3162" y="7840"/>
                  <a:pt x="3087" y="7825"/>
                  <a:pt x="3026" y="7863"/>
                </a:cubicBezTo>
                <a:cubicBezTo>
                  <a:pt x="2958" y="7905"/>
                  <a:pt x="2891" y="7931"/>
                  <a:pt x="2853" y="8012"/>
                </a:cubicBezTo>
                <a:cubicBezTo>
                  <a:pt x="2814" y="8093"/>
                  <a:pt x="2780" y="8195"/>
                  <a:pt x="2803" y="8285"/>
                </a:cubicBezTo>
                <a:cubicBezTo>
                  <a:pt x="2828" y="8385"/>
                  <a:pt x="2890" y="8402"/>
                  <a:pt x="2977" y="8434"/>
                </a:cubicBezTo>
              </a:path>
              <a:path w="4341" h="1539">
                <a:moveTo>
                  <a:pt x="3820" y="7838"/>
                </a:moveTo>
                <a:cubicBezTo>
                  <a:pt x="3810" y="7759"/>
                  <a:pt x="3807" y="7718"/>
                  <a:pt x="3721" y="7714"/>
                </a:cubicBezTo>
                <a:cubicBezTo>
                  <a:pt x="3628" y="7710"/>
                  <a:pt x="3563" y="7775"/>
                  <a:pt x="3497" y="7838"/>
                </a:cubicBezTo>
                <a:cubicBezTo>
                  <a:pt x="3420" y="7911"/>
                  <a:pt x="3383" y="7988"/>
                  <a:pt x="3349" y="8086"/>
                </a:cubicBezTo>
                <a:cubicBezTo>
                  <a:pt x="3328" y="8147"/>
                  <a:pt x="3305" y="8243"/>
                  <a:pt x="3324" y="8310"/>
                </a:cubicBezTo>
                <a:cubicBezTo>
                  <a:pt x="3349" y="8400"/>
                  <a:pt x="3418" y="8405"/>
                  <a:pt x="3497" y="8409"/>
                </a:cubicBezTo>
                <a:cubicBezTo>
                  <a:pt x="3608" y="8414"/>
                  <a:pt x="3667" y="8320"/>
                  <a:pt x="3721" y="8235"/>
                </a:cubicBezTo>
                <a:cubicBezTo>
                  <a:pt x="3765" y="8166"/>
                  <a:pt x="3801" y="8117"/>
                  <a:pt x="3820" y="8037"/>
                </a:cubicBezTo>
                <a:cubicBezTo>
                  <a:pt x="3834" y="7979"/>
                  <a:pt x="3845" y="7803"/>
                  <a:pt x="3845" y="7863"/>
                </a:cubicBezTo>
                <a:cubicBezTo>
                  <a:pt x="3845" y="7975"/>
                  <a:pt x="3821" y="8117"/>
                  <a:pt x="3870" y="8210"/>
                </a:cubicBezTo>
                <a:cubicBezTo>
                  <a:pt x="3905" y="8276"/>
                  <a:pt x="3946" y="8328"/>
                  <a:pt x="4018" y="8359"/>
                </a:cubicBezTo>
                <a:cubicBezTo>
                  <a:pt x="4108" y="8398"/>
                  <a:pt x="4153" y="8381"/>
                  <a:pt x="4242" y="8359"/>
                </a:cubicBezTo>
              </a:path>
              <a:path w="4341" h="1539">
                <a:moveTo>
                  <a:pt x="4638" y="7342"/>
                </a:moveTo>
                <a:cubicBezTo>
                  <a:pt x="4667" y="7413"/>
                  <a:pt x="4690" y="7472"/>
                  <a:pt x="4713" y="7541"/>
                </a:cubicBezTo>
                <a:cubicBezTo>
                  <a:pt x="4741" y="7625"/>
                  <a:pt x="4772" y="7722"/>
                  <a:pt x="4787" y="7813"/>
                </a:cubicBezTo>
                <a:cubicBezTo>
                  <a:pt x="4798" y="7880"/>
                  <a:pt x="4796" y="7960"/>
                  <a:pt x="4837" y="8012"/>
                </a:cubicBezTo>
                <a:cubicBezTo>
                  <a:pt x="4856" y="8036"/>
                  <a:pt x="4862" y="8117"/>
                  <a:pt x="4862" y="8062"/>
                </a:cubicBezTo>
              </a:path>
              <a:path w="4341" h="1539">
                <a:moveTo>
                  <a:pt x="4614" y="7764"/>
                </a:moveTo>
                <a:cubicBezTo>
                  <a:pt x="4792" y="7764"/>
                  <a:pt x="4966" y="7760"/>
                  <a:pt x="5135" y="7739"/>
                </a:cubicBezTo>
                <a:cubicBezTo>
                  <a:pt x="5160" y="7739"/>
                  <a:pt x="5184" y="7739"/>
                  <a:pt x="5209" y="7739"/>
                </a:cubicBezTo>
              </a:path>
              <a:path w="4341" h="1539">
                <a:moveTo>
                  <a:pt x="5606" y="7069"/>
                </a:moveTo>
                <a:cubicBezTo>
                  <a:pt x="5639" y="7168"/>
                  <a:pt x="5636" y="7245"/>
                  <a:pt x="5655" y="7342"/>
                </a:cubicBezTo>
                <a:cubicBezTo>
                  <a:pt x="5675" y="7447"/>
                  <a:pt x="5717" y="7559"/>
                  <a:pt x="5730" y="7665"/>
                </a:cubicBezTo>
                <a:cubicBezTo>
                  <a:pt x="5744" y="7781"/>
                  <a:pt x="5765" y="7895"/>
                  <a:pt x="5779" y="8012"/>
                </a:cubicBezTo>
                <a:cubicBezTo>
                  <a:pt x="5779" y="8053"/>
                  <a:pt x="5779" y="8061"/>
                  <a:pt x="5779" y="8086"/>
                </a:cubicBezTo>
              </a:path>
              <a:path w="4341" h="1539">
                <a:moveTo>
                  <a:pt x="6474" y="7094"/>
                </a:moveTo>
                <a:cubicBezTo>
                  <a:pt x="6412" y="7103"/>
                  <a:pt x="6332" y="7128"/>
                  <a:pt x="6276" y="7169"/>
                </a:cubicBezTo>
                <a:cubicBezTo>
                  <a:pt x="6212" y="7215"/>
                  <a:pt x="6186" y="7274"/>
                  <a:pt x="6152" y="7342"/>
                </a:cubicBezTo>
                <a:cubicBezTo>
                  <a:pt x="6130" y="7386"/>
                  <a:pt x="6117" y="7398"/>
                  <a:pt x="6152" y="7417"/>
                </a:cubicBezTo>
                <a:cubicBezTo>
                  <a:pt x="6239" y="7404"/>
                  <a:pt x="6270" y="7347"/>
                  <a:pt x="6375" y="7367"/>
                </a:cubicBezTo>
                <a:cubicBezTo>
                  <a:pt x="6453" y="7382"/>
                  <a:pt x="6556" y="7420"/>
                  <a:pt x="6623" y="7466"/>
                </a:cubicBezTo>
                <a:cubicBezTo>
                  <a:pt x="6695" y="7516"/>
                  <a:pt x="6724" y="7598"/>
                  <a:pt x="6772" y="7665"/>
                </a:cubicBezTo>
                <a:cubicBezTo>
                  <a:pt x="6817" y="7728"/>
                  <a:pt x="6809" y="7863"/>
                  <a:pt x="6772" y="7938"/>
                </a:cubicBezTo>
                <a:cubicBezTo>
                  <a:pt x="6730" y="8023"/>
                  <a:pt x="6590" y="7996"/>
                  <a:pt x="6524" y="8012"/>
                </a:cubicBezTo>
                <a:cubicBezTo>
                  <a:pt x="6466" y="8026"/>
                  <a:pt x="6311" y="8042"/>
                  <a:pt x="6251" y="8012"/>
                </a:cubicBezTo>
                <a:cubicBezTo>
                  <a:pt x="6234" y="7995"/>
                  <a:pt x="6218" y="7979"/>
                  <a:pt x="6201" y="79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5"/>
          <p:cNvSpPr/>
          <p:nvPr/>
        </p:nvSpPr>
        <p:spPr>
          <a:xfrm>
            <a:off x="2803680" y="2500200"/>
            <a:ext cx="1260360" cy="527040"/>
          </a:xfrm>
          <a:custGeom>
            <a:avLst/>
            <a:gdLst/>
            <a:ahLst/>
            <a:rect l="l" t="t" r="r" b="b"/>
            <a:pathLst>
              <a:path w="3498" h="1465">
                <a:moveTo>
                  <a:pt x="7789" y="7491"/>
                </a:moveTo>
                <a:cubicBezTo>
                  <a:pt x="7929" y="7491"/>
                  <a:pt x="8070" y="7491"/>
                  <a:pt x="8210" y="7491"/>
                </a:cubicBezTo>
              </a:path>
              <a:path w="3498" h="1465">
                <a:moveTo>
                  <a:pt x="7863" y="7739"/>
                </a:moveTo>
                <a:cubicBezTo>
                  <a:pt x="7964" y="7800"/>
                  <a:pt x="8021" y="7796"/>
                  <a:pt x="8136" y="7764"/>
                </a:cubicBezTo>
                <a:cubicBezTo>
                  <a:pt x="8222" y="7740"/>
                  <a:pt x="8274" y="7722"/>
                  <a:pt x="8359" y="7714"/>
                </a:cubicBezTo>
              </a:path>
              <a:path w="3498" h="1465">
                <a:moveTo>
                  <a:pt x="9699" y="7094"/>
                </a:moveTo>
                <a:cubicBezTo>
                  <a:pt x="9627" y="7037"/>
                  <a:pt x="9566" y="7024"/>
                  <a:pt x="9475" y="7020"/>
                </a:cubicBezTo>
                <a:cubicBezTo>
                  <a:pt x="9399" y="7017"/>
                  <a:pt x="9346" y="7033"/>
                  <a:pt x="9277" y="7045"/>
                </a:cubicBezTo>
                <a:cubicBezTo>
                  <a:pt x="9196" y="7059"/>
                  <a:pt x="9181" y="7081"/>
                  <a:pt x="9128" y="7144"/>
                </a:cubicBezTo>
                <a:cubicBezTo>
                  <a:pt x="9070" y="7214"/>
                  <a:pt x="9042" y="7329"/>
                  <a:pt x="9029" y="7417"/>
                </a:cubicBezTo>
                <a:cubicBezTo>
                  <a:pt x="9018" y="7491"/>
                  <a:pt x="9015" y="7564"/>
                  <a:pt x="9004" y="7640"/>
                </a:cubicBezTo>
                <a:cubicBezTo>
                  <a:pt x="8989" y="7743"/>
                  <a:pt x="8966" y="7757"/>
                  <a:pt x="8954" y="7838"/>
                </a:cubicBezTo>
                <a:cubicBezTo>
                  <a:pt x="8982" y="7762"/>
                  <a:pt x="8999" y="7721"/>
                  <a:pt x="9054" y="7665"/>
                </a:cubicBezTo>
                <a:cubicBezTo>
                  <a:pt x="9114" y="7605"/>
                  <a:pt x="9197" y="7572"/>
                  <a:pt x="9277" y="7541"/>
                </a:cubicBezTo>
                <a:cubicBezTo>
                  <a:pt x="9376" y="7503"/>
                  <a:pt x="9475" y="7508"/>
                  <a:pt x="9575" y="7541"/>
                </a:cubicBezTo>
                <a:cubicBezTo>
                  <a:pt x="9674" y="7574"/>
                  <a:pt x="9775" y="7616"/>
                  <a:pt x="9823" y="7714"/>
                </a:cubicBezTo>
                <a:cubicBezTo>
                  <a:pt x="9860" y="7789"/>
                  <a:pt x="9908" y="7856"/>
                  <a:pt x="9922" y="7938"/>
                </a:cubicBezTo>
                <a:cubicBezTo>
                  <a:pt x="9938" y="8031"/>
                  <a:pt x="9838" y="8093"/>
                  <a:pt x="9773" y="8136"/>
                </a:cubicBezTo>
                <a:cubicBezTo>
                  <a:pt x="9682" y="8196"/>
                  <a:pt x="9575" y="8196"/>
                  <a:pt x="9475" y="8210"/>
                </a:cubicBezTo>
                <a:cubicBezTo>
                  <a:pt x="9338" y="8229"/>
                  <a:pt x="9212" y="8258"/>
                  <a:pt x="9079" y="8210"/>
                </a:cubicBezTo>
                <a:cubicBezTo>
                  <a:pt x="9062" y="8202"/>
                  <a:pt x="9046" y="8194"/>
                  <a:pt x="9029" y="8186"/>
                </a:cubicBezTo>
              </a:path>
              <a:path w="3498" h="1465">
                <a:moveTo>
                  <a:pt x="10145" y="6970"/>
                </a:moveTo>
                <a:cubicBezTo>
                  <a:pt x="10206" y="7056"/>
                  <a:pt x="10238" y="7045"/>
                  <a:pt x="10344" y="7045"/>
                </a:cubicBezTo>
                <a:cubicBezTo>
                  <a:pt x="10470" y="7045"/>
                  <a:pt x="10591" y="7051"/>
                  <a:pt x="10716" y="7020"/>
                </a:cubicBezTo>
                <a:cubicBezTo>
                  <a:pt x="10820" y="6994"/>
                  <a:pt x="11004" y="6934"/>
                  <a:pt x="11112" y="6945"/>
                </a:cubicBezTo>
                <a:cubicBezTo>
                  <a:pt x="11174" y="6952"/>
                  <a:pt x="11266" y="6977"/>
                  <a:pt x="11286" y="7045"/>
                </a:cubicBezTo>
                <a:cubicBezTo>
                  <a:pt x="11305" y="7110"/>
                  <a:pt x="11256" y="7252"/>
                  <a:pt x="11237" y="7317"/>
                </a:cubicBezTo>
                <a:cubicBezTo>
                  <a:pt x="11194" y="7463"/>
                  <a:pt x="11142" y="7596"/>
                  <a:pt x="11112" y="7739"/>
                </a:cubicBezTo>
                <a:cubicBezTo>
                  <a:pt x="11088" y="7854"/>
                  <a:pt x="11030" y="7971"/>
                  <a:pt x="11013" y="8086"/>
                </a:cubicBezTo>
                <a:cubicBezTo>
                  <a:pt x="11001" y="8170"/>
                  <a:pt x="10977" y="8253"/>
                  <a:pt x="10964" y="8334"/>
                </a:cubicBezTo>
                <a:cubicBezTo>
                  <a:pt x="10964" y="8376"/>
                  <a:pt x="10964" y="8384"/>
                  <a:pt x="10964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6"/>
          <p:cNvSpPr/>
          <p:nvPr/>
        </p:nvSpPr>
        <p:spPr>
          <a:xfrm>
            <a:off x="1751040" y="3017880"/>
            <a:ext cx="2286000" cy="706320"/>
          </a:xfrm>
          <a:custGeom>
            <a:avLst/>
            <a:gdLst/>
            <a:ahLst/>
            <a:rect l="l" t="t" r="r" b="b"/>
            <a:pathLst>
              <a:path w="6351" h="1961">
                <a:moveTo>
                  <a:pt x="4862" y="8930"/>
                </a:moveTo>
                <a:cubicBezTo>
                  <a:pt x="5117" y="8930"/>
                  <a:pt x="5380" y="8950"/>
                  <a:pt x="5631" y="8905"/>
                </a:cubicBezTo>
              </a:path>
              <a:path w="6351" h="1961">
                <a:moveTo>
                  <a:pt x="5730" y="8657"/>
                </a:moveTo>
                <a:cubicBezTo>
                  <a:pt x="5730" y="8981"/>
                  <a:pt x="5799" y="9415"/>
                  <a:pt x="5705" y="9723"/>
                </a:cubicBezTo>
              </a:path>
              <a:path w="6351" h="1961">
                <a:moveTo>
                  <a:pt x="6598" y="8558"/>
                </a:moveTo>
                <a:cubicBezTo>
                  <a:pt x="6536" y="8521"/>
                  <a:pt x="6493" y="8528"/>
                  <a:pt x="6424" y="8558"/>
                </a:cubicBezTo>
                <a:cubicBezTo>
                  <a:pt x="6354" y="8588"/>
                  <a:pt x="6281" y="8597"/>
                  <a:pt x="6226" y="8657"/>
                </a:cubicBezTo>
                <a:cubicBezTo>
                  <a:pt x="6157" y="8733"/>
                  <a:pt x="6175" y="8803"/>
                  <a:pt x="6127" y="8880"/>
                </a:cubicBezTo>
                <a:cubicBezTo>
                  <a:pt x="6096" y="8931"/>
                  <a:pt x="6085" y="8943"/>
                  <a:pt x="6077" y="9004"/>
                </a:cubicBezTo>
                <a:cubicBezTo>
                  <a:pt x="6144" y="8951"/>
                  <a:pt x="6213" y="8919"/>
                  <a:pt x="6300" y="8905"/>
                </a:cubicBezTo>
                <a:cubicBezTo>
                  <a:pt x="6472" y="8877"/>
                  <a:pt x="6619" y="8880"/>
                  <a:pt x="6772" y="8979"/>
                </a:cubicBezTo>
                <a:cubicBezTo>
                  <a:pt x="6821" y="9011"/>
                  <a:pt x="6924" y="9124"/>
                  <a:pt x="6945" y="9178"/>
                </a:cubicBezTo>
                <a:cubicBezTo>
                  <a:pt x="6978" y="9262"/>
                  <a:pt x="6957" y="9316"/>
                  <a:pt x="6945" y="9401"/>
                </a:cubicBezTo>
                <a:cubicBezTo>
                  <a:pt x="6934" y="9477"/>
                  <a:pt x="6869" y="9536"/>
                  <a:pt x="6796" y="9575"/>
                </a:cubicBezTo>
                <a:cubicBezTo>
                  <a:pt x="6726" y="9612"/>
                  <a:pt x="6558" y="9665"/>
                  <a:pt x="6474" y="9649"/>
                </a:cubicBezTo>
                <a:cubicBezTo>
                  <a:pt x="6431" y="9641"/>
                  <a:pt x="6404" y="9603"/>
                  <a:pt x="6375" y="9575"/>
                </a:cubicBezTo>
              </a:path>
              <a:path w="6351" h="1961">
                <a:moveTo>
                  <a:pt x="8483" y="8756"/>
                </a:moveTo>
                <a:cubicBezTo>
                  <a:pt x="8687" y="8756"/>
                  <a:pt x="8907" y="8781"/>
                  <a:pt x="9103" y="8731"/>
                </a:cubicBezTo>
              </a:path>
              <a:path w="6351" h="1961">
                <a:moveTo>
                  <a:pt x="9773" y="8384"/>
                </a:moveTo>
                <a:cubicBezTo>
                  <a:pt x="9773" y="8626"/>
                  <a:pt x="9770" y="8864"/>
                  <a:pt x="9748" y="9103"/>
                </a:cubicBezTo>
                <a:cubicBezTo>
                  <a:pt x="9738" y="9216"/>
                  <a:pt x="9721" y="9340"/>
                  <a:pt x="9699" y="9451"/>
                </a:cubicBezTo>
                <a:cubicBezTo>
                  <a:pt x="9687" y="9513"/>
                  <a:pt x="9647" y="9651"/>
                  <a:pt x="9624" y="9674"/>
                </a:cubicBezTo>
              </a:path>
              <a:path w="6351" h="1961">
                <a:moveTo>
                  <a:pt x="11088" y="8582"/>
                </a:moveTo>
                <a:cubicBezTo>
                  <a:pt x="10938" y="8582"/>
                  <a:pt x="10695" y="8533"/>
                  <a:pt x="10567" y="8607"/>
                </a:cubicBezTo>
                <a:cubicBezTo>
                  <a:pt x="10520" y="8634"/>
                  <a:pt x="10502" y="8693"/>
                  <a:pt x="10468" y="8731"/>
                </a:cubicBezTo>
                <a:cubicBezTo>
                  <a:pt x="10426" y="8778"/>
                  <a:pt x="10403" y="8845"/>
                  <a:pt x="10393" y="8905"/>
                </a:cubicBezTo>
                <a:cubicBezTo>
                  <a:pt x="10393" y="8949"/>
                  <a:pt x="10390" y="8963"/>
                  <a:pt x="10418" y="8979"/>
                </a:cubicBezTo>
                <a:cubicBezTo>
                  <a:pt x="10468" y="8939"/>
                  <a:pt x="10526" y="8891"/>
                  <a:pt x="10592" y="8880"/>
                </a:cubicBezTo>
                <a:cubicBezTo>
                  <a:pt x="10668" y="8868"/>
                  <a:pt x="10769" y="8888"/>
                  <a:pt x="10840" y="8905"/>
                </a:cubicBezTo>
                <a:cubicBezTo>
                  <a:pt x="10926" y="8925"/>
                  <a:pt x="11030" y="8989"/>
                  <a:pt x="11088" y="9054"/>
                </a:cubicBezTo>
                <a:cubicBezTo>
                  <a:pt x="11138" y="9110"/>
                  <a:pt x="11199" y="9251"/>
                  <a:pt x="11212" y="9327"/>
                </a:cubicBezTo>
                <a:cubicBezTo>
                  <a:pt x="11224" y="9401"/>
                  <a:pt x="11224" y="9509"/>
                  <a:pt x="11187" y="9575"/>
                </a:cubicBezTo>
                <a:cubicBezTo>
                  <a:pt x="11150" y="9640"/>
                  <a:pt x="11079" y="9713"/>
                  <a:pt x="11013" y="9748"/>
                </a:cubicBezTo>
                <a:cubicBezTo>
                  <a:pt x="10897" y="9809"/>
                  <a:pt x="10769" y="9815"/>
                  <a:pt x="10641" y="9823"/>
                </a:cubicBezTo>
              </a:path>
              <a:path w="6351" h="1961">
                <a:moveTo>
                  <a:pt x="5358" y="10344"/>
                </a:moveTo>
                <a:cubicBezTo>
                  <a:pt x="5508" y="10304"/>
                  <a:pt x="5654" y="10278"/>
                  <a:pt x="5804" y="10244"/>
                </a:cubicBezTo>
                <a:cubicBezTo>
                  <a:pt x="5988" y="10202"/>
                  <a:pt x="6186" y="10199"/>
                  <a:pt x="6375" y="10195"/>
                </a:cubicBezTo>
                <a:cubicBezTo>
                  <a:pt x="6556" y="10191"/>
                  <a:pt x="6742" y="10175"/>
                  <a:pt x="6921" y="10145"/>
                </a:cubicBezTo>
                <a:cubicBezTo>
                  <a:pt x="7179" y="10103"/>
                  <a:pt x="7430" y="10071"/>
                  <a:pt x="7689" y="10046"/>
                </a:cubicBezTo>
                <a:cubicBezTo>
                  <a:pt x="7904" y="10025"/>
                  <a:pt x="8117" y="10000"/>
                  <a:pt x="8334" y="9996"/>
                </a:cubicBezTo>
                <a:cubicBezTo>
                  <a:pt x="8577" y="9992"/>
                  <a:pt x="8813" y="10010"/>
                  <a:pt x="9054" y="10021"/>
                </a:cubicBezTo>
                <a:cubicBezTo>
                  <a:pt x="9352" y="10035"/>
                  <a:pt x="9651" y="10033"/>
                  <a:pt x="9947" y="10071"/>
                </a:cubicBezTo>
                <a:cubicBezTo>
                  <a:pt x="10239" y="10108"/>
                  <a:pt x="10524" y="10175"/>
                  <a:pt x="10815" y="10220"/>
                </a:cubicBezTo>
                <a:cubicBezTo>
                  <a:pt x="10982" y="10243"/>
                  <a:pt x="11034" y="10249"/>
                  <a:pt x="11137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7"/>
          <p:cNvSpPr/>
          <p:nvPr/>
        </p:nvSpPr>
        <p:spPr>
          <a:xfrm>
            <a:off x="4680000" y="3116160"/>
            <a:ext cx="1874880" cy="974880"/>
          </a:xfrm>
          <a:custGeom>
            <a:avLst/>
            <a:gdLst/>
            <a:ahLst/>
            <a:rect l="l" t="t" r="r" b="b"/>
            <a:pathLst>
              <a:path w="5210" h="2705">
                <a:moveTo>
                  <a:pt x="13047" y="9872"/>
                </a:moveTo>
                <a:cubicBezTo>
                  <a:pt x="13039" y="9999"/>
                  <a:pt x="13009" y="10113"/>
                  <a:pt x="12998" y="10244"/>
                </a:cubicBezTo>
                <a:cubicBezTo>
                  <a:pt x="12979" y="10474"/>
                  <a:pt x="12998" y="10714"/>
                  <a:pt x="13022" y="10939"/>
                </a:cubicBezTo>
                <a:cubicBezTo>
                  <a:pt x="13033" y="11042"/>
                  <a:pt x="13033" y="11091"/>
                  <a:pt x="13072" y="11187"/>
                </a:cubicBezTo>
                <a:cubicBezTo>
                  <a:pt x="13081" y="11085"/>
                  <a:pt x="13097" y="10994"/>
                  <a:pt x="13097" y="10889"/>
                </a:cubicBezTo>
                <a:cubicBezTo>
                  <a:pt x="13097" y="10726"/>
                  <a:pt x="13085" y="10577"/>
                  <a:pt x="13072" y="10418"/>
                </a:cubicBezTo>
                <a:cubicBezTo>
                  <a:pt x="13057" y="10227"/>
                  <a:pt x="13086" y="10035"/>
                  <a:pt x="13097" y="9847"/>
                </a:cubicBezTo>
                <a:cubicBezTo>
                  <a:pt x="13105" y="9708"/>
                  <a:pt x="13124" y="9564"/>
                  <a:pt x="13146" y="9426"/>
                </a:cubicBezTo>
                <a:cubicBezTo>
                  <a:pt x="13164" y="9314"/>
                  <a:pt x="13179" y="9209"/>
                  <a:pt x="13221" y="9103"/>
                </a:cubicBezTo>
                <a:cubicBezTo>
                  <a:pt x="13259" y="9006"/>
                  <a:pt x="13332" y="8909"/>
                  <a:pt x="13419" y="8855"/>
                </a:cubicBezTo>
                <a:cubicBezTo>
                  <a:pt x="13486" y="8814"/>
                  <a:pt x="13569" y="8797"/>
                  <a:pt x="13643" y="8830"/>
                </a:cubicBezTo>
                <a:cubicBezTo>
                  <a:pt x="13764" y="8883"/>
                  <a:pt x="13873" y="9134"/>
                  <a:pt x="13891" y="9252"/>
                </a:cubicBezTo>
                <a:cubicBezTo>
                  <a:pt x="13919" y="9437"/>
                  <a:pt x="13897" y="9664"/>
                  <a:pt x="13866" y="9847"/>
                </a:cubicBezTo>
                <a:cubicBezTo>
                  <a:pt x="13841" y="9993"/>
                  <a:pt x="13808" y="10148"/>
                  <a:pt x="13791" y="10294"/>
                </a:cubicBezTo>
                <a:cubicBezTo>
                  <a:pt x="13783" y="10363"/>
                  <a:pt x="13733" y="10475"/>
                  <a:pt x="13742" y="10542"/>
                </a:cubicBezTo>
                <a:cubicBezTo>
                  <a:pt x="13750" y="10525"/>
                  <a:pt x="13759" y="10509"/>
                  <a:pt x="13767" y="10492"/>
                </a:cubicBezTo>
                <a:cubicBezTo>
                  <a:pt x="13787" y="10393"/>
                  <a:pt x="13817" y="10294"/>
                  <a:pt x="13841" y="10195"/>
                </a:cubicBezTo>
                <a:cubicBezTo>
                  <a:pt x="13879" y="10036"/>
                  <a:pt x="13893" y="9882"/>
                  <a:pt x="13915" y="9723"/>
                </a:cubicBezTo>
                <a:cubicBezTo>
                  <a:pt x="13937" y="9565"/>
                  <a:pt x="13976" y="9405"/>
                  <a:pt x="14015" y="9252"/>
                </a:cubicBezTo>
                <a:cubicBezTo>
                  <a:pt x="14046" y="9131"/>
                  <a:pt x="14067" y="8920"/>
                  <a:pt x="14139" y="8806"/>
                </a:cubicBezTo>
                <a:cubicBezTo>
                  <a:pt x="14180" y="8741"/>
                  <a:pt x="14287" y="8673"/>
                  <a:pt x="14362" y="8657"/>
                </a:cubicBezTo>
                <a:cubicBezTo>
                  <a:pt x="14428" y="8643"/>
                  <a:pt x="14582" y="8712"/>
                  <a:pt x="14610" y="8781"/>
                </a:cubicBezTo>
                <a:cubicBezTo>
                  <a:pt x="14686" y="8965"/>
                  <a:pt x="14660" y="9192"/>
                  <a:pt x="14610" y="9376"/>
                </a:cubicBezTo>
                <a:cubicBezTo>
                  <a:pt x="14542" y="9627"/>
                  <a:pt x="14442" y="9873"/>
                  <a:pt x="14362" y="10120"/>
                </a:cubicBezTo>
                <a:cubicBezTo>
                  <a:pt x="14299" y="10314"/>
                  <a:pt x="14251" y="10488"/>
                  <a:pt x="14238" y="10691"/>
                </a:cubicBezTo>
                <a:cubicBezTo>
                  <a:pt x="14231" y="10793"/>
                  <a:pt x="14220" y="10999"/>
                  <a:pt x="14288" y="11088"/>
                </a:cubicBezTo>
                <a:cubicBezTo>
                  <a:pt x="14357" y="11179"/>
                  <a:pt x="14488" y="11175"/>
                  <a:pt x="14585" y="11187"/>
                </a:cubicBezTo>
              </a:path>
              <a:path w="5210" h="2705">
                <a:moveTo>
                  <a:pt x="15230" y="9947"/>
                </a:moveTo>
                <a:cubicBezTo>
                  <a:pt x="15080" y="9932"/>
                  <a:pt x="14991" y="9930"/>
                  <a:pt x="14858" y="10021"/>
                </a:cubicBezTo>
                <a:cubicBezTo>
                  <a:pt x="14733" y="10106"/>
                  <a:pt x="14615" y="10262"/>
                  <a:pt x="14536" y="10393"/>
                </a:cubicBezTo>
                <a:cubicBezTo>
                  <a:pt x="14458" y="10522"/>
                  <a:pt x="14417" y="10640"/>
                  <a:pt x="14412" y="10790"/>
                </a:cubicBezTo>
                <a:cubicBezTo>
                  <a:pt x="14409" y="10865"/>
                  <a:pt x="14417" y="10944"/>
                  <a:pt x="14486" y="10988"/>
                </a:cubicBezTo>
                <a:cubicBezTo>
                  <a:pt x="14563" y="11037"/>
                  <a:pt x="14656" y="11012"/>
                  <a:pt x="14734" y="10988"/>
                </a:cubicBezTo>
                <a:cubicBezTo>
                  <a:pt x="14860" y="10950"/>
                  <a:pt x="14996" y="10837"/>
                  <a:pt x="15056" y="10716"/>
                </a:cubicBezTo>
                <a:cubicBezTo>
                  <a:pt x="15113" y="10601"/>
                  <a:pt x="15160" y="10443"/>
                  <a:pt x="15180" y="10319"/>
                </a:cubicBezTo>
                <a:cubicBezTo>
                  <a:pt x="15192" y="10243"/>
                  <a:pt x="15220" y="10173"/>
                  <a:pt x="15230" y="10096"/>
                </a:cubicBezTo>
                <a:cubicBezTo>
                  <a:pt x="15256" y="9890"/>
                  <a:pt x="15250" y="10094"/>
                  <a:pt x="15230" y="10170"/>
                </a:cubicBezTo>
                <a:cubicBezTo>
                  <a:pt x="15207" y="10259"/>
                  <a:pt x="15181" y="10351"/>
                  <a:pt x="15156" y="10443"/>
                </a:cubicBezTo>
                <a:cubicBezTo>
                  <a:pt x="15124" y="10562"/>
                  <a:pt x="15110" y="10692"/>
                  <a:pt x="15106" y="10815"/>
                </a:cubicBezTo>
                <a:cubicBezTo>
                  <a:pt x="15102" y="10932"/>
                  <a:pt x="15106" y="11016"/>
                  <a:pt x="15180" y="11112"/>
                </a:cubicBezTo>
                <a:cubicBezTo>
                  <a:pt x="15262" y="11218"/>
                  <a:pt x="15340" y="11249"/>
                  <a:pt x="15478" y="11237"/>
                </a:cubicBezTo>
                <a:cubicBezTo>
                  <a:pt x="15503" y="11229"/>
                  <a:pt x="15528" y="11220"/>
                  <a:pt x="15553" y="11212"/>
                </a:cubicBezTo>
              </a:path>
              <a:path w="5210" h="2705">
                <a:moveTo>
                  <a:pt x="15627" y="10368"/>
                </a:moveTo>
                <a:cubicBezTo>
                  <a:pt x="15627" y="10515"/>
                  <a:pt x="15621" y="10671"/>
                  <a:pt x="15652" y="10815"/>
                </a:cubicBezTo>
                <a:cubicBezTo>
                  <a:pt x="15673" y="10914"/>
                  <a:pt x="15691" y="11010"/>
                  <a:pt x="15701" y="11112"/>
                </a:cubicBezTo>
                <a:cubicBezTo>
                  <a:pt x="15677" y="11021"/>
                  <a:pt x="15656" y="10935"/>
                  <a:pt x="15652" y="10840"/>
                </a:cubicBezTo>
                <a:cubicBezTo>
                  <a:pt x="15645" y="10653"/>
                  <a:pt x="15706" y="10513"/>
                  <a:pt x="15776" y="10344"/>
                </a:cubicBezTo>
                <a:cubicBezTo>
                  <a:pt x="15823" y="10230"/>
                  <a:pt x="15869" y="10122"/>
                  <a:pt x="15974" y="10046"/>
                </a:cubicBezTo>
                <a:cubicBezTo>
                  <a:pt x="16025" y="10009"/>
                  <a:pt x="16138" y="10005"/>
                  <a:pt x="16197" y="10021"/>
                </a:cubicBezTo>
                <a:cubicBezTo>
                  <a:pt x="16245" y="10034"/>
                  <a:pt x="16343" y="10046"/>
                  <a:pt x="16371" y="10096"/>
                </a:cubicBezTo>
                <a:cubicBezTo>
                  <a:pt x="16371" y="10104"/>
                  <a:pt x="16371" y="10112"/>
                  <a:pt x="16371" y="10120"/>
                </a:cubicBezTo>
              </a:path>
              <a:path w="5210" h="2705">
                <a:moveTo>
                  <a:pt x="16570" y="10195"/>
                </a:moveTo>
                <a:cubicBezTo>
                  <a:pt x="16538" y="10354"/>
                  <a:pt x="16524" y="10509"/>
                  <a:pt x="16495" y="10666"/>
                </a:cubicBezTo>
                <a:cubicBezTo>
                  <a:pt x="16474" y="10783"/>
                  <a:pt x="16438" y="10895"/>
                  <a:pt x="16421" y="11013"/>
                </a:cubicBezTo>
                <a:cubicBezTo>
                  <a:pt x="16421" y="11063"/>
                  <a:pt x="16421" y="11079"/>
                  <a:pt x="16421" y="11112"/>
                </a:cubicBezTo>
              </a:path>
              <a:path w="5210" h="2705">
                <a:moveTo>
                  <a:pt x="16594" y="9599"/>
                </a:moveTo>
                <a:cubicBezTo>
                  <a:pt x="16586" y="9599"/>
                  <a:pt x="16578" y="9599"/>
                  <a:pt x="16570" y="9599"/>
                </a:cubicBezTo>
              </a:path>
              <a:path w="5210" h="2705">
                <a:moveTo>
                  <a:pt x="17735" y="10120"/>
                </a:moveTo>
                <a:cubicBezTo>
                  <a:pt x="17722" y="10059"/>
                  <a:pt x="17712" y="9993"/>
                  <a:pt x="17636" y="9971"/>
                </a:cubicBezTo>
                <a:cubicBezTo>
                  <a:pt x="17568" y="9951"/>
                  <a:pt x="17507" y="9953"/>
                  <a:pt x="17438" y="9971"/>
                </a:cubicBezTo>
                <a:cubicBezTo>
                  <a:pt x="17364" y="9990"/>
                  <a:pt x="17220" y="10065"/>
                  <a:pt x="17165" y="10120"/>
                </a:cubicBezTo>
                <a:cubicBezTo>
                  <a:pt x="17069" y="10216"/>
                  <a:pt x="16969" y="10343"/>
                  <a:pt x="16917" y="10468"/>
                </a:cubicBezTo>
                <a:cubicBezTo>
                  <a:pt x="16875" y="10568"/>
                  <a:pt x="16836" y="10708"/>
                  <a:pt x="16818" y="10815"/>
                </a:cubicBezTo>
                <a:cubicBezTo>
                  <a:pt x="16805" y="10892"/>
                  <a:pt x="16869" y="11026"/>
                  <a:pt x="16917" y="11088"/>
                </a:cubicBezTo>
                <a:cubicBezTo>
                  <a:pt x="16971" y="11158"/>
                  <a:pt x="17082" y="11154"/>
                  <a:pt x="17165" y="11137"/>
                </a:cubicBezTo>
                <a:cubicBezTo>
                  <a:pt x="17286" y="11113"/>
                  <a:pt x="17277" y="11053"/>
                  <a:pt x="17363" y="10988"/>
                </a:cubicBezTo>
                <a:cubicBezTo>
                  <a:pt x="17442" y="10928"/>
                  <a:pt x="17480" y="10891"/>
                  <a:pt x="17512" y="10790"/>
                </a:cubicBezTo>
                <a:cubicBezTo>
                  <a:pt x="17543" y="10690"/>
                  <a:pt x="17545" y="10592"/>
                  <a:pt x="17562" y="10492"/>
                </a:cubicBezTo>
                <a:cubicBezTo>
                  <a:pt x="17579" y="10388"/>
                  <a:pt x="17621" y="10297"/>
                  <a:pt x="17636" y="10195"/>
                </a:cubicBezTo>
                <a:cubicBezTo>
                  <a:pt x="17636" y="10150"/>
                  <a:pt x="17639" y="10137"/>
                  <a:pt x="17611" y="10120"/>
                </a:cubicBezTo>
                <a:cubicBezTo>
                  <a:pt x="17578" y="10234"/>
                  <a:pt x="17516" y="10349"/>
                  <a:pt x="17512" y="10468"/>
                </a:cubicBezTo>
                <a:cubicBezTo>
                  <a:pt x="17508" y="10582"/>
                  <a:pt x="17513" y="10705"/>
                  <a:pt x="17537" y="10815"/>
                </a:cubicBezTo>
                <a:cubicBezTo>
                  <a:pt x="17563" y="10934"/>
                  <a:pt x="17630" y="11031"/>
                  <a:pt x="17686" y="11137"/>
                </a:cubicBezTo>
                <a:cubicBezTo>
                  <a:pt x="17727" y="11215"/>
                  <a:pt x="17783" y="11269"/>
                  <a:pt x="17859" y="11311"/>
                </a:cubicBezTo>
                <a:cubicBezTo>
                  <a:pt x="17903" y="11336"/>
                  <a:pt x="18007" y="11372"/>
                  <a:pt x="18058" y="11361"/>
                </a:cubicBezTo>
                <a:cubicBezTo>
                  <a:pt x="18124" y="11327"/>
                  <a:pt x="18157" y="11311"/>
                  <a:pt x="18207" y="112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8"/>
          <p:cNvSpPr/>
          <p:nvPr/>
        </p:nvSpPr>
        <p:spPr>
          <a:xfrm>
            <a:off x="1741320" y="3741840"/>
            <a:ext cx="2608560" cy="911160"/>
          </a:xfrm>
          <a:custGeom>
            <a:avLst/>
            <a:gdLst/>
            <a:ahLst/>
            <a:rect l="l" t="t" r="r" b="b"/>
            <a:pathLst>
              <a:path w="7244" h="2531">
                <a:moveTo>
                  <a:pt x="5060" y="10492"/>
                </a:moveTo>
                <a:cubicBezTo>
                  <a:pt x="4969" y="10634"/>
                  <a:pt x="4947" y="10730"/>
                  <a:pt x="4911" y="10889"/>
                </a:cubicBezTo>
                <a:cubicBezTo>
                  <a:pt x="4879" y="11032"/>
                  <a:pt x="4841" y="11164"/>
                  <a:pt x="4837" y="11311"/>
                </a:cubicBezTo>
                <a:cubicBezTo>
                  <a:pt x="4834" y="11432"/>
                  <a:pt x="4872" y="11545"/>
                  <a:pt x="4911" y="11658"/>
                </a:cubicBezTo>
                <a:cubicBezTo>
                  <a:pt x="4941" y="11746"/>
                  <a:pt x="5009" y="11839"/>
                  <a:pt x="5110" y="11857"/>
                </a:cubicBezTo>
                <a:cubicBezTo>
                  <a:pt x="5231" y="11878"/>
                  <a:pt x="5399" y="11862"/>
                  <a:pt x="5507" y="11807"/>
                </a:cubicBezTo>
                <a:cubicBezTo>
                  <a:pt x="5600" y="11759"/>
                  <a:pt x="5736" y="11638"/>
                  <a:pt x="5804" y="11559"/>
                </a:cubicBezTo>
                <a:cubicBezTo>
                  <a:pt x="5871" y="11480"/>
                  <a:pt x="5911" y="11378"/>
                  <a:pt x="5953" y="11286"/>
                </a:cubicBezTo>
                <a:cubicBezTo>
                  <a:pt x="5989" y="11207"/>
                  <a:pt x="6018" y="11162"/>
                  <a:pt x="5978" y="11088"/>
                </a:cubicBezTo>
                <a:cubicBezTo>
                  <a:pt x="5912" y="10967"/>
                  <a:pt x="5790" y="11079"/>
                  <a:pt x="5730" y="11137"/>
                </a:cubicBezTo>
                <a:cubicBezTo>
                  <a:pt x="5631" y="11232"/>
                  <a:pt x="5601" y="11444"/>
                  <a:pt x="5581" y="11559"/>
                </a:cubicBezTo>
                <a:cubicBezTo>
                  <a:pt x="5571" y="11616"/>
                  <a:pt x="5620" y="11712"/>
                  <a:pt x="5655" y="11757"/>
                </a:cubicBezTo>
                <a:cubicBezTo>
                  <a:pt x="5680" y="11782"/>
                  <a:pt x="5688" y="11790"/>
                  <a:pt x="5705" y="11807"/>
                </a:cubicBezTo>
              </a:path>
              <a:path w="7244" h="2531">
                <a:moveTo>
                  <a:pt x="6796" y="10765"/>
                </a:moveTo>
                <a:cubicBezTo>
                  <a:pt x="6773" y="10696"/>
                  <a:pt x="6691" y="10697"/>
                  <a:pt x="6623" y="10765"/>
                </a:cubicBezTo>
                <a:cubicBezTo>
                  <a:pt x="6578" y="10810"/>
                  <a:pt x="6502" y="10933"/>
                  <a:pt x="6474" y="10988"/>
                </a:cubicBezTo>
                <a:cubicBezTo>
                  <a:pt x="6431" y="11074"/>
                  <a:pt x="6384" y="11217"/>
                  <a:pt x="6375" y="11311"/>
                </a:cubicBezTo>
                <a:cubicBezTo>
                  <a:pt x="6368" y="11385"/>
                  <a:pt x="6356" y="11536"/>
                  <a:pt x="6400" y="11609"/>
                </a:cubicBezTo>
                <a:cubicBezTo>
                  <a:pt x="6437" y="11669"/>
                  <a:pt x="6486" y="11658"/>
                  <a:pt x="6548" y="11658"/>
                </a:cubicBezTo>
                <a:cubicBezTo>
                  <a:pt x="6633" y="11658"/>
                  <a:pt x="6688" y="11616"/>
                  <a:pt x="6747" y="11559"/>
                </a:cubicBezTo>
                <a:cubicBezTo>
                  <a:pt x="6798" y="11510"/>
                  <a:pt x="6874" y="11403"/>
                  <a:pt x="6896" y="11336"/>
                </a:cubicBezTo>
                <a:cubicBezTo>
                  <a:pt x="6928" y="11241"/>
                  <a:pt x="6945" y="11138"/>
                  <a:pt x="6945" y="11038"/>
                </a:cubicBezTo>
                <a:cubicBezTo>
                  <a:pt x="6945" y="10961"/>
                  <a:pt x="6945" y="10925"/>
                  <a:pt x="6896" y="10864"/>
                </a:cubicBezTo>
                <a:cubicBezTo>
                  <a:pt x="6886" y="10968"/>
                  <a:pt x="6884" y="11042"/>
                  <a:pt x="6896" y="11137"/>
                </a:cubicBezTo>
                <a:cubicBezTo>
                  <a:pt x="6909" y="11237"/>
                  <a:pt x="6927" y="11313"/>
                  <a:pt x="6945" y="11410"/>
                </a:cubicBezTo>
                <a:cubicBezTo>
                  <a:pt x="6957" y="11477"/>
                  <a:pt x="6964" y="11581"/>
                  <a:pt x="7020" y="11633"/>
                </a:cubicBezTo>
                <a:cubicBezTo>
                  <a:pt x="7067" y="11677"/>
                  <a:pt x="7160" y="11704"/>
                  <a:pt x="7218" y="11733"/>
                </a:cubicBezTo>
              </a:path>
              <a:path w="7244" h="2531">
                <a:moveTo>
                  <a:pt x="8136" y="10716"/>
                </a:moveTo>
                <a:cubicBezTo>
                  <a:pt x="8222" y="10725"/>
                  <a:pt x="8296" y="10740"/>
                  <a:pt x="8384" y="10740"/>
                </a:cubicBezTo>
                <a:cubicBezTo>
                  <a:pt x="8476" y="10740"/>
                  <a:pt x="8544" y="10752"/>
                  <a:pt x="8632" y="10765"/>
                </a:cubicBezTo>
                <a:cubicBezTo>
                  <a:pt x="8649" y="10765"/>
                  <a:pt x="8665" y="10765"/>
                  <a:pt x="8682" y="10765"/>
                </a:cubicBezTo>
              </a:path>
              <a:path w="7244" h="2531">
                <a:moveTo>
                  <a:pt x="7913" y="11063"/>
                </a:moveTo>
                <a:cubicBezTo>
                  <a:pt x="8040" y="11049"/>
                  <a:pt x="8157" y="11008"/>
                  <a:pt x="8285" y="10988"/>
                </a:cubicBezTo>
                <a:cubicBezTo>
                  <a:pt x="8408" y="10969"/>
                  <a:pt x="8532" y="10964"/>
                  <a:pt x="8657" y="10964"/>
                </a:cubicBezTo>
              </a:path>
              <a:path w="7244" h="2531">
                <a:moveTo>
                  <a:pt x="9872" y="10443"/>
                </a:moveTo>
                <a:cubicBezTo>
                  <a:pt x="9752" y="10532"/>
                  <a:pt x="9658" y="10645"/>
                  <a:pt x="9550" y="10740"/>
                </a:cubicBezTo>
                <a:cubicBezTo>
                  <a:pt x="9466" y="10814"/>
                  <a:pt x="9382" y="10884"/>
                  <a:pt x="9302" y="10964"/>
                </a:cubicBezTo>
                <a:cubicBezTo>
                  <a:pt x="9244" y="11021"/>
                  <a:pt x="9237" y="11036"/>
                  <a:pt x="9227" y="11112"/>
                </a:cubicBezTo>
                <a:cubicBezTo>
                  <a:pt x="9368" y="11122"/>
                  <a:pt x="9502" y="11137"/>
                  <a:pt x="9649" y="11137"/>
                </a:cubicBezTo>
                <a:cubicBezTo>
                  <a:pt x="9764" y="11137"/>
                  <a:pt x="9907" y="11141"/>
                  <a:pt x="10021" y="11162"/>
                </a:cubicBezTo>
                <a:cubicBezTo>
                  <a:pt x="10088" y="11184"/>
                  <a:pt x="10106" y="11196"/>
                  <a:pt x="10145" y="11162"/>
                </a:cubicBezTo>
              </a:path>
              <a:path w="7244" h="2531">
                <a:moveTo>
                  <a:pt x="9922" y="10517"/>
                </a:moveTo>
                <a:cubicBezTo>
                  <a:pt x="9931" y="10644"/>
                  <a:pt x="9947" y="10760"/>
                  <a:pt x="9947" y="10889"/>
                </a:cubicBezTo>
                <a:cubicBezTo>
                  <a:pt x="9947" y="11042"/>
                  <a:pt x="9934" y="11187"/>
                  <a:pt x="9922" y="11336"/>
                </a:cubicBezTo>
                <a:cubicBezTo>
                  <a:pt x="9912" y="11454"/>
                  <a:pt x="9897" y="11563"/>
                  <a:pt x="9897" y="11683"/>
                </a:cubicBezTo>
                <a:cubicBezTo>
                  <a:pt x="9897" y="11744"/>
                  <a:pt x="9888" y="11760"/>
                  <a:pt x="9922" y="11782"/>
                </a:cubicBezTo>
              </a:path>
              <a:path w="7244" h="2531">
                <a:moveTo>
                  <a:pt x="10542" y="10592"/>
                </a:moveTo>
                <a:cubicBezTo>
                  <a:pt x="10610" y="10535"/>
                  <a:pt x="10655" y="10500"/>
                  <a:pt x="10740" y="10468"/>
                </a:cubicBezTo>
                <a:cubicBezTo>
                  <a:pt x="10868" y="10420"/>
                  <a:pt x="11001" y="10397"/>
                  <a:pt x="11137" y="10393"/>
                </a:cubicBezTo>
                <a:cubicBezTo>
                  <a:pt x="11291" y="10389"/>
                  <a:pt x="11331" y="10438"/>
                  <a:pt x="11435" y="10542"/>
                </a:cubicBezTo>
                <a:cubicBezTo>
                  <a:pt x="11489" y="10596"/>
                  <a:pt x="11520" y="10709"/>
                  <a:pt x="11509" y="10790"/>
                </a:cubicBezTo>
                <a:cubicBezTo>
                  <a:pt x="11485" y="10972"/>
                  <a:pt x="11425" y="11077"/>
                  <a:pt x="11286" y="11212"/>
                </a:cubicBezTo>
                <a:cubicBezTo>
                  <a:pt x="11196" y="11300"/>
                  <a:pt x="11052" y="11427"/>
                  <a:pt x="10939" y="11485"/>
                </a:cubicBezTo>
                <a:cubicBezTo>
                  <a:pt x="10849" y="11531"/>
                  <a:pt x="10791" y="11564"/>
                  <a:pt x="10716" y="11633"/>
                </a:cubicBezTo>
                <a:cubicBezTo>
                  <a:pt x="10815" y="11588"/>
                  <a:pt x="10902" y="11563"/>
                  <a:pt x="11013" y="11559"/>
                </a:cubicBezTo>
                <a:cubicBezTo>
                  <a:pt x="11114" y="11555"/>
                  <a:pt x="11219" y="11547"/>
                  <a:pt x="11311" y="11584"/>
                </a:cubicBezTo>
                <a:cubicBezTo>
                  <a:pt x="11402" y="11620"/>
                  <a:pt x="11444" y="11655"/>
                  <a:pt x="11509" y="11708"/>
                </a:cubicBezTo>
                <a:cubicBezTo>
                  <a:pt x="11558" y="11747"/>
                  <a:pt x="11609" y="11764"/>
                  <a:pt x="11658" y="11807"/>
                </a:cubicBezTo>
              </a:path>
              <a:path w="7244" h="2531">
                <a:moveTo>
                  <a:pt x="5482" y="11956"/>
                </a:moveTo>
                <a:cubicBezTo>
                  <a:pt x="5615" y="11929"/>
                  <a:pt x="5745" y="11929"/>
                  <a:pt x="5879" y="11906"/>
                </a:cubicBezTo>
                <a:cubicBezTo>
                  <a:pt x="6153" y="11859"/>
                  <a:pt x="6446" y="11861"/>
                  <a:pt x="6722" y="11857"/>
                </a:cubicBezTo>
                <a:cubicBezTo>
                  <a:pt x="6899" y="11854"/>
                  <a:pt x="7071" y="11862"/>
                  <a:pt x="7243" y="11881"/>
                </a:cubicBezTo>
                <a:cubicBezTo>
                  <a:pt x="7304" y="11881"/>
                  <a:pt x="7319" y="11890"/>
                  <a:pt x="7342" y="11857"/>
                </a:cubicBezTo>
              </a:path>
              <a:path w="7244" h="2531">
                <a:moveTo>
                  <a:pt x="6127" y="12005"/>
                </a:moveTo>
                <a:cubicBezTo>
                  <a:pt x="6079" y="12121"/>
                  <a:pt x="6023" y="12236"/>
                  <a:pt x="5978" y="12353"/>
                </a:cubicBezTo>
                <a:cubicBezTo>
                  <a:pt x="5936" y="12464"/>
                  <a:pt x="5941" y="12589"/>
                  <a:pt x="5978" y="12700"/>
                </a:cubicBezTo>
                <a:cubicBezTo>
                  <a:pt x="6001" y="12768"/>
                  <a:pt x="6065" y="12845"/>
                  <a:pt x="6127" y="12874"/>
                </a:cubicBezTo>
                <a:cubicBezTo>
                  <a:pt x="6221" y="12919"/>
                  <a:pt x="6297" y="12923"/>
                  <a:pt x="6400" y="12923"/>
                </a:cubicBezTo>
                <a:cubicBezTo>
                  <a:pt x="6508" y="12923"/>
                  <a:pt x="6632" y="12886"/>
                  <a:pt x="6722" y="12824"/>
                </a:cubicBezTo>
                <a:cubicBezTo>
                  <a:pt x="6800" y="12771"/>
                  <a:pt x="6897" y="12679"/>
                  <a:pt x="6945" y="12601"/>
                </a:cubicBezTo>
                <a:cubicBezTo>
                  <a:pt x="6994" y="12522"/>
                  <a:pt x="7063" y="12400"/>
                  <a:pt x="7045" y="12303"/>
                </a:cubicBezTo>
                <a:cubicBezTo>
                  <a:pt x="7029" y="12217"/>
                  <a:pt x="6974" y="12183"/>
                  <a:pt x="6896" y="12179"/>
                </a:cubicBezTo>
                <a:cubicBezTo>
                  <a:pt x="6780" y="12173"/>
                  <a:pt x="6726" y="12292"/>
                  <a:pt x="6672" y="12378"/>
                </a:cubicBezTo>
                <a:cubicBezTo>
                  <a:pt x="6624" y="12455"/>
                  <a:pt x="6661" y="12504"/>
                  <a:pt x="6697" y="12576"/>
                </a:cubicBezTo>
                <a:cubicBezTo>
                  <a:pt x="6740" y="12662"/>
                  <a:pt x="6785" y="12694"/>
                  <a:pt x="6871" y="12725"/>
                </a:cubicBezTo>
                <a:cubicBezTo>
                  <a:pt x="6896" y="12733"/>
                  <a:pt x="6920" y="12742"/>
                  <a:pt x="6945" y="12750"/>
                </a:cubicBezTo>
              </a:path>
              <a:path w="7244" h="2531">
                <a:moveTo>
                  <a:pt x="9227" y="11460"/>
                </a:moveTo>
                <a:cubicBezTo>
                  <a:pt x="9391" y="11460"/>
                  <a:pt x="9538" y="11447"/>
                  <a:pt x="9699" y="11435"/>
                </a:cubicBezTo>
                <a:cubicBezTo>
                  <a:pt x="9893" y="11420"/>
                  <a:pt x="10097" y="11460"/>
                  <a:pt x="10294" y="11460"/>
                </a:cubicBezTo>
                <a:cubicBezTo>
                  <a:pt x="10474" y="11460"/>
                  <a:pt x="10662" y="11479"/>
                  <a:pt x="10840" y="11509"/>
                </a:cubicBezTo>
                <a:cubicBezTo>
                  <a:pt x="11009" y="11538"/>
                  <a:pt x="11190" y="11569"/>
                  <a:pt x="11361" y="11584"/>
                </a:cubicBezTo>
                <a:cubicBezTo>
                  <a:pt x="11543" y="11600"/>
                  <a:pt x="11722" y="11609"/>
                  <a:pt x="11906" y="11609"/>
                </a:cubicBezTo>
                <a:cubicBezTo>
                  <a:pt x="11973" y="11609"/>
                  <a:pt x="12027" y="11595"/>
                  <a:pt x="12080" y="11584"/>
                </a:cubicBezTo>
              </a:path>
              <a:path w="7244" h="2531">
                <a:moveTo>
                  <a:pt x="10666" y="11857"/>
                </a:moveTo>
                <a:cubicBezTo>
                  <a:pt x="10582" y="11962"/>
                  <a:pt x="10478" y="12080"/>
                  <a:pt x="10418" y="12204"/>
                </a:cubicBezTo>
                <a:cubicBezTo>
                  <a:pt x="10377" y="12288"/>
                  <a:pt x="10347" y="12386"/>
                  <a:pt x="10344" y="12477"/>
                </a:cubicBezTo>
                <a:cubicBezTo>
                  <a:pt x="10341" y="12552"/>
                  <a:pt x="10334" y="12666"/>
                  <a:pt x="10393" y="12725"/>
                </a:cubicBezTo>
                <a:cubicBezTo>
                  <a:pt x="10433" y="12765"/>
                  <a:pt x="10586" y="12838"/>
                  <a:pt x="10641" y="12849"/>
                </a:cubicBezTo>
                <a:cubicBezTo>
                  <a:pt x="10755" y="12871"/>
                  <a:pt x="10882" y="12831"/>
                  <a:pt x="10988" y="12799"/>
                </a:cubicBezTo>
                <a:cubicBezTo>
                  <a:pt x="11070" y="12774"/>
                  <a:pt x="11156" y="12743"/>
                  <a:pt x="11212" y="12675"/>
                </a:cubicBezTo>
                <a:cubicBezTo>
                  <a:pt x="11264" y="12611"/>
                  <a:pt x="11320" y="12509"/>
                  <a:pt x="11336" y="12427"/>
                </a:cubicBezTo>
                <a:cubicBezTo>
                  <a:pt x="11350" y="12355"/>
                  <a:pt x="11341" y="12261"/>
                  <a:pt x="11311" y="12204"/>
                </a:cubicBezTo>
                <a:cubicBezTo>
                  <a:pt x="11265" y="12118"/>
                  <a:pt x="11220" y="12087"/>
                  <a:pt x="11112" y="12105"/>
                </a:cubicBezTo>
                <a:cubicBezTo>
                  <a:pt x="11057" y="12114"/>
                  <a:pt x="10979" y="12168"/>
                  <a:pt x="10939" y="12204"/>
                </a:cubicBezTo>
                <a:cubicBezTo>
                  <a:pt x="10896" y="12243"/>
                  <a:pt x="10853" y="12318"/>
                  <a:pt x="10864" y="12378"/>
                </a:cubicBezTo>
                <a:cubicBezTo>
                  <a:pt x="10885" y="12499"/>
                  <a:pt x="10939" y="12545"/>
                  <a:pt x="11038" y="12601"/>
                </a:cubicBezTo>
                <a:cubicBezTo>
                  <a:pt x="11055" y="12609"/>
                  <a:pt x="11071" y="12618"/>
                  <a:pt x="11088" y="126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9"/>
          <p:cNvSpPr/>
          <p:nvPr/>
        </p:nvSpPr>
        <p:spPr>
          <a:xfrm>
            <a:off x="2205000" y="4633920"/>
            <a:ext cx="1536840" cy="590400"/>
          </a:xfrm>
          <a:custGeom>
            <a:avLst/>
            <a:gdLst/>
            <a:ahLst/>
            <a:rect l="l" t="t" r="r" b="b"/>
            <a:pathLst>
              <a:path w="4267" h="1638">
                <a:moveTo>
                  <a:pt x="7094" y="13444"/>
                </a:moveTo>
                <a:cubicBezTo>
                  <a:pt x="7055" y="13382"/>
                  <a:pt x="7024" y="13294"/>
                  <a:pt x="6945" y="13271"/>
                </a:cubicBezTo>
                <a:cubicBezTo>
                  <a:pt x="6801" y="13229"/>
                  <a:pt x="6710" y="13251"/>
                  <a:pt x="6573" y="13295"/>
                </a:cubicBezTo>
                <a:cubicBezTo>
                  <a:pt x="6446" y="13336"/>
                  <a:pt x="6389" y="13450"/>
                  <a:pt x="6300" y="13543"/>
                </a:cubicBezTo>
                <a:cubicBezTo>
                  <a:pt x="6228" y="13618"/>
                  <a:pt x="6147" y="13734"/>
                  <a:pt x="6127" y="13841"/>
                </a:cubicBezTo>
                <a:cubicBezTo>
                  <a:pt x="6109" y="13940"/>
                  <a:pt x="6132" y="14017"/>
                  <a:pt x="6201" y="14089"/>
                </a:cubicBezTo>
                <a:cubicBezTo>
                  <a:pt x="6244" y="14134"/>
                  <a:pt x="6312" y="14157"/>
                  <a:pt x="6375" y="14139"/>
                </a:cubicBezTo>
                <a:cubicBezTo>
                  <a:pt x="6458" y="14116"/>
                  <a:pt x="6530" y="14058"/>
                  <a:pt x="6598" y="14015"/>
                </a:cubicBezTo>
                <a:cubicBezTo>
                  <a:pt x="6697" y="13953"/>
                  <a:pt x="6734" y="13914"/>
                  <a:pt x="6796" y="13816"/>
                </a:cubicBezTo>
                <a:cubicBezTo>
                  <a:pt x="6873" y="13693"/>
                  <a:pt x="6940" y="13602"/>
                  <a:pt x="6995" y="13469"/>
                </a:cubicBezTo>
                <a:cubicBezTo>
                  <a:pt x="7022" y="13404"/>
                  <a:pt x="7059" y="13332"/>
                  <a:pt x="7069" y="13271"/>
                </a:cubicBezTo>
                <a:cubicBezTo>
                  <a:pt x="7078" y="13218"/>
                  <a:pt x="7087" y="13175"/>
                  <a:pt x="7094" y="13122"/>
                </a:cubicBezTo>
                <a:cubicBezTo>
                  <a:pt x="7075" y="13204"/>
                  <a:pt x="7026" y="13325"/>
                  <a:pt x="7020" y="13419"/>
                </a:cubicBezTo>
                <a:cubicBezTo>
                  <a:pt x="7008" y="13593"/>
                  <a:pt x="6991" y="13843"/>
                  <a:pt x="7045" y="14015"/>
                </a:cubicBezTo>
                <a:cubicBezTo>
                  <a:pt x="7064" y="14075"/>
                  <a:pt x="7146" y="14153"/>
                  <a:pt x="7193" y="14188"/>
                </a:cubicBezTo>
                <a:cubicBezTo>
                  <a:pt x="7321" y="14282"/>
                  <a:pt x="7421" y="14248"/>
                  <a:pt x="7565" y="14213"/>
                </a:cubicBezTo>
              </a:path>
              <a:path w="4267" h="1638">
                <a:moveTo>
                  <a:pt x="8210" y="13271"/>
                </a:moveTo>
                <a:cubicBezTo>
                  <a:pt x="8390" y="13271"/>
                  <a:pt x="8582" y="13253"/>
                  <a:pt x="8756" y="13295"/>
                </a:cubicBezTo>
              </a:path>
              <a:path w="4267" h="1638">
                <a:moveTo>
                  <a:pt x="8235" y="13618"/>
                </a:moveTo>
                <a:cubicBezTo>
                  <a:pt x="8388" y="13618"/>
                  <a:pt x="8530" y="13604"/>
                  <a:pt x="8682" y="13593"/>
                </a:cubicBezTo>
                <a:cubicBezTo>
                  <a:pt x="8798" y="13593"/>
                  <a:pt x="8848" y="13590"/>
                  <a:pt x="8930" y="13568"/>
                </a:cubicBezTo>
              </a:path>
              <a:path w="4267" h="1638">
                <a:moveTo>
                  <a:pt x="9252" y="12923"/>
                </a:moveTo>
                <a:cubicBezTo>
                  <a:pt x="9436" y="12923"/>
                  <a:pt x="9618" y="12917"/>
                  <a:pt x="9798" y="12898"/>
                </a:cubicBezTo>
                <a:cubicBezTo>
                  <a:pt x="9890" y="12888"/>
                  <a:pt x="9981" y="12877"/>
                  <a:pt x="10071" y="12874"/>
                </a:cubicBezTo>
                <a:cubicBezTo>
                  <a:pt x="10146" y="12871"/>
                  <a:pt x="10242" y="12854"/>
                  <a:pt x="10294" y="12923"/>
                </a:cubicBezTo>
                <a:cubicBezTo>
                  <a:pt x="10327" y="12967"/>
                  <a:pt x="10283" y="13105"/>
                  <a:pt x="10269" y="13146"/>
                </a:cubicBezTo>
                <a:cubicBezTo>
                  <a:pt x="10229" y="13265"/>
                  <a:pt x="10222" y="13373"/>
                  <a:pt x="10195" y="13494"/>
                </a:cubicBezTo>
                <a:cubicBezTo>
                  <a:pt x="10157" y="13662"/>
                  <a:pt x="10137" y="13842"/>
                  <a:pt x="10120" y="14015"/>
                </a:cubicBezTo>
                <a:cubicBezTo>
                  <a:pt x="10104" y="14173"/>
                  <a:pt x="10106" y="14369"/>
                  <a:pt x="10145" y="14511"/>
                </a:cubicBezTo>
              </a:path>
              <a:path w="4267" h="1638">
                <a:moveTo>
                  <a:pt x="9922" y="13568"/>
                </a:moveTo>
                <a:cubicBezTo>
                  <a:pt x="10074" y="13568"/>
                  <a:pt x="10224" y="13576"/>
                  <a:pt x="10368" y="13543"/>
                </a:cubicBezTo>
                <a:cubicBezTo>
                  <a:pt x="10376" y="13543"/>
                  <a:pt x="10385" y="13543"/>
                  <a:pt x="10393" y="135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ike Terms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4b + 6b = 70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9c + 3 – 5c + 8 = 51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Ink 4"/>
          <p:cNvSpPr/>
          <p:nvPr/>
        </p:nvSpPr>
        <p:spPr>
          <a:xfrm>
            <a:off x="1231920" y="2374920"/>
            <a:ext cx="1751040" cy="482760"/>
          </a:xfrm>
          <a:custGeom>
            <a:avLst/>
            <a:gdLst/>
            <a:ahLst/>
            <a:rect l="l" t="t" r="r" b="b"/>
            <a:pathLst>
              <a:path w="4863" h="1341">
                <a:moveTo>
                  <a:pt x="3448" y="6821"/>
                </a:moveTo>
                <a:cubicBezTo>
                  <a:pt x="3448" y="6902"/>
                  <a:pt x="3427" y="6942"/>
                  <a:pt x="3423" y="7020"/>
                </a:cubicBezTo>
                <a:cubicBezTo>
                  <a:pt x="3416" y="7165"/>
                  <a:pt x="3426" y="7305"/>
                  <a:pt x="3448" y="7441"/>
                </a:cubicBezTo>
                <a:cubicBezTo>
                  <a:pt x="3470" y="7580"/>
                  <a:pt x="3450" y="7728"/>
                  <a:pt x="3473" y="7863"/>
                </a:cubicBezTo>
                <a:cubicBezTo>
                  <a:pt x="3482" y="7918"/>
                  <a:pt x="3447" y="7948"/>
                  <a:pt x="3497" y="7913"/>
                </a:cubicBezTo>
              </a:path>
              <a:path w="4863" h="1341">
                <a:moveTo>
                  <a:pt x="4142" y="6921"/>
                </a:moveTo>
                <a:cubicBezTo>
                  <a:pt x="4050" y="6896"/>
                  <a:pt x="4035" y="6880"/>
                  <a:pt x="3969" y="6945"/>
                </a:cubicBezTo>
                <a:cubicBezTo>
                  <a:pt x="3923" y="6990"/>
                  <a:pt x="3885" y="7022"/>
                  <a:pt x="3845" y="7069"/>
                </a:cubicBezTo>
                <a:cubicBezTo>
                  <a:pt x="3804" y="7118"/>
                  <a:pt x="3815" y="7184"/>
                  <a:pt x="3795" y="7243"/>
                </a:cubicBezTo>
                <a:cubicBezTo>
                  <a:pt x="3778" y="7294"/>
                  <a:pt x="3730" y="7386"/>
                  <a:pt x="3746" y="7441"/>
                </a:cubicBezTo>
                <a:cubicBezTo>
                  <a:pt x="3761" y="7491"/>
                  <a:pt x="3785" y="7565"/>
                  <a:pt x="3820" y="7615"/>
                </a:cubicBezTo>
                <a:cubicBezTo>
                  <a:pt x="3863" y="7677"/>
                  <a:pt x="3947" y="7712"/>
                  <a:pt x="4018" y="7714"/>
                </a:cubicBezTo>
                <a:cubicBezTo>
                  <a:pt x="4145" y="7718"/>
                  <a:pt x="4162" y="7692"/>
                  <a:pt x="4266" y="7640"/>
                </a:cubicBezTo>
                <a:cubicBezTo>
                  <a:pt x="4346" y="7600"/>
                  <a:pt x="4342" y="7561"/>
                  <a:pt x="4390" y="7491"/>
                </a:cubicBezTo>
                <a:cubicBezTo>
                  <a:pt x="4435" y="7425"/>
                  <a:pt x="4436" y="7326"/>
                  <a:pt x="4440" y="7243"/>
                </a:cubicBezTo>
                <a:cubicBezTo>
                  <a:pt x="4443" y="7180"/>
                  <a:pt x="4416" y="7118"/>
                  <a:pt x="4390" y="7069"/>
                </a:cubicBezTo>
                <a:cubicBezTo>
                  <a:pt x="4362" y="7016"/>
                  <a:pt x="4344" y="6955"/>
                  <a:pt x="4291" y="6921"/>
                </a:cubicBezTo>
                <a:cubicBezTo>
                  <a:pt x="4256" y="6898"/>
                  <a:pt x="4228" y="6880"/>
                  <a:pt x="4192" y="6871"/>
                </a:cubicBezTo>
              </a:path>
              <a:path w="4863" h="1341">
                <a:moveTo>
                  <a:pt x="4738" y="6598"/>
                </a:moveTo>
                <a:cubicBezTo>
                  <a:pt x="4745" y="6673"/>
                  <a:pt x="4762" y="6718"/>
                  <a:pt x="4762" y="6796"/>
                </a:cubicBezTo>
                <a:cubicBezTo>
                  <a:pt x="4762" y="7014"/>
                  <a:pt x="4762" y="7228"/>
                  <a:pt x="4738" y="7441"/>
                </a:cubicBezTo>
                <a:cubicBezTo>
                  <a:pt x="4730" y="7510"/>
                  <a:pt x="4698" y="7690"/>
                  <a:pt x="4738" y="7615"/>
                </a:cubicBezTo>
                <a:cubicBezTo>
                  <a:pt x="4766" y="7562"/>
                  <a:pt x="4781" y="7501"/>
                  <a:pt x="4812" y="7441"/>
                </a:cubicBezTo>
                <a:cubicBezTo>
                  <a:pt x="4848" y="7370"/>
                  <a:pt x="4906" y="7323"/>
                  <a:pt x="4961" y="7268"/>
                </a:cubicBezTo>
                <a:cubicBezTo>
                  <a:pt x="4999" y="7230"/>
                  <a:pt x="5102" y="7221"/>
                  <a:pt x="5159" y="7218"/>
                </a:cubicBezTo>
                <a:cubicBezTo>
                  <a:pt x="5205" y="7215"/>
                  <a:pt x="5305" y="7232"/>
                  <a:pt x="5333" y="7268"/>
                </a:cubicBezTo>
                <a:cubicBezTo>
                  <a:pt x="5363" y="7307"/>
                  <a:pt x="5412" y="7389"/>
                  <a:pt x="5383" y="7441"/>
                </a:cubicBezTo>
                <a:cubicBezTo>
                  <a:pt x="5362" y="7478"/>
                  <a:pt x="5278" y="7555"/>
                  <a:pt x="5234" y="7565"/>
                </a:cubicBezTo>
                <a:cubicBezTo>
                  <a:pt x="5138" y="7587"/>
                  <a:pt x="5084" y="7578"/>
                  <a:pt x="4986" y="7565"/>
                </a:cubicBezTo>
                <a:cubicBezTo>
                  <a:pt x="4907" y="7554"/>
                  <a:pt x="4835" y="7544"/>
                  <a:pt x="4762" y="7516"/>
                </a:cubicBezTo>
              </a:path>
              <a:path w="4863" h="1341">
                <a:moveTo>
                  <a:pt x="5705" y="7268"/>
                </a:moveTo>
                <a:cubicBezTo>
                  <a:pt x="5895" y="7268"/>
                  <a:pt x="6086" y="7268"/>
                  <a:pt x="6276" y="7268"/>
                </a:cubicBezTo>
              </a:path>
              <a:path w="4863" h="1341">
                <a:moveTo>
                  <a:pt x="5829" y="7417"/>
                </a:moveTo>
                <a:cubicBezTo>
                  <a:pt x="5941" y="7389"/>
                  <a:pt x="6060" y="7380"/>
                  <a:pt x="6176" y="7367"/>
                </a:cubicBezTo>
                <a:cubicBezTo>
                  <a:pt x="6238" y="7360"/>
                  <a:pt x="6313" y="7367"/>
                  <a:pt x="6375" y="7367"/>
                </a:cubicBezTo>
              </a:path>
              <a:path w="4863" h="1341">
                <a:moveTo>
                  <a:pt x="6548" y="6995"/>
                </a:moveTo>
                <a:cubicBezTo>
                  <a:pt x="6636" y="6965"/>
                  <a:pt x="6703" y="6945"/>
                  <a:pt x="6796" y="6945"/>
                </a:cubicBezTo>
                <a:cubicBezTo>
                  <a:pt x="6918" y="6945"/>
                  <a:pt x="7029" y="6951"/>
                  <a:pt x="7144" y="6970"/>
                </a:cubicBezTo>
                <a:cubicBezTo>
                  <a:pt x="7186" y="6977"/>
                  <a:pt x="7272" y="7000"/>
                  <a:pt x="7268" y="7069"/>
                </a:cubicBezTo>
                <a:cubicBezTo>
                  <a:pt x="7264" y="7130"/>
                  <a:pt x="7174" y="7287"/>
                  <a:pt x="7144" y="7342"/>
                </a:cubicBezTo>
                <a:cubicBezTo>
                  <a:pt x="7107" y="7410"/>
                  <a:pt x="7049" y="7470"/>
                  <a:pt x="7020" y="7541"/>
                </a:cubicBezTo>
                <a:cubicBezTo>
                  <a:pt x="6993" y="7607"/>
                  <a:pt x="6957" y="7670"/>
                  <a:pt x="6945" y="7739"/>
                </a:cubicBezTo>
                <a:cubicBezTo>
                  <a:pt x="6938" y="7778"/>
                  <a:pt x="6878" y="7906"/>
                  <a:pt x="6896" y="7938"/>
                </a:cubicBezTo>
                <a:cubicBezTo>
                  <a:pt x="6904" y="7938"/>
                  <a:pt x="6913" y="7938"/>
                  <a:pt x="6921" y="7938"/>
                </a:cubicBezTo>
              </a:path>
              <a:path w="4863" h="1341">
                <a:moveTo>
                  <a:pt x="7938" y="6945"/>
                </a:moveTo>
                <a:cubicBezTo>
                  <a:pt x="7859" y="6956"/>
                  <a:pt x="7839" y="6964"/>
                  <a:pt x="7789" y="7020"/>
                </a:cubicBezTo>
                <a:cubicBezTo>
                  <a:pt x="7747" y="7067"/>
                  <a:pt x="7687" y="7097"/>
                  <a:pt x="7640" y="7144"/>
                </a:cubicBezTo>
                <a:cubicBezTo>
                  <a:pt x="7572" y="7212"/>
                  <a:pt x="7563" y="7256"/>
                  <a:pt x="7541" y="7342"/>
                </a:cubicBezTo>
                <a:cubicBezTo>
                  <a:pt x="7516" y="7437"/>
                  <a:pt x="7507" y="7462"/>
                  <a:pt x="7516" y="7541"/>
                </a:cubicBezTo>
                <a:cubicBezTo>
                  <a:pt x="7526" y="7621"/>
                  <a:pt x="7561" y="7660"/>
                  <a:pt x="7640" y="7665"/>
                </a:cubicBezTo>
                <a:cubicBezTo>
                  <a:pt x="7727" y="7670"/>
                  <a:pt x="7773" y="7680"/>
                  <a:pt x="7863" y="7665"/>
                </a:cubicBezTo>
                <a:cubicBezTo>
                  <a:pt x="8030" y="7637"/>
                  <a:pt x="8029" y="7608"/>
                  <a:pt x="8136" y="7516"/>
                </a:cubicBezTo>
                <a:cubicBezTo>
                  <a:pt x="8201" y="7460"/>
                  <a:pt x="8262" y="7411"/>
                  <a:pt x="8285" y="7317"/>
                </a:cubicBezTo>
                <a:cubicBezTo>
                  <a:pt x="8306" y="7230"/>
                  <a:pt x="8285" y="7138"/>
                  <a:pt x="8235" y="7069"/>
                </a:cubicBezTo>
                <a:cubicBezTo>
                  <a:pt x="8195" y="7014"/>
                  <a:pt x="8127" y="6947"/>
                  <a:pt x="8062" y="6921"/>
                </a:cubicBezTo>
                <a:cubicBezTo>
                  <a:pt x="7973" y="6885"/>
                  <a:pt x="7883" y="6896"/>
                  <a:pt x="7789" y="6896"/>
                </a:cubicBezTo>
                <a:cubicBezTo>
                  <a:pt x="7772" y="6896"/>
                  <a:pt x="7756" y="6896"/>
                  <a:pt x="7739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5"/>
          <p:cNvSpPr/>
          <p:nvPr/>
        </p:nvSpPr>
        <p:spPr>
          <a:xfrm>
            <a:off x="1098720" y="2820960"/>
            <a:ext cx="2901960" cy="706320"/>
          </a:xfrm>
          <a:custGeom>
            <a:avLst/>
            <a:gdLst/>
            <a:ahLst/>
            <a:rect l="l" t="t" r="r" b="b"/>
            <a:pathLst>
              <a:path w="8062" h="1961">
                <a:moveTo>
                  <a:pt x="3051" y="8161"/>
                </a:moveTo>
                <a:cubicBezTo>
                  <a:pt x="3203" y="8161"/>
                  <a:pt x="3350" y="8150"/>
                  <a:pt x="3497" y="8136"/>
                </a:cubicBezTo>
                <a:cubicBezTo>
                  <a:pt x="3635" y="8123"/>
                  <a:pt x="3758" y="8092"/>
                  <a:pt x="3894" y="8062"/>
                </a:cubicBezTo>
                <a:cubicBezTo>
                  <a:pt x="4058" y="8026"/>
                  <a:pt x="4225" y="8032"/>
                  <a:pt x="4390" y="8012"/>
                </a:cubicBezTo>
                <a:cubicBezTo>
                  <a:pt x="4623" y="7984"/>
                  <a:pt x="4850" y="7936"/>
                  <a:pt x="5085" y="7913"/>
                </a:cubicBezTo>
                <a:cubicBezTo>
                  <a:pt x="5226" y="7899"/>
                  <a:pt x="5367" y="7877"/>
                  <a:pt x="5507" y="7863"/>
                </a:cubicBezTo>
                <a:cubicBezTo>
                  <a:pt x="5620" y="7852"/>
                  <a:pt x="5740" y="7863"/>
                  <a:pt x="5854" y="7863"/>
                </a:cubicBezTo>
              </a:path>
              <a:path w="8062" h="1961">
                <a:moveTo>
                  <a:pt x="3820" y="8310"/>
                </a:moveTo>
                <a:cubicBezTo>
                  <a:pt x="3846" y="8379"/>
                  <a:pt x="3859" y="8461"/>
                  <a:pt x="3870" y="8533"/>
                </a:cubicBezTo>
                <a:cubicBezTo>
                  <a:pt x="3879" y="8591"/>
                  <a:pt x="3885" y="8657"/>
                  <a:pt x="3894" y="8706"/>
                </a:cubicBezTo>
                <a:cubicBezTo>
                  <a:pt x="3910" y="8789"/>
                  <a:pt x="3911" y="8805"/>
                  <a:pt x="3994" y="8781"/>
                </a:cubicBezTo>
              </a:path>
              <a:path w="8062" h="1961">
                <a:moveTo>
                  <a:pt x="4490" y="8260"/>
                </a:moveTo>
                <a:cubicBezTo>
                  <a:pt x="4411" y="8270"/>
                  <a:pt x="4402" y="8295"/>
                  <a:pt x="4341" y="8334"/>
                </a:cubicBezTo>
                <a:cubicBezTo>
                  <a:pt x="4276" y="8376"/>
                  <a:pt x="4212" y="8429"/>
                  <a:pt x="4192" y="8508"/>
                </a:cubicBezTo>
                <a:cubicBezTo>
                  <a:pt x="4175" y="8576"/>
                  <a:pt x="4253" y="8644"/>
                  <a:pt x="4316" y="8632"/>
                </a:cubicBezTo>
                <a:cubicBezTo>
                  <a:pt x="4384" y="8620"/>
                  <a:pt x="4485" y="8585"/>
                  <a:pt x="4539" y="8558"/>
                </a:cubicBezTo>
                <a:cubicBezTo>
                  <a:pt x="4614" y="8521"/>
                  <a:pt x="4639" y="8472"/>
                  <a:pt x="4688" y="8409"/>
                </a:cubicBezTo>
                <a:cubicBezTo>
                  <a:pt x="4728" y="8357"/>
                  <a:pt x="4721" y="8281"/>
                  <a:pt x="4663" y="8235"/>
                </a:cubicBezTo>
                <a:cubicBezTo>
                  <a:pt x="4591" y="8177"/>
                  <a:pt x="4545" y="8200"/>
                  <a:pt x="4465" y="8210"/>
                </a:cubicBezTo>
              </a:path>
              <a:path w="8062" h="1961">
                <a:moveTo>
                  <a:pt x="6176" y="7987"/>
                </a:moveTo>
                <a:cubicBezTo>
                  <a:pt x="6308" y="7970"/>
                  <a:pt x="6442" y="7951"/>
                  <a:pt x="6573" y="7938"/>
                </a:cubicBezTo>
                <a:cubicBezTo>
                  <a:pt x="6721" y="7923"/>
                  <a:pt x="6871" y="7911"/>
                  <a:pt x="7020" y="7888"/>
                </a:cubicBezTo>
                <a:cubicBezTo>
                  <a:pt x="7177" y="7864"/>
                  <a:pt x="7331" y="7842"/>
                  <a:pt x="7491" y="7838"/>
                </a:cubicBezTo>
                <a:cubicBezTo>
                  <a:pt x="7706" y="7833"/>
                  <a:pt x="7921" y="7838"/>
                  <a:pt x="8136" y="7838"/>
                </a:cubicBezTo>
              </a:path>
              <a:path w="8062" h="1961">
                <a:moveTo>
                  <a:pt x="6970" y="8062"/>
                </a:moveTo>
                <a:cubicBezTo>
                  <a:pt x="6970" y="8151"/>
                  <a:pt x="6957" y="8224"/>
                  <a:pt x="6945" y="8310"/>
                </a:cubicBezTo>
                <a:cubicBezTo>
                  <a:pt x="6935" y="8379"/>
                  <a:pt x="6907" y="8441"/>
                  <a:pt x="6896" y="8508"/>
                </a:cubicBezTo>
                <a:cubicBezTo>
                  <a:pt x="6884" y="8577"/>
                  <a:pt x="6871" y="8633"/>
                  <a:pt x="6871" y="8706"/>
                </a:cubicBezTo>
              </a:path>
              <a:path w="8062" h="1961">
                <a:moveTo>
                  <a:pt x="7640" y="8086"/>
                </a:moveTo>
                <a:cubicBezTo>
                  <a:pt x="7665" y="8014"/>
                  <a:pt x="7564" y="8087"/>
                  <a:pt x="7516" y="8111"/>
                </a:cubicBezTo>
                <a:cubicBezTo>
                  <a:pt x="7443" y="8148"/>
                  <a:pt x="7406" y="8162"/>
                  <a:pt x="7367" y="8235"/>
                </a:cubicBezTo>
                <a:cubicBezTo>
                  <a:pt x="7329" y="8306"/>
                  <a:pt x="7297" y="8374"/>
                  <a:pt x="7317" y="8458"/>
                </a:cubicBezTo>
                <a:cubicBezTo>
                  <a:pt x="7335" y="8535"/>
                  <a:pt x="7398" y="8554"/>
                  <a:pt x="7466" y="8558"/>
                </a:cubicBezTo>
                <a:cubicBezTo>
                  <a:pt x="7540" y="8562"/>
                  <a:pt x="7621" y="8567"/>
                  <a:pt x="7689" y="8533"/>
                </a:cubicBezTo>
                <a:cubicBezTo>
                  <a:pt x="7762" y="8496"/>
                  <a:pt x="7848" y="8426"/>
                  <a:pt x="7888" y="8359"/>
                </a:cubicBezTo>
                <a:cubicBezTo>
                  <a:pt x="7926" y="8294"/>
                  <a:pt x="7930" y="8178"/>
                  <a:pt x="7888" y="8111"/>
                </a:cubicBezTo>
                <a:cubicBezTo>
                  <a:pt x="7854" y="8057"/>
                  <a:pt x="7746" y="7988"/>
                  <a:pt x="7689" y="7962"/>
                </a:cubicBezTo>
                <a:cubicBezTo>
                  <a:pt x="7596" y="7925"/>
                  <a:pt x="7577" y="7932"/>
                  <a:pt x="7541" y="7888"/>
                </a:cubicBezTo>
              </a:path>
              <a:path w="8062" h="1961">
                <a:moveTo>
                  <a:pt x="4589" y="8930"/>
                </a:moveTo>
                <a:cubicBezTo>
                  <a:pt x="4589" y="9067"/>
                  <a:pt x="4583" y="9195"/>
                  <a:pt x="4564" y="9327"/>
                </a:cubicBezTo>
                <a:cubicBezTo>
                  <a:pt x="4554" y="9399"/>
                  <a:pt x="4604" y="9460"/>
                  <a:pt x="4589" y="9525"/>
                </a:cubicBezTo>
                <a:cubicBezTo>
                  <a:pt x="4581" y="9542"/>
                  <a:pt x="4572" y="9558"/>
                  <a:pt x="4564" y="9575"/>
                </a:cubicBezTo>
                <a:cubicBezTo>
                  <a:pt x="4571" y="9502"/>
                  <a:pt x="4575" y="9416"/>
                  <a:pt x="4614" y="9351"/>
                </a:cubicBezTo>
                <a:cubicBezTo>
                  <a:pt x="4649" y="9294"/>
                  <a:pt x="4772" y="9168"/>
                  <a:pt x="4837" y="9153"/>
                </a:cubicBezTo>
                <a:cubicBezTo>
                  <a:pt x="4907" y="9136"/>
                  <a:pt x="4998" y="9152"/>
                  <a:pt x="5060" y="9178"/>
                </a:cubicBezTo>
                <a:cubicBezTo>
                  <a:pt x="5135" y="9210"/>
                  <a:pt x="5202" y="9264"/>
                  <a:pt x="5184" y="9351"/>
                </a:cubicBezTo>
                <a:cubicBezTo>
                  <a:pt x="5176" y="9393"/>
                  <a:pt x="5121" y="9452"/>
                  <a:pt x="5085" y="9475"/>
                </a:cubicBezTo>
                <a:cubicBezTo>
                  <a:pt x="5016" y="9519"/>
                  <a:pt x="4915" y="9522"/>
                  <a:pt x="4837" y="9525"/>
                </a:cubicBezTo>
                <a:cubicBezTo>
                  <a:pt x="4736" y="9529"/>
                  <a:pt x="4631" y="9539"/>
                  <a:pt x="4539" y="9500"/>
                </a:cubicBezTo>
              </a:path>
              <a:path w="8062" h="1961">
                <a:moveTo>
                  <a:pt x="5482" y="9103"/>
                </a:moveTo>
                <a:cubicBezTo>
                  <a:pt x="5611" y="9103"/>
                  <a:pt x="5729" y="9111"/>
                  <a:pt x="5854" y="9128"/>
                </a:cubicBezTo>
                <a:cubicBezTo>
                  <a:pt x="5899" y="9128"/>
                  <a:pt x="5912" y="9124"/>
                  <a:pt x="5928" y="9153"/>
                </a:cubicBezTo>
              </a:path>
              <a:path w="8062" h="1961">
                <a:moveTo>
                  <a:pt x="5531" y="9302"/>
                </a:moveTo>
                <a:cubicBezTo>
                  <a:pt x="5612" y="9324"/>
                  <a:pt x="5671" y="9327"/>
                  <a:pt x="5755" y="9327"/>
                </a:cubicBezTo>
                <a:cubicBezTo>
                  <a:pt x="5854" y="9327"/>
                  <a:pt x="5953" y="9327"/>
                  <a:pt x="6052" y="9327"/>
                </a:cubicBezTo>
              </a:path>
              <a:path w="8062" h="1961">
                <a:moveTo>
                  <a:pt x="6424" y="8880"/>
                </a:moveTo>
                <a:cubicBezTo>
                  <a:pt x="6484" y="8844"/>
                  <a:pt x="6531" y="8874"/>
                  <a:pt x="6598" y="8855"/>
                </a:cubicBezTo>
                <a:cubicBezTo>
                  <a:pt x="6679" y="8832"/>
                  <a:pt x="6758" y="8810"/>
                  <a:pt x="6846" y="8806"/>
                </a:cubicBezTo>
                <a:cubicBezTo>
                  <a:pt x="6936" y="8802"/>
                  <a:pt x="7018" y="8815"/>
                  <a:pt x="7094" y="8830"/>
                </a:cubicBezTo>
                <a:cubicBezTo>
                  <a:pt x="7174" y="8845"/>
                  <a:pt x="7185" y="8855"/>
                  <a:pt x="7144" y="8930"/>
                </a:cubicBezTo>
                <a:cubicBezTo>
                  <a:pt x="7102" y="9007"/>
                  <a:pt x="7018" y="9065"/>
                  <a:pt x="6995" y="9153"/>
                </a:cubicBezTo>
                <a:cubicBezTo>
                  <a:pt x="6976" y="9227"/>
                  <a:pt x="6926" y="9254"/>
                  <a:pt x="6896" y="9327"/>
                </a:cubicBezTo>
                <a:cubicBezTo>
                  <a:pt x="6865" y="9403"/>
                  <a:pt x="6841" y="9475"/>
                  <a:pt x="6821" y="9550"/>
                </a:cubicBezTo>
                <a:cubicBezTo>
                  <a:pt x="6798" y="9637"/>
                  <a:pt x="6772" y="9683"/>
                  <a:pt x="6772" y="9773"/>
                </a:cubicBezTo>
                <a:cubicBezTo>
                  <a:pt x="6772" y="9781"/>
                  <a:pt x="6772" y="9790"/>
                  <a:pt x="6772" y="9798"/>
                </a:cubicBezTo>
              </a:path>
              <a:path w="8062" h="1961">
                <a:moveTo>
                  <a:pt x="8483" y="8359"/>
                </a:moveTo>
                <a:cubicBezTo>
                  <a:pt x="8505" y="8402"/>
                  <a:pt x="8530" y="8501"/>
                  <a:pt x="8508" y="8558"/>
                </a:cubicBezTo>
                <a:cubicBezTo>
                  <a:pt x="8481" y="8628"/>
                  <a:pt x="8483" y="8696"/>
                  <a:pt x="8483" y="8781"/>
                </a:cubicBezTo>
                <a:cubicBezTo>
                  <a:pt x="8483" y="8925"/>
                  <a:pt x="8443" y="9155"/>
                  <a:pt x="8508" y="9277"/>
                </a:cubicBezTo>
                <a:cubicBezTo>
                  <a:pt x="8532" y="9325"/>
                  <a:pt x="8538" y="9342"/>
                  <a:pt x="8582" y="9327"/>
                </a:cubicBezTo>
                <a:cubicBezTo>
                  <a:pt x="8632" y="9264"/>
                  <a:pt x="8651" y="9202"/>
                  <a:pt x="8682" y="9128"/>
                </a:cubicBezTo>
                <a:cubicBezTo>
                  <a:pt x="8727" y="9022"/>
                  <a:pt x="8789" y="8937"/>
                  <a:pt x="8830" y="8830"/>
                </a:cubicBezTo>
                <a:cubicBezTo>
                  <a:pt x="8885" y="8687"/>
                  <a:pt x="8932" y="8573"/>
                  <a:pt x="9004" y="8434"/>
                </a:cubicBezTo>
                <a:cubicBezTo>
                  <a:pt x="9042" y="8360"/>
                  <a:pt x="9055" y="8284"/>
                  <a:pt x="9079" y="8210"/>
                </a:cubicBezTo>
                <a:cubicBezTo>
                  <a:pt x="9100" y="8167"/>
                  <a:pt x="9104" y="8155"/>
                  <a:pt x="9128" y="8136"/>
                </a:cubicBezTo>
              </a:path>
              <a:path w="8062" h="1961">
                <a:moveTo>
                  <a:pt x="9103" y="8806"/>
                </a:moveTo>
                <a:cubicBezTo>
                  <a:pt x="9126" y="8936"/>
                  <a:pt x="9122" y="8984"/>
                  <a:pt x="9103" y="9103"/>
                </a:cubicBezTo>
                <a:cubicBezTo>
                  <a:pt x="9093" y="9166"/>
                  <a:pt x="9106" y="9244"/>
                  <a:pt x="9079" y="9302"/>
                </a:cubicBezTo>
                <a:cubicBezTo>
                  <a:pt x="9071" y="9310"/>
                  <a:pt x="9062" y="9319"/>
                  <a:pt x="9054" y="9327"/>
                </a:cubicBezTo>
              </a:path>
              <a:path w="8062" h="1961">
                <a:moveTo>
                  <a:pt x="9128" y="8582"/>
                </a:moveTo>
                <a:cubicBezTo>
                  <a:pt x="9145" y="8566"/>
                  <a:pt x="9161" y="8549"/>
                  <a:pt x="9178" y="8533"/>
                </a:cubicBezTo>
              </a:path>
              <a:path w="8062" h="1961">
                <a:moveTo>
                  <a:pt x="9302" y="8781"/>
                </a:moveTo>
                <a:cubicBezTo>
                  <a:pt x="9325" y="8920"/>
                  <a:pt x="9334" y="8976"/>
                  <a:pt x="9277" y="9103"/>
                </a:cubicBezTo>
                <a:cubicBezTo>
                  <a:pt x="9285" y="9021"/>
                  <a:pt x="9314" y="8958"/>
                  <a:pt x="9327" y="8880"/>
                </a:cubicBezTo>
                <a:cubicBezTo>
                  <a:pt x="9340" y="8804"/>
                  <a:pt x="9355" y="8726"/>
                  <a:pt x="9376" y="8657"/>
                </a:cubicBezTo>
                <a:cubicBezTo>
                  <a:pt x="9401" y="8573"/>
                  <a:pt x="9439" y="8519"/>
                  <a:pt x="9500" y="8458"/>
                </a:cubicBezTo>
                <a:cubicBezTo>
                  <a:pt x="9546" y="8412"/>
                  <a:pt x="9590" y="8392"/>
                  <a:pt x="9649" y="8384"/>
                </a:cubicBezTo>
                <a:cubicBezTo>
                  <a:pt x="9660" y="8484"/>
                  <a:pt x="9687" y="8581"/>
                  <a:pt x="9699" y="8682"/>
                </a:cubicBezTo>
                <a:cubicBezTo>
                  <a:pt x="9710" y="8771"/>
                  <a:pt x="9719" y="8865"/>
                  <a:pt x="9723" y="8954"/>
                </a:cubicBezTo>
                <a:cubicBezTo>
                  <a:pt x="9726" y="9024"/>
                  <a:pt x="9717" y="9070"/>
                  <a:pt x="9748" y="9128"/>
                </a:cubicBezTo>
                <a:cubicBezTo>
                  <a:pt x="9756" y="9145"/>
                  <a:pt x="9765" y="9161"/>
                  <a:pt x="9773" y="9178"/>
                </a:cubicBezTo>
              </a:path>
              <a:path w="8062" h="1961">
                <a:moveTo>
                  <a:pt x="10244" y="8558"/>
                </a:moveTo>
                <a:cubicBezTo>
                  <a:pt x="10224" y="8497"/>
                  <a:pt x="10227" y="8482"/>
                  <a:pt x="10195" y="8458"/>
                </a:cubicBezTo>
                <a:cubicBezTo>
                  <a:pt x="10126" y="8489"/>
                  <a:pt x="10053" y="8507"/>
                  <a:pt x="9996" y="8558"/>
                </a:cubicBezTo>
                <a:cubicBezTo>
                  <a:pt x="9948" y="8601"/>
                  <a:pt x="9926" y="8649"/>
                  <a:pt x="9897" y="8706"/>
                </a:cubicBezTo>
                <a:cubicBezTo>
                  <a:pt x="9857" y="8786"/>
                  <a:pt x="9867" y="8858"/>
                  <a:pt x="9922" y="8930"/>
                </a:cubicBezTo>
                <a:cubicBezTo>
                  <a:pt x="9951" y="8968"/>
                  <a:pt x="10027" y="9011"/>
                  <a:pt x="10071" y="9029"/>
                </a:cubicBezTo>
                <a:cubicBezTo>
                  <a:pt x="10147" y="9060"/>
                  <a:pt x="10261" y="9113"/>
                  <a:pt x="10344" y="9079"/>
                </a:cubicBezTo>
                <a:cubicBezTo>
                  <a:pt x="10369" y="9062"/>
                  <a:pt x="10393" y="9046"/>
                  <a:pt x="10418" y="9029"/>
                </a:cubicBezTo>
              </a:path>
              <a:path w="8062" h="1961">
                <a:moveTo>
                  <a:pt x="10319" y="8756"/>
                </a:moveTo>
                <a:cubicBezTo>
                  <a:pt x="10406" y="8713"/>
                  <a:pt x="10502" y="8644"/>
                  <a:pt x="10592" y="8607"/>
                </a:cubicBezTo>
                <a:cubicBezTo>
                  <a:pt x="10635" y="8589"/>
                  <a:pt x="10748" y="8568"/>
                  <a:pt x="10765" y="8508"/>
                </a:cubicBezTo>
                <a:cubicBezTo>
                  <a:pt x="10780" y="8455"/>
                  <a:pt x="10799" y="8386"/>
                  <a:pt x="10716" y="8359"/>
                </a:cubicBezTo>
                <a:cubicBezTo>
                  <a:pt x="10651" y="8338"/>
                  <a:pt x="10544" y="8372"/>
                  <a:pt x="10492" y="8409"/>
                </a:cubicBezTo>
                <a:cubicBezTo>
                  <a:pt x="10404" y="8470"/>
                  <a:pt x="10406" y="8499"/>
                  <a:pt x="10368" y="8582"/>
                </a:cubicBezTo>
                <a:cubicBezTo>
                  <a:pt x="10344" y="8636"/>
                  <a:pt x="10329" y="8714"/>
                  <a:pt x="10344" y="8781"/>
                </a:cubicBezTo>
                <a:cubicBezTo>
                  <a:pt x="10366" y="8875"/>
                  <a:pt x="10438" y="8913"/>
                  <a:pt x="10517" y="8954"/>
                </a:cubicBezTo>
                <a:cubicBezTo>
                  <a:pt x="10608" y="9002"/>
                  <a:pt x="10691" y="9070"/>
                  <a:pt x="10790" y="9103"/>
                </a:cubicBezTo>
                <a:cubicBezTo>
                  <a:pt x="10900" y="9139"/>
                  <a:pt x="10962" y="9194"/>
                  <a:pt x="11063" y="9252"/>
                </a:cubicBezTo>
                <a:cubicBezTo>
                  <a:pt x="11079" y="9260"/>
                  <a:pt x="11096" y="9269"/>
                  <a:pt x="11112" y="92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6"/>
          <p:cNvSpPr/>
          <p:nvPr/>
        </p:nvSpPr>
        <p:spPr>
          <a:xfrm>
            <a:off x="6116760" y="4017960"/>
            <a:ext cx="1027080" cy="509760"/>
          </a:xfrm>
          <a:custGeom>
            <a:avLst/>
            <a:gdLst/>
            <a:ahLst/>
            <a:rect l="l" t="t" r="r" b="b"/>
            <a:pathLst>
              <a:path w="2854" h="1415">
                <a:moveTo>
                  <a:pt x="17487" y="11187"/>
                </a:moveTo>
                <a:cubicBezTo>
                  <a:pt x="17462" y="11286"/>
                  <a:pt x="17436" y="11328"/>
                  <a:pt x="17413" y="11410"/>
                </a:cubicBezTo>
                <a:cubicBezTo>
                  <a:pt x="17388" y="11502"/>
                  <a:pt x="17355" y="11597"/>
                  <a:pt x="17314" y="11683"/>
                </a:cubicBezTo>
                <a:cubicBezTo>
                  <a:pt x="17258" y="11799"/>
                  <a:pt x="17202" y="11856"/>
                  <a:pt x="17140" y="11956"/>
                </a:cubicBezTo>
                <a:cubicBezTo>
                  <a:pt x="17103" y="12016"/>
                  <a:pt x="17019" y="12099"/>
                  <a:pt x="16991" y="12154"/>
                </a:cubicBezTo>
                <a:cubicBezTo>
                  <a:pt x="16999" y="12154"/>
                  <a:pt x="17008" y="12154"/>
                  <a:pt x="17016" y="12154"/>
                </a:cubicBezTo>
              </a:path>
              <a:path w="2854" h="1415">
                <a:moveTo>
                  <a:pt x="17810" y="11162"/>
                </a:moveTo>
                <a:cubicBezTo>
                  <a:pt x="17752" y="11207"/>
                  <a:pt x="17663" y="11298"/>
                  <a:pt x="17587" y="11336"/>
                </a:cubicBezTo>
                <a:cubicBezTo>
                  <a:pt x="17503" y="11378"/>
                  <a:pt x="17384" y="11460"/>
                  <a:pt x="17314" y="11534"/>
                </a:cubicBezTo>
                <a:cubicBezTo>
                  <a:pt x="17283" y="11567"/>
                  <a:pt x="17180" y="11675"/>
                  <a:pt x="17165" y="11708"/>
                </a:cubicBezTo>
                <a:cubicBezTo>
                  <a:pt x="17150" y="11741"/>
                  <a:pt x="17145" y="11795"/>
                  <a:pt x="17140" y="11832"/>
                </a:cubicBezTo>
                <a:cubicBezTo>
                  <a:pt x="17205" y="11767"/>
                  <a:pt x="17260" y="11705"/>
                  <a:pt x="17314" y="11633"/>
                </a:cubicBezTo>
                <a:cubicBezTo>
                  <a:pt x="17361" y="11570"/>
                  <a:pt x="17431" y="11516"/>
                  <a:pt x="17487" y="11460"/>
                </a:cubicBezTo>
                <a:cubicBezTo>
                  <a:pt x="17525" y="11497"/>
                  <a:pt x="17546" y="11554"/>
                  <a:pt x="17587" y="11584"/>
                </a:cubicBezTo>
                <a:cubicBezTo>
                  <a:pt x="17648" y="11628"/>
                  <a:pt x="17686" y="11693"/>
                  <a:pt x="17760" y="11708"/>
                </a:cubicBezTo>
                <a:cubicBezTo>
                  <a:pt x="17881" y="11732"/>
                  <a:pt x="17892" y="11693"/>
                  <a:pt x="17959" y="11609"/>
                </a:cubicBezTo>
                <a:cubicBezTo>
                  <a:pt x="17998" y="11560"/>
                  <a:pt x="17948" y="11504"/>
                  <a:pt x="17909" y="11460"/>
                </a:cubicBezTo>
                <a:cubicBezTo>
                  <a:pt x="17869" y="11415"/>
                  <a:pt x="17826" y="11373"/>
                  <a:pt x="17760" y="11385"/>
                </a:cubicBezTo>
                <a:cubicBezTo>
                  <a:pt x="17675" y="11400"/>
                  <a:pt x="17635" y="11451"/>
                  <a:pt x="17587" y="11509"/>
                </a:cubicBezTo>
                <a:cubicBezTo>
                  <a:pt x="17542" y="11563"/>
                  <a:pt x="17516" y="11582"/>
                  <a:pt x="17512" y="11658"/>
                </a:cubicBezTo>
                <a:cubicBezTo>
                  <a:pt x="17507" y="11752"/>
                  <a:pt x="17531" y="11826"/>
                  <a:pt x="17587" y="11906"/>
                </a:cubicBezTo>
                <a:cubicBezTo>
                  <a:pt x="17641" y="11983"/>
                  <a:pt x="17705" y="12019"/>
                  <a:pt x="17785" y="12055"/>
                </a:cubicBezTo>
                <a:cubicBezTo>
                  <a:pt x="17861" y="12090"/>
                  <a:pt x="17898" y="12105"/>
                  <a:pt x="17983" y="12105"/>
                </a:cubicBezTo>
              </a:path>
              <a:path w="2854" h="1415">
                <a:moveTo>
                  <a:pt x="18107" y="11559"/>
                </a:moveTo>
                <a:cubicBezTo>
                  <a:pt x="18093" y="11624"/>
                  <a:pt x="18089" y="11733"/>
                  <a:pt x="18107" y="11807"/>
                </a:cubicBezTo>
                <a:cubicBezTo>
                  <a:pt x="18124" y="11878"/>
                  <a:pt x="18182" y="11932"/>
                  <a:pt x="18231" y="11981"/>
                </a:cubicBezTo>
                <a:cubicBezTo>
                  <a:pt x="18276" y="12026"/>
                  <a:pt x="18311" y="12045"/>
                  <a:pt x="18380" y="12030"/>
                </a:cubicBezTo>
                <a:cubicBezTo>
                  <a:pt x="18452" y="12014"/>
                  <a:pt x="18542" y="11950"/>
                  <a:pt x="18604" y="11906"/>
                </a:cubicBezTo>
                <a:cubicBezTo>
                  <a:pt x="18664" y="11864"/>
                  <a:pt x="18688" y="11790"/>
                  <a:pt x="18728" y="11733"/>
                </a:cubicBezTo>
                <a:cubicBezTo>
                  <a:pt x="18761" y="11686"/>
                  <a:pt x="18811" y="11619"/>
                  <a:pt x="18802" y="11559"/>
                </a:cubicBezTo>
                <a:cubicBezTo>
                  <a:pt x="18794" y="11551"/>
                  <a:pt x="18785" y="11542"/>
                  <a:pt x="18777" y="11534"/>
                </a:cubicBezTo>
              </a:path>
              <a:path w="2854" h="1415">
                <a:moveTo>
                  <a:pt x="18951" y="11832"/>
                </a:moveTo>
                <a:cubicBezTo>
                  <a:pt x="18951" y="11902"/>
                  <a:pt x="18943" y="11965"/>
                  <a:pt x="18926" y="12030"/>
                </a:cubicBezTo>
                <a:cubicBezTo>
                  <a:pt x="18900" y="12130"/>
                  <a:pt x="18876" y="12199"/>
                  <a:pt x="18876" y="12303"/>
                </a:cubicBezTo>
              </a:path>
              <a:path w="2854" h="1415">
                <a:moveTo>
                  <a:pt x="19025" y="11385"/>
                </a:moveTo>
                <a:cubicBezTo>
                  <a:pt x="19070" y="11341"/>
                  <a:pt x="19080" y="11325"/>
                  <a:pt x="19124" y="11336"/>
                </a:cubicBezTo>
              </a:path>
              <a:path w="2854" h="1415">
                <a:moveTo>
                  <a:pt x="19224" y="11708"/>
                </a:moveTo>
                <a:cubicBezTo>
                  <a:pt x="19224" y="11844"/>
                  <a:pt x="19224" y="11984"/>
                  <a:pt x="19199" y="12105"/>
                </a:cubicBezTo>
                <a:cubicBezTo>
                  <a:pt x="19183" y="12182"/>
                  <a:pt x="19200" y="12210"/>
                  <a:pt x="19149" y="12278"/>
                </a:cubicBezTo>
                <a:cubicBezTo>
                  <a:pt x="19098" y="12345"/>
                  <a:pt x="19163" y="12224"/>
                  <a:pt x="19174" y="12204"/>
                </a:cubicBezTo>
                <a:cubicBezTo>
                  <a:pt x="19206" y="12144"/>
                  <a:pt x="19208" y="12091"/>
                  <a:pt x="19224" y="12030"/>
                </a:cubicBezTo>
                <a:cubicBezTo>
                  <a:pt x="19243" y="11958"/>
                  <a:pt x="19279" y="11890"/>
                  <a:pt x="19323" y="11832"/>
                </a:cubicBezTo>
                <a:cubicBezTo>
                  <a:pt x="19360" y="11783"/>
                  <a:pt x="19366" y="11719"/>
                  <a:pt x="19422" y="11683"/>
                </a:cubicBezTo>
                <a:cubicBezTo>
                  <a:pt x="19491" y="11638"/>
                  <a:pt x="19539" y="11657"/>
                  <a:pt x="19596" y="11708"/>
                </a:cubicBezTo>
                <a:cubicBezTo>
                  <a:pt x="19646" y="11753"/>
                  <a:pt x="19686" y="11825"/>
                  <a:pt x="19720" y="11881"/>
                </a:cubicBezTo>
                <a:cubicBezTo>
                  <a:pt x="19755" y="11939"/>
                  <a:pt x="19783" y="12016"/>
                  <a:pt x="19794" y="12080"/>
                </a:cubicBezTo>
                <a:cubicBezTo>
                  <a:pt x="19806" y="12149"/>
                  <a:pt x="19819" y="12205"/>
                  <a:pt x="19819" y="12278"/>
                </a:cubicBezTo>
                <a:cubicBezTo>
                  <a:pt x="19819" y="12348"/>
                  <a:pt x="19844" y="12404"/>
                  <a:pt x="19844" y="12477"/>
                </a:cubicBezTo>
                <a:cubicBezTo>
                  <a:pt x="19844" y="12535"/>
                  <a:pt x="19844" y="12543"/>
                  <a:pt x="19844" y="12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7"/>
          <p:cNvSpPr/>
          <p:nvPr/>
        </p:nvSpPr>
        <p:spPr>
          <a:xfrm>
            <a:off x="1027080" y="4249800"/>
            <a:ext cx="6643800" cy="1679400"/>
          </a:xfrm>
          <a:custGeom>
            <a:avLst/>
            <a:gdLst/>
            <a:ahLst/>
            <a:rect l="l" t="t" r="r" b="b"/>
            <a:pathLst>
              <a:path w="18455" h="4664">
                <a:moveTo>
                  <a:pt x="2853" y="11906"/>
                </a:moveTo>
                <a:cubicBezTo>
                  <a:pt x="2891" y="11972"/>
                  <a:pt x="2857" y="12021"/>
                  <a:pt x="2853" y="12105"/>
                </a:cubicBezTo>
                <a:cubicBezTo>
                  <a:pt x="2850" y="12164"/>
                  <a:pt x="2853" y="12251"/>
                  <a:pt x="2877" y="12303"/>
                </a:cubicBezTo>
                <a:cubicBezTo>
                  <a:pt x="2905" y="12363"/>
                  <a:pt x="2926" y="12420"/>
                  <a:pt x="2977" y="12477"/>
                </a:cubicBezTo>
                <a:cubicBezTo>
                  <a:pt x="3023" y="12529"/>
                  <a:pt x="3056" y="12572"/>
                  <a:pt x="3125" y="12576"/>
                </a:cubicBezTo>
                <a:cubicBezTo>
                  <a:pt x="3208" y="12581"/>
                  <a:pt x="3268" y="12554"/>
                  <a:pt x="3349" y="12551"/>
                </a:cubicBezTo>
                <a:cubicBezTo>
                  <a:pt x="3471" y="12546"/>
                  <a:pt x="3582" y="12557"/>
                  <a:pt x="3696" y="12576"/>
                </a:cubicBezTo>
                <a:cubicBezTo>
                  <a:pt x="3844" y="12601"/>
                  <a:pt x="4016" y="12576"/>
                  <a:pt x="4167" y="12576"/>
                </a:cubicBezTo>
              </a:path>
              <a:path w="18455" h="4664">
                <a:moveTo>
                  <a:pt x="3671" y="11807"/>
                </a:moveTo>
                <a:cubicBezTo>
                  <a:pt x="3671" y="11889"/>
                  <a:pt x="3704" y="11936"/>
                  <a:pt x="3721" y="12005"/>
                </a:cubicBezTo>
                <a:cubicBezTo>
                  <a:pt x="3739" y="12076"/>
                  <a:pt x="3784" y="12155"/>
                  <a:pt x="3795" y="12229"/>
                </a:cubicBezTo>
                <a:cubicBezTo>
                  <a:pt x="3807" y="12310"/>
                  <a:pt x="3808" y="12396"/>
                  <a:pt x="3820" y="12477"/>
                </a:cubicBezTo>
                <a:cubicBezTo>
                  <a:pt x="3833" y="12565"/>
                  <a:pt x="3820" y="12664"/>
                  <a:pt x="3845" y="12750"/>
                </a:cubicBezTo>
                <a:cubicBezTo>
                  <a:pt x="3861" y="12805"/>
                  <a:pt x="3884" y="12873"/>
                  <a:pt x="3894" y="12923"/>
                </a:cubicBezTo>
                <a:cubicBezTo>
                  <a:pt x="3905" y="12979"/>
                  <a:pt x="3937" y="13049"/>
                  <a:pt x="3944" y="13097"/>
                </a:cubicBezTo>
                <a:cubicBezTo>
                  <a:pt x="3955" y="13167"/>
                  <a:pt x="3982" y="13236"/>
                  <a:pt x="3994" y="13295"/>
                </a:cubicBezTo>
                <a:cubicBezTo>
                  <a:pt x="3994" y="13312"/>
                  <a:pt x="3994" y="13328"/>
                  <a:pt x="3994" y="13345"/>
                </a:cubicBezTo>
              </a:path>
              <a:path w="18455" h="4664">
                <a:moveTo>
                  <a:pt x="4911" y="12526"/>
                </a:moveTo>
                <a:cubicBezTo>
                  <a:pt x="4898" y="12420"/>
                  <a:pt x="4834" y="12345"/>
                  <a:pt x="4713" y="12378"/>
                </a:cubicBezTo>
                <a:cubicBezTo>
                  <a:pt x="4633" y="12399"/>
                  <a:pt x="4557" y="12469"/>
                  <a:pt x="4539" y="12551"/>
                </a:cubicBezTo>
                <a:cubicBezTo>
                  <a:pt x="4520" y="12636"/>
                  <a:pt x="4551" y="12722"/>
                  <a:pt x="4564" y="12799"/>
                </a:cubicBezTo>
                <a:cubicBezTo>
                  <a:pt x="4579" y="12889"/>
                  <a:pt x="4602" y="12950"/>
                  <a:pt x="4663" y="13022"/>
                </a:cubicBezTo>
                <a:cubicBezTo>
                  <a:pt x="4709" y="13076"/>
                  <a:pt x="4724" y="13098"/>
                  <a:pt x="4787" y="13122"/>
                </a:cubicBezTo>
                <a:cubicBezTo>
                  <a:pt x="4876" y="13157"/>
                  <a:pt x="4966" y="13146"/>
                  <a:pt x="5060" y="13146"/>
                </a:cubicBezTo>
                <a:cubicBezTo>
                  <a:pt x="5126" y="13146"/>
                  <a:pt x="5169" y="13108"/>
                  <a:pt x="5234" y="13097"/>
                </a:cubicBezTo>
                <a:cubicBezTo>
                  <a:pt x="5293" y="13087"/>
                  <a:pt x="5331" y="13075"/>
                  <a:pt x="5383" y="13047"/>
                </a:cubicBezTo>
                <a:cubicBezTo>
                  <a:pt x="5454" y="13008"/>
                  <a:pt x="5460" y="13012"/>
                  <a:pt x="5432" y="12998"/>
                </a:cubicBezTo>
              </a:path>
              <a:path w="18455" h="4664">
                <a:moveTo>
                  <a:pt x="6102" y="12353"/>
                </a:moveTo>
                <a:cubicBezTo>
                  <a:pt x="6119" y="12353"/>
                  <a:pt x="6135" y="12353"/>
                  <a:pt x="6152" y="12353"/>
                </a:cubicBezTo>
                <a:cubicBezTo>
                  <a:pt x="6161" y="12420"/>
                  <a:pt x="6190" y="12482"/>
                  <a:pt x="6201" y="12551"/>
                </a:cubicBezTo>
                <a:cubicBezTo>
                  <a:pt x="6212" y="12618"/>
                  <a:pt x="6214" y="12693"/>
                  <a:pt x="6226" y="12750"/>
                </a:cubicBezTo>
                <a:cubicBezTo>
                  <a:pt x="6250" y="12868"/>
                  <a:pt x="6231" y="13005"/>
                  <a:pt x="6251" y="13122"/>
                </a:cubicBezTo>
                <a:cubicBezTo>
                  <a:pt x="6262" y="13186"/>
                  <a:pt x="6250" y="13261"/>
                  <a:pt x="6276" y="13320"/>
                </a:cubicBezTo>
                <a:cubicBezTo>
                  <a:pt x="6298" y="13368"/>
                  <a:pt x="6336" y="13445"/>
                  <a:pt x="6350" y="13494"/>
                </a:cubicBezTo>
                <a:cubicBezTo>
                  <a:pt x="6366" y="13548"/>
                  <a:pt x="6372" y="13636"/>
                  <a:pt x="6375" y="13692"/>
                </a:cubicBezTo>
                <a:cubicBezTo>
                  <a:pt x="6375" y="13734"/>
                  <a:pt x="6375" y="13759"/>
                  <a:pt x="6375" y="13717"/>
                </a:cubicBezTo>
              </a:path>
              <a:path w="18455" h="4664">
                <a:moveTo>
                  <a:pt x="5829" y="12725"/>
                </a:moveTo>
                <a:cubicBezTo>
                  <a:pt x="5901" y="12725"/>
                  <a:pt x="5938" y="12746"/>
                  <a:pt x="6003" y="12750"/>
                </a:cubicBezTo>
                <a:cubicBezTo>
                  <a:pt x="6145" y="12758"/>
                  <a:pt x="6298" y="12750"/>
                  <a:pt x="6424" y="12725"/>
                </a:cubicBezTo>
                <a:cubicBezTo>
                  <a:pt x="6522" y="12705"/>
                  <a:pt x="6646" y="12725"/>
                  <a:pt x="6747" y="12725"/>
                </a:cubicBezTo>
              </a:path>
              <a:path w="18455" h="4664">
                <a:moveTo>
                  <a:pt x="7144" y="12303"/>
                </a:moveTo>
                <a:cubicBezTo>
                  <a:pt x="7150" y="12375"/>
                  <a:pt x="7150" y="12456"/>
                  <a:pt x="7169" y="12526"/>
                </a:cubicBezTo>
                <a:cubicBezTo>
                  <a:pt x="7199" y="12638"/>
                  <a:pt x="7209" y="12760"/>
                  <a:pt x="7243" y="12874"/>
                </a:cubicBezTo>
                <a:cubicBezTo>
                  <a:pt x="7264" y="12945"/>
                  <a:pt x="7271" y="13027"/>
                  <a:pt x="7293" y="13097"/>
                </a:cubicBezTo>
                <a:cubicBezTo>
                  <a:pt x="7321" y="13189"/>
                  <a:pt x="7330" y="13297"/>
                  <a:pt x="7342" y="13395"/>
                </a:cubicBezTo>
                <a:cubicBezTo>
                  <a:pt x="7350" y="13458"/>
                  <a:pt x="7323" y="13514"/>
                  <a:pt x="7367" y="13543"/>
                </a:cubicBezTo>
              </a:path>
              <a:path w="18455" h="4664">
                <a:moveTo>
                  <a:pt x="7541" y="12204"/>
                </a:moveTo>
                <a:cubicBezTo>
                  <a:pt x="7547" y="12286"/>
                  <a:pt x="7546" y="12396"/>
                  <a:pt x="7565" y="12477"/>
                </a:cubicBezTo>
                <a:cubicBezTo>
                  <a:pt x="7582" y="12548"/>
                  <a:pt x="7595" y="12631"/>
                  <a:pt x="7615" y="12700"/>
                </a:cubicBezTo>
                <a:cubicBezTo>
                  <a:pt x="7637" y="12777"/>
                  <a:pt x="7677" y="12843"/>
                  <a:pt x="7689" y="12923"/>
                </a:cubicBezTo>
                <a:cubicBezTo>
                  <a:pt x="7704" y="13023"/>
                  <a:pt x="7722" y="13121"/>
                  <a:pt x="7739" y="13221"/>
                </a:cubicBezTo>
                <a:cubicBezTo>
                  <a:pt x="7763" y="13361"/>
                  <a:pt x="7808" y="13408"/>
                  <a:pt x="7838" y="13519"/>
                </a:cubicBezTo>
                <a:cubicBezTo>
                  <a:pt x="7850" y="13565"/>
                  <a:pt x="7843" y="13664"/>
                  <a:pt x="7888" y="13692"/>
                </a:cubicBezTo>
                <a:cubicBezTo>
                  <a:pt x="7896" y="13692"/>
                  <a:pt x="7905" y="13692"/>
                  <a:pt x="7913" y="13692"/>
                </a:cubicBezTo>
              </a:path>
              <a:path w="18455" h="4664">
                <a:moveTo>
                  <a:pt x="8111" y="12948"/>
                </a:moveTo>
                <a:cubicBezTo>
                  <a:pt x="8184" y="12939"/>
                  <a:pt x="8259" y="12935"/>
                  <a:pt x="8334" y="12923"/>
                </a:cubicBezTo>
                <a:cubicBezTo>
                  <a:pt x="8390" y="12914"/>
                  <a:pt x="8528" y="12895"/>
                  <a:pt x="8582" y="12874"/>
                </a:cubicBezTo>
                <a:cubicBezTo>
                  <a:pt x="8632" y="12855"/>
                  <a:pt x="8680" y="12842"/>
                  <a:pt x="8731" y="12824"/>
                </a:cubicBezTo>
                <a:cubicBezTo>
                  <a:pt x="8785" y="12797"/>
                  <a:pt x="8799" y="12792"/>
                  <a:pt x="8731" y="12849"/>
                </a:cubicBezTo>
              </a:path>
              <a:path w="18455" h="4664">
                <a:moveTo>
                  <a:pt x="8210" y="13221"/>
                </a:moveTo>
                <a:cubicBezTo>
                  <a:pt x="8254" y="13195"/>
                  <a:pt x="8330" y="13180"/>
                  <a:pt x="8384" y="13171"/>
                </a:cubicBezTo>
                <a:cubicBezTo>
                  <a:pt x="8512" y="13150"/>
                  <a:pt x="8800" y="13133"/>
                  <a:pt x="8905" y="13196"/>
                </a:cubicBezTo>
              </a:path>
              <a:path w="18455" h="4664">
                <a:moveTo>
                  <a:pt x="9922" y="12229"/>
                </a:moveTo>
                <a:cubicBezTo>
                  <a:pt x="9940" y="12176"/>
                  <a:pt x="9844" y="12204"/>
                  <a:pt x="9773" y="12204"/>
                </a:cubicBezTo>
                <a:cubicBezTo>
                  <a:pt x="9688" y="12204"/>
                  <a:pt x="9577" y="12238"/>
                  <a:pt x="9500" y="12278"/>
                </a:cubicBezTo>
                <a:cubicBezTo>
                  <a:pt x="9447" y="12306"/>
                  <a:pt x="9395" y="12383"/>
                  <a:pt x="9351" y="12427"/>
                </a:cubicBezTo>
                <a:cubicBezTo>
                  <a:pt x="9397" y="12473"/>
                  <a:pt x="9428" y="12511"/>
                  <a:pt x="9475" y="12551"/>
                </a:cubicBezTo>
                <a:cubicBezTo>
                  <a:pt x="9519" y="12588"/>
                  <a:pt x="9553" y="12581"/>
                  <a:pt x="9599" y="12626"/>
                </a:cubicBezTo>
                <a:cubicBezTo>
                  <a:pt x="9661" y="12688"/>
                  <a:pt x="9698" y="12718"/>
                  <a:pt x="9773" y="12774"/>
                </a:cubicBezTo>
                <a:cubicBezTo>
                  <a:pt x="9815" y="12806"/>
                  <a:pt x="9864" y="12879"/>
                  <a:pt x="9897" y="12923"/>
                </a:cubicBezTo>
                <a:cubicBezTo>
                  <a:pt x="9938" y="12978"/>
                  <a:pt x="9984" y="13062"/>
                  <a:pt x="9996" y="13122"/>
                </a:cubicBezTo>
                <a:cubicBezTo>
                  <a:pt x="10009" y="13184"/>
                  <a:pt x="10038" y="13267"/>
                  <a:pt x="10046" y="13320"/>
                </a:cubicBezTo>
                <a:cubicBezTo>
                  <a:pt x="10052" y="13363"/>
                  <a:pt x="10061" y="13502"/>
                  <a:pt x="9996" y="13519"/>
                </a:cubicBezTo>
                <a:cubicBezTo>
                  <a:pt x="9943" y="13533"/>
                  <a:pt x="9868" y="13522"/>
                  <a:pt x="9823" y="13494"/>
                </a:cubicBezTo>
                <a:cubicBezTo>
                  <a:pt x="9741" y="13443"/>
                  <a:pt x="9669" y="13339"/>
                  <a:pt x="9599" y="13271"/>
                </a:cubicBezTo>
              </a:path>
              <a:path w="18455" h="4664">
                <a:moveTo>
                  <a:pt x="9872" y="12105"/>
                </a:moveTo>
                <a:cubicBezTo>
                  <a:pt x="9955" y="12074"/>
                  <a:pt x="9975" y="12094"/>
                  <a:pt x="10046" y="12105"/>
                </a:cubicBezTo>
                <a:cubicBezTo>
                  <a:pt x="10119" y="12116"/>
                  <a:pt x="10197" y="12113"/>
                  <a:pt x="10269" y="12129"/>
                </a:cubicBezTo>
                <a:cubicBezTo>
                  <a:pt x="10364" y="12150"/>
                  <a:pt x="10444" y="12154"/>
                  <a:pt x="10542" y="12154"/>
                </a:cubicBezTo>
                <a:cubicBezTo>
                  <a:pt x="10550" y="12154"/>
                  <a:pt x="10559" y="12154"/>
                  <a:pt x="10567" y="12154"/>
                </a:cubicBezTo>
              </a:path>
              <a:path w="18455" h="4664">
                <a:moveTo>
                  <a:pt x="10988" y="12452"/>
                </a:moveTo>
                <a:cubicBezTo>
                  <a:pt x="10998" y="12520"/>
                  <a:pt x="11050" y="12562"/>
                  <a:pt x="11063" y="12626"/>
                </a:cubicBezTo>
                <a:cubicBezTo>
                  <a:pt x="11079" y="12705"/>
                  <a:pt x="11066" y="12774"/>
                  <a:pt x="11088" y="12849"/>
                </a:cubicBezTo>
                <a:cubicBezTo>
                  <a:pt x="11110" y="12923"/>
                  <a:pt x="11092" y="13000"/>
                  <a:pt x="11112" y="13072"/>
                </a:cubicBezTo>
                <a:cubicBezTo>
                  <a:pt x="11133" y="13147"/>
                  <a:pt x="11110" y="13250"/>
                  <a:pt x="11137" y="13320"/>
                </a:cubicBezTo>
                <a:cubicBezTo>
                  <a:pt x="11157" y="13371"/>
                  <a:pt x="11179" y="13465"/>
                  <a:pt x="11187" y="13519"/>
                </a:cubicBezTo>
                <a:cubicBezTo>
                  <a:pt x="11196" y="13580"/>
                  <a:pt x="11204" y="13632"/>
                  <a:pt x="11212" y="13692"/>
                </a:cubicBezTo>
              </a:path>
              <a:path w="18455" h="4664">
                <a:moveTo>
                  <a:pt x="6152" y="14709"/>
                </a:moveTo>
                <a:cubicBezTo>
                  <a:pt x="6342" y="14709"/>
                  <a:pt x="6532" y="14709"/>
                  <a:pt x="6722" y="14709"/>
                </a:cubicBezTo>
              </a:path>
              <a:path w="18455" h="4664">
                <a:moveTo>
                  <a:pt x="7193" y="14163"/>
                </a:moveTo>
                <a:cubicBezTo>
                  <a:pt x="7242" y="14239"/>
                  <a:pt x="7300" y="14321"/>
                  <a:pt x="7317" y="14412"/>
                </a:cubicBezTo>
                <a:cubicBezTo>
                  <a:pt x="7329" y="14477"/>
                  <a:pt x="7326" y="14525"/>
                  <a:pt x="7342" y="14585"/>
                </a:cubicBezTo>
                <a:cubicBezTo>
                  <a:pt x="7367" y="14677"/>
                  <a:pt x="7383" y="14767"/>
                  <a:pt x="7417" y="14858"/>
                </a:cubicBezTo>
                <a:cubicBezTo>
                  <a:pt x="7448" y="14941"/>
                  <a:pt x="7525" y="15067"/>
                  <a:pt x="7541" y="15156"/>
                </a:cubicBezTo>
                <a:cubicBezTo>
                  <a:pt x="7553" y="15227"/>
                  <a:pt x="7539" y="15338"/>
                  <a:pt x="7565" y="15404"/>
                </a:cubicBezTo>
                <a:cubicBezTo>
                  <a:pt x="7573" y="15412"/>
                  <a:pt x="7582" y="15421"/>
                  <a:pt x="7590" y="15429"/>
                </a:cubicBezTo>
              </a:path>
              <a:path w="18455" h="4664">
                <a:moveTo>
                  <a:pt x="7689" y="14139"/>
                </a:moveTo>
                <a:cubicBezTo>
                  <a:pt x="7735" y="14207"/>
                  <a:pt x="7770" y="14299"/>
                  <a:pt x="7789" y="14387"/>
                </a:cubicBezTo>
                <a:cubicBezTo>
                  <a:pt x="7804" y="14456"/>
                  <a:pt x="7811" y="14518"/>
                  <a:pt x="7838" y="14585"/>
                </a:cubicBezTo>
                <a:cubicBezTo>
                  <a:pt x="7884" y="14700"/>
                  <a:pt x="7882" y="14795"/>
                  <a:pt x="7913" y="14908"/>
                </a:cubicBezTo>
                <a:cubicBezTo>
                  <a:pt x="7931" y="14975"/>
                  <a:pt x="7971" y="15045"/>
                  <a:pt x="7987" y="15106"/>
                </a:cubicBezTo>
                <a:cubicBezTo>
                  <a:pt x="8004" y="15170"/>
                  <a:pt x="8020" y="15277"/>
                  <a:pt x="8062" y="15304"/>
                </a:cubicBezTo>
              </a:path>
              <a:path w="18455" h="4664">
                <a:moveTo>
                  <a:pt x="9575" y="14064"/>
                </a:moveTo>
                <a:cubicBezTo>
                  <a:pt x="9644" y="14073"/>
                  <a:pt x="9709" y="14085"/>
                  <a:pt x="9773" y="14114"/>
                </a:cubicBezTo>
                <a:cubicBezTo>
                  <a:pt x="9843" y="14145"/>
                  <a:pt x="9906" y="14137"/>
                  <a:pt x="9971" y="14163"/>
                </a:cubicBezTo>
                <a:cubicBezTo>
                  <a:pt x="10024" y="14184"/>
                  <a:pt x="10056" y="14188"/>
                  <a:pt x="10120" y="14188"/>
                </a:cubicBezTo>
              </a:path>
              <a:path w="18455" h="4664">
                <a:moveTo>
                  <a:pt x="10517" y="13915"/>
                </a:moveTo>
                <a:cubicBezTo>
                  <a:pt x="10524" y="13967"/>
                  <a:pt x="10562" y="14019"/>
                  <a:pt x="10567" y="14064"/>
                </a:cubicBezTo>
                <a:cubicBezTo>
                  <a:pt x="10578" y="14155"/>
                  <a:pt x="10579" y="14204"/>
                  <a:pt x="10616" y="14288"/>
                </a:cubicBezTo>
                <a:cubicBezTo>
                  <a:pt x="10646" y="14356"/>
                  <a:pt x="10700" y="14439"/>
                  <a:pt x="10716" y="14511"/>
                </a:cubicBezTo>
                <a:cubicBezTo>
                  <a:pt x="10740" y="14617"/>
                  <a:pt x="10756" y="14752"/>
                  <a:pt x="10790" y="14858"/>
                </a:cubicBezTo>
                <a:cubicBezTo>
                  <a:pt x="10818" y="14886"/>
                  <a:pt x="10827" y="14899"/>
                  <a:pt x="10815" y="14932"/>
                </a:cubicBezTo>
              </a:path>
              <a:path w="18455" h="4664">
                <a:moveTo>
                  <a:pt x="10964" y="13816"/>
                </a:moveTo>
                <a:cubicBezTo>
                  <a:pt x="11008" y="13892"/>
                  <a:pt x="11062" y="13979"/>
                  <a:pt x="11088" y="14064"/>
                </a:cubicBezTo>
                <a:cubicBezTo>
                  <a:pt x="11101" y="14106"/>
                  <a:pt x="11132" y="14176"/>
                  <a:pt x="11137" y="14213"/>
                </a:cubicBezTo>
                <a:cubicBezTo>
                  <a:pt x="11152" y="14311"/>
                  <a:pt x="11153" y="14364"/>
                  <a:pt x="11187" y="14461"/>
                </a:cubicBezTo>
                <a:cubicBezTo>
                  <a:pt x="11207" y="14519"/>
                  <a:pt x="11232" y="14666"/>
                  <a:pt x="11261" y="14709"/>
                </a:cubicBezTo>
                <a:cubicBezTo>
                  <a:pt x="11269" y="14709"/>
                  <a:pt x="11278" y="14709"/>
                  <a:pt x="11286" y="14709"/>
                </a:cubicBezTo>
              </a:path>
              <a:path w="18455" h="4664">
                <a:moveTo>
                  <a:pt x="12204" y="12923"/>
                </a:moveTo>
                <a:cubicBezTo>
                  <a:pt x="12204" y="13091"/>
                  <a:pt x="12204" y="13259"/>
                  <a:pt x="12229" y="13419"/>
                </a:cubicBezTo>
                <a:cubicBezTo>
                  <a:pt x="12240" y="13487"/>
                  <a:pt x="12233" y="13553"/>
                  <a:pt x="12254" y="13618"/>
                </a:cubicBezTo>
                <a:cubicBezTo>
                  <a:pt x="12268" y="13662"/>
                  <a:pt x="12310" y="13731"/>
                  <a:pt x="12328" y="13767"/>
                </a:cubicBezTo>
                <a:cubicBezTo>
                  <a:pt x="12365" y="13841"/>
                  <a:pt x="12396" y="13887"/>
                  <a:pt x="12452" y="13866"/>
                </a:cubicBezTo>
                <a:cubicBezTo>
                  <a:pt x="12523" y="13839"/>
                  <a:pt x="12586" y="13839"/>
                  <a:pt x="12650" y="13816"/>
                </a:cubicBezTo>
                <a:cubicBezTo>
                  <a:pt x="12718" y="13792"/>
                  <a:pt x="12781" y="13785"/>
                  <a:pt x="12849" y="13767"/>
                </a:cubicBezTo>
                <a:cubicBezTo>
                  <a:pt x="12930" y="13746"/>
                  <a:pt x="12988" y="13742"/>
                  <a:pt x="13072" y="13742"/>
                </a:cubicBezTo>
                <a:cubicBezTo>
                  <a:pt x="13134" y="13742"/>
                  <a:pt x="13170" y="13748"/>
                  <a:pt x="13221" y="13767"/>
                </a:cubicBezTo>
              </a:path>
              <a:path w="18455" h="4664">
                <a:moveTo>
                  <a:pt x="12576" y="12898"/>
                </a:moveTo>
                <a:cubicBezTo>
                  <a:pt x="12607" y="12955"/>
                  <a:pt x="12639" y="13005"/>
                  <a:pt x="12650" y="13072"/>
                </a:cubicBezTo>
                <a:cubicBezTo>
                  <a:pt x="12660" y="13137"/>
                  <a:pt x="12661" y="13206"/>
                  <a:pt x="12675" y="13271"/>
                </a:cubicBezTo>
                <a:cubicBezTo>
                  <a:pt x="12693" y="13354"/>
                  <a:pt x="12721" y="13435"/>
                  <a:pt x="12725" y="13519"/>
                </a:cubicBezTo>
                <a:cubicBezTo>
                  <a:pt x="12729" y="13620"/>
                  <a:pt x="12761" y="13719"/>
                  <a:pt x="12774" y="13816"/>
                </a:cubicBezTo>
                <a:cubicBezTo>
                  <a:pt x="12785" y="13892"/>
                  <a:pt x="12799" y="13961"/>
                  <a:pt x="12799" y="14039"/>
                </a:cubicBezTo>
                <a:cubicBezTo>
                  <a:pt x="12799" y="14117"/>
                  <a:pt x="12824" y="14157"/>
                  <a:pt x="12824" y="14238"/>
                </a:cubicBezTo>
                <a:cubicBezTo>
                  <a:pt x="12824" y="14317"/>
                  <a:pt x="12862" y="14372"/>
                  <a:pt x="12874" y="14436"/>
                </a:cubicBezTo>
                <a:cubicBezTo>
                  <a:pt x="12886" y="14500"/>
                  <a:pt x="12883" y="14550"/>
                  <a:pt x="12898" y="14610"/>
                </a:cubicBezTo>
                <a:cubicBezTo>
                  <a:pt x="12913" y="14670"/>
                  <a:pt x="12928" y="14746"/>
                  <a:pt x="12948" y="14808"/>
                </a:cubicBezTo>
                <a:cubicBezTo>
                  <a:pt x="12975" y="14894"/>
                  <a:pt x="12993" y="14991"/>
                  <a:pt x="12998" y="15081"/>
                </a:cubicBezTo>
                <a:cubicBezTo>
                  <a:pt x="13002" y="15147"/>
                  <a:pt x="12998" y="15214"/>
                  <a:pt x="12998" y="15280"/>
                </a:cubicBezTo>
              </a:path>
              <a:path w="18455" h="4664">
                <a:moveTo>
                  <a:pt x="13717" y="13667"/>
                </a:moveTo>
                <a:cubicBezTo>
                  <a:pt x="13758" y="13627"/>
                  <a:pt x="13792" y="13582"/>
                  <a:pt x="13767" y="13519"/>
                </a:cubicBezTo>
                <a:cubicBezTo>
                  <a:pt x="13749" y="13473"/>
                  <a:pt x="13636" y="13434"/>
                  <a:pt x="13593" y="13444"/>
                </a:cubicBezTo>
                <a:cubicBezTo>
                  <a:pt x="13535" y="13457"/>
                  <a:pt x="13485" y="13503"/>
                  <a:pt x="13444" y="13543"/>
                </a:cubicBezTo>
                <a:cubicBezTo>
                  <a:pt x="13404" y="13583"/>
                  <a:pt x="13385" y="13646"/>
                  <a:pt x="13370" y="13692"/>
                </a:cubicBezTo>
                <a:cubicBezTo>
                  <a:pt x="13342" y="13778"/>
                  <a:pt x="13345" y="13852"/>
                  <a:pt x="13345" y="13940"/>
                </a:cubicBezTo>
                <a:cubicBezTo>
                  <a:pt x="13345" y="14017"/>
                  <a:pt x="13370" y="14143"/>
                  <a:pt x="13395" y="14213"/>
                </a:cubicBezTo>
                <a:cubicBezTo>
                  <a:pt x="13415" y="14269"/>
                  <a:pt x="13477" y="14320"/>
                  <a:pt x="13519" y="14362"/>
                </a:cubicBezTo>
                <a:cubicBezTo>
                  <a:pt x="13601" y="14445"/>
                  <a:pt x="13574" y="14459"/>
                  <a:pt x="13717" y="14486"/>
                </a:cubicBezTo>
                <a:cubicBezTo>
                  <a:pt x="13804" y="14503"/>
                  <a:pt x="13845" y="14473"/>
                  <a:pt x="13915" y="14436"/>
                </a:cubicBezTo>
                <a:cubicBezTo>
                  <a:pt x="13993" y="14395"/>
                  <a:pt x="13995" y="14361"/>
                  <a:pt x="14039" y="14288"/>
                </a:cubicBezTo>
                <a:cubicBezTo>
                  <a:pt x="14090" y="14204"/>
                  <a:pt x="14106" y="14181"/>
                  <a:pt x="14114" y="14089"/>
                </a:cubicBezTo>
              </a:path>
              <a:path w="18455" h="4664">
                <a:moveTo>
                  <a:pt x="14585" y="13841"/>
                </a:moveTo>
                <a:cubicBezTo>
                  <a:pt x="14661" y="13812"/>
                  <a:pt x="14725" y="13816"/>
                  <a:pt x="14808" y="13816"/>
                </a:cubicBezTo>
                <a:cubicBezTo>
                  <a:pt x="14882" y="13816"/>
                  <a:pt x="14936" y="13795"/>
                  <a:pt x="15007" y="13791"/>
                </a:cubicBezTo>
                <a:cubicBezTo>
                  <a:pt x="15105" y="13785"/>
                  <a:pt x="15206" y="13791"/>
                  <a:pt x="15304" y="13791"/>
                </a:cubicBezTo>
              </a:path>
              <a:path w="18455" h="4664">
                <a:moveTo>
                  <a:pt x="14511" y="14015"/>
                </a:moveTo>
                <a:cubicBezTo>
                  <a:pt x="14602" y="14015"/>
                  <a:pt x="14671" y="14035"/>
                  <a:pt x="14759" y="14039"/>
                </a:cubicBezTo>
                <a:cubicBezTo>
                  <a:pt x="14878" y="14044"/>
                  <a:pt x="15001" y="14033"/>
                  <a:pt x="15106" y="14015"/>
                </a:cubicBezTo>
                <a:cubicBezTo>
                  <a:pt x="15161" y="14006"/>
                  <a:pt x="15224" y="14015"/>
                  <a:pt x="15280" y="14015"/>
                </a:cubicBezTo>
              </a:path>
              <a:path w="18455" h="4664">
                <a:moveTo>
                  <a:pt x="15627" y="13171"/>
                </a:moveTo>
                <a:cubicBezTo>
                  <a:pt x="15627" y="13163"/>
                  <a:pt x="15627" y="13154"/>
                  <a:pt x="15627" y="13146"/>
                </a:cubicBezTo>
              </a:path>
              <a:path w="18455" h="4664">
                <a:moveTo>
                  <a:pt x="15627" y="13171"/>
                </a:moveTo>
                <a:cubicBezTo>
                  <a:pt x="15610" y="13196"/>
                  <a:pt x="15594" y="13221"/>
                  <a:pt x="15577" y="13246"/>
                </a:cubicBezTo>
              </a:path>
              <a:path w="18455" h="4664">
                <a:moveTo>
                  <a:pt x="15577" y="13246"/>
                </a:moveTo>
                <a:cubicBezTo>
                  <a:pt x="15524" y="13314"/>
                  <a:pt x="15507" y="13358"/>
                  <a:pt x="15503" y="13444"/>
                </a:cubicBezTo>
                <a:cubicBezTo>
                  <a:pt x="15499" y="13524"/>
                  <a:pt x="15544" y="13619"/>
                  <a:pt x="15577" y="13692"/>
                </a:cubicBezTo>
                <a:cubicBezTo>
                  <a:pt x="15616" y="13779"/>
                  <a:pt x="15648" y="13826"/>
                  <a:pt x="15701" y="13891"/>
                </a:cubicBezTo>
                <a:cubicBezTo>
                  <a:pt x="15742" y="13942"/>
                  <a:pt x="15778" y="13992"/>
                  <a:pt x="15825" y="14039"/>
                </a:cubicBezTo>
                <a:cubicBezTo>
                  <a:pt x="15870" y="14084"/>
                  <a:pt x="15963" y="14064"/>
                  <a:pt x="16024" y="14064"/>
                </a:cubicBezTo>
                <a:cubicBezTo>
                  <a:pt x="16104" y="14064"/>
                  <a:pt x="16174" y="14054"/>
                  <a:pt x="16247" y="14015"/>
                </a:cubicBezTo>
                <a:cubicBezTo>
                  <a:pt x="16313" y="13980"/>
                  <a:pt x="16361" y="13930"/>
                  <a:pt x="16421" y="13891"/>
                </a:cubicBezTo>
                <a:cubicBezTo>
                  <a:pt x="16497" y="13842"/>
                  <a:pt x="16552" y="13799"/>
                  <a:pt x="16619" y="13742"/>
                </a:cubicBezTo>
                <a:cubicBezTo>
                  <a:pt x="16656" y="13710"/>
                  <a:pt x="16700" y="13708"/>
                  <a:pt x="16743" y="13692"/>
                </a:cubicBezTo>
              </a:path>
              <a:path w="18455" h="4664">
                <a:moveTo>
                  <a:pt x="16148" y="13469"/>
                </a:moveTo>
                <a:cubicBezTo>
                  <a:pt x="16121" y="13568"/>
                  <a:pt x="16143" y="13628"/>
                  <a:pt x="16148" y="13717"/>
                </a:cubicBezTo>
                <a:cubicBezTo>
                  <a:pt x="16164" y="13983"/>
                  <a:pt x="16151" y="14246"/>
                  <a:pt x="16173" y="14511"/>
                </a:cubicBezTo>
                <a:cubicBezTo>
                  <a:pt x="16181" y="14603"/>
                  <a:pt x="16193" y="14694"/>
                  <a:pt x="16197" y="14784"/>
                </a:cubicBezTo>
                <a:cubicBezTo>
                  <a:pt x="16201" y="14874"/>
                  <a:pt x="16197" y="14966"/>
                  <a:pt x="16197" y="15056"/>
                </a:cubicBezTo>
              </a:path>
              <a:path w="18455" h="4664">
                <a:moveTo>
                  <a:pt x="16966" y="14064"/>
                </a:moveTo>
                <a:cubicBezTo>
                  <a:pt x="16892" y="14020"/>
                  <a:pt x="16865" y="13984"/>
                  <a:pt x="16768" y="14039"/>
                </a:cubicBezTo>
                <a:cubicBezTo>
                  <a:pt x="16688" y="14084"/>
                  <a:pt x="16647" y="14066"/>
                  <a:pt x="16594" y="14163"/>
                </a:cubicBezTo>
                <a:cubicBezTo>
                  <a:pt x="16548" y="14247"/>
                  <a:pt x="16545" y="14319"/>
                  <a:pt x="16545" y="14412"/>
                </a:cubicBezTo>
                <a:cubicBezTo>
                  <a:pt x="16545" y="14497"/>
                  <a:pt x="16587" y="14675"/>
                  <a:pt x="16669" y="14734"/>
                </a:cubicBezTo>
                <a:cubicBezTo>
                  <a:pt x="16722" y="14772"/>
                  <a:pt x="16801" y="14802"/>
                  <a:pt x="16867" y="14784"/>
                </a:cubicBezTo>
                <a:cubicBezTo>
                  <a:pt x="16944" y="14762"/>
                  <a:pt x="17031" y="14665"/>
                  <a:pt x="17090" y="14610"/>
                </a:cubicBezTo>
                <a:cubicBezTo>
                  <a:pt x="17153" y="14552"/>
                  <a:pt x="17136" y="14479"/>
                  <a:pt x="17165" y="14412"/>
                </a:cubicBezTo>
                <a:cubicBezTo>
                  <a:pt x="17198" y="14335"/>
                  <a:pt x="17214" y="14276"/>
                  <a:pt x="17214" y="14188"/>
                </a:cubicBezTo>
                <a:cubicBezTo>
                  <a:pt x="17214" y="14087"/>
                  <a:pt x="17208" y="14009"/>
                  <a:pt x="17165" y="13915"/>
                </a:cubicBezTo>
                <a:cubicBezTo>
                  <a:pt x="17138" y="13855"/>
                  <a:pt x="17099" y="13779"/>
                  <a:pt x="17041" y="13742"/>
                </a:cubicBezTo>
                <a:cubicBezTo>
                  <a:pt x="16993" y="13718"/>
                  <a:pt x="16979" y="13710"/>
                  <a:pt x="16942" y="13717"/>
                </a:cubicBezTo>
              </a:path>
              <a:path w="18455" h="4664">
                <a:moveTo>
                  <a:pt x="12601" y="14957"/>
                </a:moveTo>
                <a:cubicBezTo>
                  <a:pt x="12811" y="14957"/>
                  <a:pt x="13017" y="14951"/>
                  <a:pt x="13221" y="14932"/>
                </a:cubicBezTo>
                <a:cubicBezTo>
                  <a:pt x="13350" y="14920"/>
                  <a:pt x="13464" y="14935"/>
                  <a:pt x="13593" y="14908"/>
                </a:cubicBezTo>
                <a:cubicBezTo>
                  <a:pt x="13728" y="14880"/>
                  <a:pt x="13856" y="14807"/>
                  <a:pt x="13990" y="14784"/>
                </a:cubicBezTo>
                <a:cubicBezTo>
                  <a:pt x="14082" y="14768"/>
                  <a:pt x="14174" y="14760"/>
                  <a:pt x="14263" y="14734"/>
                </a:cubicBezTo>
                <a:cubicBezTo>
                  <a:pt x="14351" y="14708"/>
                  <a:pt x="14427" y="14633"/>
                  <a:pt x="14511" y="14610"/>
                </a:cubicBezTo>
                <a:cubicBezTo>
                  <a:pt x="14550" y="14599"/>
                  <a:pt x="14595" y="14596"/>
                  <a:pt x="14635" y="14585"/>
                </a:cubicBezTo>
              </a:path>
              <a:path w="18455" h="4664">
                <a:moveTo>
                  <a:pt x="13146" y="15081"/>
                </a:moveTo>
                <a:cubicBezTo>
                  <a:pt x="13106" y="15150"/>
                  <a:pt x="13142" y="15200"/>
                  <a:pt x="13146" y="15280"/>
                </a:cubicBezTo>
                <a:cubicBezTo>
                  <a:pt x="13149" y="15335"/>
                  <a:pt x="13171" y="15458"/>
                  <a:pt x="13196" y="15503"/>
                </a:cubicBezTo>
                <a:cubicBezTo>
                  <a:pt x="13258" y="15616"/>
                  <a:pt x="13440" y="15754"/>
                  <a:pt x="13543" y="15825"/>
                </a:cubicBezTo>
                <a:cubicBezTo>
                  <a:pt x="13652" y="15900"/>
                  <a:pt x="13759" y="15932"/>
                  <a:pt x="13891" y="15949"/>
                </a:cubicBezTo>
                <a:cubicBezTo>
                  <a:pt x="13951" y="15957"/>
                  <a:pt x="14035" y="15924"/>
                  <a:pt x="14089" y="15900"/>
                </a:cubicBezTo>
                <a:cubicBezTo>
                  <a:pt x="14177" y="15861"/>
                  <a:pt x="14230" y="15847"/>
                  <a:pt x="14288" y="15776"/>
                </a:cubicBezTo>
                <a:cubicBezTo>
                  <a:pt x="14312" y="15747"/>
                  <a:pt x="14356" y="15663"/>
                  <a:pt x="14387" y="15652"/>
                </a:cubicBezTo>
                <a:cubicBezTo>
                  <a:pt x="14428" y="15652"/>
                  <a:pt x="14436" y="15652"/>
                  <a:pt x="14461" y="15652"/>
                </a:cubicBezTo>
              </a:path>
              <a:path w="18455" h="4664">
                <a:moveTo>
                  <a:pt x="13767" y="15205"/>
                </a:moveTo>
                <a:cubicBezTo>
                  <a:pt x="13806" y="15255"/>
                  <a:pt x="13833" y="15326"/>
                  <a:pt x="13841" y="15379"/>
                </a:cubicBezTo>
                <a:cubicBezTo>
                  <a:pt x="13854" y="15470"/>
                  <a:pt x="13863" y="15555"/>
                  <a:pt x="13891" y="15652"/>
                </a:cubicBezTo>
                <a:cubicBezTo>
                  <a:pt x="13915" y="15733"/>
                  <a:pt x="13919" y="15818"/>
                  <a:pt x="13940" y="15900"/>
                </a:cubicBezTo>
                <a:cubicBezTo>
                  <a:pt x="13962" y="15987"/>
                  <a:pt x="13998" y="16059"/>
                  <a:pt x="14015" y="16148"/>
                </a:cubicBezTo>
                <a:cubicBezTo>
                  <a:pt x="14027" y="16213"/>
                  <a:pt x="14054" y="16281"/>
                  <a:pt x="14064" y="16346"/>
                </a:cubicBezTo>
                <a:cubicBezTo>
                  <a:pt x="14064" y="16391"/>
                  <a:pt x="14061" y="16404"/>
                  <a:pt x="14089" y="16421"/>
                </a:cubicBezTo>
              </a:path>
              <a:path w="18455" h="4664">
                <a:moveTo>
                  <a:pt x="15776" y="15032"/>
                </a:moveTo>
                <a:cubicBezTo>
                  <a:pt x="15846" y="15057"/>
                  <a:pt x="15899" y="15056"/>
                  <a:pt x="15974" y="15056"/>
                </a:cubicBezTo>
                <a:cubicBezTo>
                  <a:pt x="16309" y="15056"/>
                  <a:pt x="16673" y="15078"/>
                  <a:pt x="16991" y="15032"/>
                </a:cubicBezTo>
                <a:cubicBezTo>
                  <a:pt x="17063" y="15022"/>
                  <a:pt x="17146" y="15016"/>
                  <a:pt x="17214" y="15007"/>
                </a:cubicBezTo>
                <a:cubicBezTo>
                  <a:pt x="17239" y="15007"/>
                  <a:pt x="17264" y="15007"/>
                  <a:pt x="17289" y="15007"/>
                </a:cubicBezTo>
              </a:path>
              <a:path w="18455" h="4664">
                <a:moveTo>
                  <a:pt x="16297" y="15180"/>
                </a:moveTo>
                <a:cubicBezTo>
                  <a:pt x="16275" y="15217"/>
                  <a:pt x="16233" y="15282"/>
                  <a:pt x="16222" y="15329"/>
                </a:cubicBezTo>
                <a:cubicBezTo>
                  <a:pt x="16204" y="15406"/>
                  <a:pt x="16235" y="15491"/>
                  <a:pt x="16247" y="15553"/>
                </a:cubicBezTo>
                <a:cubicBezTo>
                  <a:pt x="16258" y="15612"/>
                  <a:pt x="16282" y="15649"/>
                  <a:pt x="16321" y="15701"/>
                </a:cubicBezTo>
                <a:cubicBezTo>
                  <a:pt x="16391" y="15795"/>
                  <a:pt x="16453" y="15813"/>
                  <a:pt x="16545" y="15850"/>
                </a:cubicBezTo>
                <a:cubicBezTo>
                  <a:pt x="16630" y="15884"/>
                  <a:pt x="16679" y="15864"/>
                  <a:pt x="16768" y="15850"/>
                </a:cubicBezTo>
                <a:cubicBezTo>
                  <a:pt x="16852" y="15837"/>
                  <a:pt x="16932" y="15871"/>
                  <a:pt x="17016" y="15875"/>
                </a:cubicBezTo>
                <a:cubicBezTo>
                  <a:pt x="17108" y="15879"/>
                  <a:pt x="17178" y="15931"/>
                  <a:pt x="17264" y="15949"/>
                </a:cubicBezTo>
                <a:cubicBezTo>
                  <a:pt x="17325" y="15962"/>
                  <a:pt x="17382" y="15979"/>
                  <a:pt x="17438" y="15999"/>
                </a:cubicBezTo>
                <a:cubicBezTo>
                  <a:pt x="17487" y="16024"/>
                  <a:pt x="17504" y="16033"/>
                  <a:pt x="17537" y="16049"/>
                </a:cubicBezTo>
              </a:path>
              <a:path w="18455" h="4664">
                <a:moveTo>
                  <a:pt x="16818" y="15304"/>
                </a:moveTo>
                <a:cubicBezTo>
                  <a:pt x="16919" y="15363"/>
                  <a:pt x="16917" y="15413"/>
                  <a:pt x="16917" y="15528"/>
                </a:cubicBezTo>
                <a:cubicBezTo>
                  <a:pt x="16917" y="15610"/>
                  <a:pt x="16938" y="15674"/>
                  <a:pt x="16942" y="15751"/>
                </a:cubicBezTo>
                <a:cubicBezTo>
                  <a:pt x="16946" y="15831"/>
                  <a:pt x="16955" y="15896"/>
                  <a:pt x="16966" y="15974"/>
                </a:cubicBezTo>
                <a:cubicBezTo>
                  <a:pt x="16975" y="16042"/>
                  <a:pt x="16980" y="16108"/>
                  <a:pt x="16991" y="16173"/>
                </a:cubicBezTo>
                <a:cubicBezTo>
                  <a:pt x="17005" y="16255"/>
                  <a:pt x="17001" y="16348"/>
                  <a:pt x="17016" y="16421"/>
                </a:cubicBezTo>
                <a:cubicBezTo>
                  <a:pt x="17016" y="16437"/>
                  <a:pt x="17016" y="16454"/>
                  <a:pt x="17016" y="16470"/>
                </a:cubicBezTo>
              </a:path>
              <a:path w="18455" h="4664">
                <a:moveTo>
                  <a:pt x="18653" y="14312"/>
                </a:moveTo>
                <a:cubicBezTo>
                  <a:pt x="18793" y="14261"/>
                  <a:pt x="18793" y="14271"/>
                  <a:pt x="18876" y="14188"/>
                </a:cubicBezTo>
                <a:cubicBezTo>
                  <a:pt x="18936" y="14128"/>
                  <a:pt x="18971" y="14102"/>
                  <a:pt x="18976" y="14015"/>
                </a:cubicBezTo>
                <a:cubicBezTo>
                  <a:pt x="18983" y="13898"/>
                  <a:pt x="18932" y="13852"/>
                  <a:pt x="18876" y="13767"/>
                </a:cubicBezTo>
                <a:cubicBezTo>
                  <a:pt x="18829" y="13696"/>
                  <a:pt x="18807" y="13682"/>
                  <a:pt x="18728" y="13643"/>
                </a:cubicBezTo>
                <a:cubicBezTo>
                  <a:pt x="18620" y="13589"/>
                  <a:pt x="18622" y="13582"/>
                  <a:pt x="18479" y="13618"/>
                </a:cubicBezTo>
                <a:cubicBezTo>
                  <a:pt x="18389" y="13641"/>
                  <a:pt x="18348" y="13664"/>
                  <a:pt x="18306" y="13742"/>
                </a:cubicBezTo>
                <a:cubicBezTo>
                  <a:pt x="18275" y="13801"/>
                  <a:pt x="18245" y="13922"/>
                  <a:pt x="18256" y="13990"/>
                </a:cubicBezTo>
                <a:cubicBezTo>
                  <a:pt x="18272" y="14096"/>
                  <a:pt x="18313" y="14214"/>
                  <a:pt x="18355" y="14312"/>
                </a:cubicBezTo>
                <a:cubicBezTo>
                  <a:pt x="18386" y="14385"/>
                  <a:pt x="18446" y="14530"/>
                  <a:pt x="18504" y="14585"/>
                </a:cubicBezTo>
                <a:cubicBezTo>
                  <a:pt x="18561" y="14639"/>
                  <a:pt x="18657" y="14758"/>
                  <a:pt x="18728" y="14784"/>
                </a:cubicBezTo>
                <a:cubicBezTo>
                  <a:pt x="18843" y="14826"/>
                  <a:pt x="18890" y="14825"/>
                  <a:pt x="19000" y="14808"/>
                </a:cubicBezTo>
                <a:cubicBezTo>
                  <a:pt x="19078" y="14796"/>
                  <a:pt x="19090" y="14769"/>
                  <a:pt x="19149" y="14709"/>
                </a:cubicBezTo>
                <a:cubicBezTo>
                  <a:pt x="19186" y="14671"/>
                  <a:pt x="19239" y="14589"/>
                  <a:pt x="19248" y="14536"/>
                </a:cubicBezTo>
                <a:cubicBezTo>
                  <a:pt x="19248" y="14511"/>
                  <a:pt x="19248" y="14486"/>
                  <a:pt x="19248" y="14461"/>
                </a:cubicBezTo>
              </a:path>
              <a:path w="18455" h="4664">
                <a:moveTo>
                  <a:pt x="19224" y="14039"/>
                </a:moveTo>
                <a:cubicBezTo>
                  <a:pt x="19298" y="14039"/>
                  <a:pt x="19352" y="14060"/>
                  <a:pt x="19422" y="14064"/>
                </a:cubicBezTo>
                <a:cubicBezTo>
                  <a:pt x="19603" y="14074"/>
                  <a:pt x="19787" y="14064"/>
                  <a:pt x="19968" y="14064"/>
                </a:cubicBezTo>
              </a:path>
              <a:path w="18455" h="4664">
                <a:moveTo>
                  <a:pt x="19397" y="14263"/>
                </a:moveTo>
                <a:cubicBezTo>
                  <a:pt x="19468" y="14290"/>
                  <a:pt x="19526" y="14269"/>
                  <a:pt x="19596" y="14288"/>
                </a:cubicBezTo>
                <a:cubicBezTo>
                  <a:pt x="19673" y="14309"/>
                  <a:pt x="19737" y="14312"/>
                  <a:pt x="19819" y="14312"/>
                </a:cubicBezTo>
                <a:cubicBezTo>
                  <a:pt x="19885" y="14312"/>
                  <a:pt x="19951" y="14312"/>
                  <a:pt x="20017" y="14312"/>
                </a:cubicBezTo>
              </a:path>
              <a:path w="18455" h="4664">
                <a:moveTo>
                  <a:pt x="20464" y="13692"/>
                </a:moveTo>
                <a:cubicBezTo>
                  <a:pt x="20464" y="13792"/>
                  <a:pt x="20428" y="13846"/>
                  <a:pt x="20414" y="13940"/>
                </a:cubicBezTo>
                <a:cubicBezTo>
                  <a:pt x="20399" y="14040"/>
                  <a:pt x="20389" y="14135"/>
                  <a:pt x="20389" y="14238"/>
                </a:cubicBezTo>
                <a:cubicBezTo>
                  <a:pt x="20389" y="14328"/>
                  <a:pt x="20397" y="14446"/>
                  <a:pt x="20414" y="14536"/>
                </a:cubicBezTo>
                <a:cubicBezTo>
                  <a:pt x="20427" y="14602"/>
                  <a:pt x="20441" y="14725"/>
                  <a:pt x="20464" y="14784"/>
                </a:cubicBezTo>
                <a:cubicBezTo>
                  <a:pt x="20472" y="14792"/>
                  <a:pt x="20481" y="14800"/>
                  <a:pt x="20489" y="14808"/>
                </a:cubicBezTo>
              </a:path>
              <a:path w="18455" h="4664">
                <a:moveTo>
                  <a:pt x="21109" y="14263"/>
                </a:moveTo>
                <a:cubicBezTo>
                  <a:pt x="21162" y="14256"/>
                  <a:pt x="21262" y="14248"/>
                  <a:pt x="21233" y="14163"/>
                </a:cubicBezTo>
                <a:cubicBezTo>
                  <a:pt x="21198" y="14059"/>
                  <a:pt x="21058" y="14067"/>
                  <a:pt x="20985" y="14064"/>
                </a:cubicBezTo>
                <a:cubicBezTo>
                  <a:pt x="20910" y="14061"/>
                  <a:pt x="20829" y="14051"/>
                  <a:pt x="20762" y="14089"/>
                </a:cubicBezTo>
                <a:cubicBezTo>
                  <a:pt x="20713" y="14117"/>
                  <a:pt x="20686" y="14215"/>
                  <a:pt x="20662" y="14263"/>
                </a:cubicBezTo>
                <a:cubicBezTo>
                  <a:pt x="20621" y="14347"/>
                  <a:pt x="20634" y="14427"/>
                  <a:pt x="20662" y="14511"/>
                </a:cubicBezTo>
                <a:cubicBezTo>
                  <a:pt x="20687" y="14585"/>
                  <a:pt x="20719" y="14710"/>
                  <a:pt x="20786" y="14759"/>
                </a:cubicBezTo>
                <a:cubicBezTo>
                  <a:pt x="20841" y="14799"/>
                  <a:pt x="20917" y="14822"/>
                  <a:pt x="20985" y="14808"/>
                </a:cubicBezTo>
                <a:cubicBezTo>
                  <a:pt x="21085" y="14787"/>
                  <a:pt x="21105" y="14731"/>
                  <a:pt x="21158" y="14660"/>
                </a:cubicBezTo>
                <a:cubicBezTo>
                  <a:pt x="21206" y="14596"/>
                  <a:pt x="21220" y="14530"/>
                  <a:pt x="21258" y="14461"/>
                </a:cubicBezTo>
                <a:cubicBezTo>
                  <a:pt x="21312" y="14363"/>
                  <a:pt x="21289" y="14275"/>
                  <a:pt x="21282" y="14163"/>
                </a:cubicBezTo>
                <a:cubicBezTo>
                  <a:pt x="21276" y="14059"/>
                  <a:pt x="21245" y="13979"/>
                  <a:pt x="21183" y="13891"/>
                </a:cubicBezTo>
                <a:cubicBezTo>
                  <a:pt x="21121" y="13804"/>
                  <a:pt x="21089" y="13953"/>
                  <a:pt x="21084" y="139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7:31Z</dcterms:created>
  <dc:creator>jnewman</dc:creator>
  <dc:description/>
  <dc:language>en-US</dc:language>
  <cp:lastModifiedBy>abeason</cp:lastModifiedBy>
  <dcterms:modified xsi:type="dcterms:W3CDTF">2009-09-04T13:23:41Z</dcterms:modified>
  <cp:revision>10</cp:revision>
  <dc:subject/>
  <dc:title>Monday, September 10th</dc:title>
</cp:coreProperties>
</file>